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xplode.wav" ContentType="audio/x-wav"/>
  <Override PartName="/ppt/media/cashreg.wav" ContentType="audio/x-wav"/>
  <Override PartName="/ppt/media/image2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578-F2FF-4269-A3F3-23F80A16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3C8-A004-4BD7-B2AC-75635E71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65F-2530-4CB6-9005-9E1A97CF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843-C246-4808-B2CC-E58366A0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B67-7BB8-4579-9E27-541336DC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F93-A8DE-4862-BED4-CF4022D3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000-FB19-4DC5-ACD9-E8DA76F2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F04-3D5C-4AE6-BEE1-E7D77E2C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DA8-79D3-4694-A279-73756907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D11-D439-4DFE-9BB7-581EFC4F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B3E-CE55-4F59-B4FA-AAA08DD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A13-8670-4877-B00B-2E6DC096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F6D6-C086-4741-861E-260515E7E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audio" Target="../media/cashreg.wav"/><Relationship Id="rId4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http://secure360.org/wp-content/uploads/2014/01/iStock_000019128807Mediu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826920" y="51577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ZARISKUJ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428472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990720" y="1160640"/>
            <a:ext cx="7162560" cy="4038480"/>
          </a:xfrm>
          <a:prstGeom prst="wedgeRectCallout">
            <a:avLst>
              <a:gd name="adj1" fmla="val -50194"/>
              <a:gd name="adj2" fmla="val 21875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90720" y="152280"/>
            <a:ext cx="716256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proběhne. Hliník je neušlechtilý kov, vytěsní vodík z kyseli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Nadpis 7"/>
          <p:cNvSpPr/>
          <p:nvPr/>
        </p:nvSpPr>
        <p:spPr>
          <a:xfrm>
            <a:off x="755640" y="2708280"/>
            <a:ext cx="7345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2Al + 6HCl </a:t>
            </a:r>
            <a:r>
              <a:rPr b="1" lang="cs-CZ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2AlCl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+ 3H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3635280" y="5300640"/>
            <a:ext cx="1897200" cy="70380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běhne x neproběh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421164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055"/>
              <a:gd name="adj2" fmla="val 213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71640" y="228600"/>
            <a:ext cx="7257960" cy="875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 + 3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Al(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+ 3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hliník je neušlechtilý kov, je schopen vytěsnit vodík z kysel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Nadpis 7"/>
          <p:cNvSpPr/>
          <p:nvPr/>
        </p:nvSpPr>
        <p:spPr>
          <a:xfrm>
            <a:off x="900000" y="2708280"/>
            <a:ext cx="73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 + H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3780000" y="5300640"/>
            <a:ext cx="1896840" cy="7038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plň, uprav a zdůvod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421164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50055"/>
              <a:gd name="adj2" fmla="val 23824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eakce bude probíhat v tomto smě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Cr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3+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+ 3Br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+ 7H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Cr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+ 6Br 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+ 14H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71640" y="304920"/>
            <a:ext cx="725796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ž! Kov ležící v řadě napětí kovů vlevo je redukčním činidlem pro kov, který leží od něj napravo (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Nadpis 7"/>
          <p:cNvSpPr/>
          <p:nvPr/>
        </p:nvSpPr>
        <p:spPr>
          <a:xfrm>
            <a:off x="900000" y="2708280"/>
            <a:ext cx="73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3492360" y="5516640"/>
            <a:ext cx="2138400" cy="398880"/>
          </a:xfrm>
          <a:prstGeom prst="rect">
            <a:avLst/>
          </a:prstGeom>
          <a:solidFill>
            <a:srgbClr val="33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avda x le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421164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50055"/>
              <a:gd name="adj2" fmla="val 189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 Cr Fe Cd Ti Co Ni Sn P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u Ag Hg 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Nadpis 7"/>
          <p:cNvSpPr/>
          <p:nvPr/>
        </p:nvSpPr>
        <p:spPr>
          <a:xfrm>
            <a:off x="755640" y="2708280"/>
            <a:ext cx="7345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e Cd Co Pb Cr Ti Zn Ni Sn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u Cu Ag Hg 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3492360" y="5516640"/>
            <a:ext cx="2160720" cy="398880"/>
          </a:xfrm>
          <a:prstGeom prst="rect">
            <a:avLst/>
          </a:prstGeom>
          <a:solidFill>
            <a:srgbClr val="e5e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pr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4"/>
          <p:cNvSpPr/>
          <p:nvPr/>
        </p:nvSpPr>
        <p:spPr>
          <a:xfrm>
            <a:off x="421164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921"/>
              <a:gd name="adj2" fmla="val 16518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838080" y="228600"/>
            <a:ext cx="716292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proběhne. Měď je ušlechtilý kov, z kyseliny nevytěsní vodí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Nadpis 7"/>
          <p:cNvSpPr/>
          <p:nvPr/>
        </p:nvSpPr>
        <p:spPr>
          <a:xfrm>
            <a:off x="900000" y="2276640"/>
            <a:ext cx="734400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Nadpis 7"/>
          <p:cNvSpPr/>
          <p:nvPr/>
        </p:nvSpPr>
        <p:spPr>
          <a:xfrm>
            <a:off x="755640" y="2708280"/>
            <a:ext cx="7345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u + 4HNO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Cu(NO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+ 2NO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3635280" y="5300640"/>
            <a:ext cx="1897200" cy="70380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běhne x neproběh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4"/>
          <p:cNvSpPr/>
          <p:nvPr/>
        </p:nvSpPr>
        <p:spPr>
          <a:xfrm>
            <a:off x="414036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055"/>
              <a:gd name="adj2" fmla="val 191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990720" y="152280"/>
            <a:ext cx="7181640" cy="875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g + 4HN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Hg(N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+ 2N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, rtuť je ušlechtilý kov, nevytěsní vodík z kyseli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Nadpis 7"/>
          <p:cNvSpPr/>
          <p:nvPr/>
        </p:nvSpPr>
        <p:spPr>
          <a:xfrm>
            <a:off x="900000" y="2276640"/>
            <a:ext cx="734400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Nadpis 7"/>
          <p:cNvSpPr/>
          <p:nvPr/>
        </p:nvSpPr>
        <p:spPr>
          <a:xfrm>
            <a:off x="755640" y="2708280"/>
            <a:ext cx="7345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Hg + HNO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3564000" y="5300640"/>
            <a:ext cx="1896840" cy="7038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plň, uprav a zdůvod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4"/>
          <p:cNvSpPr/>
          <p:nvPr/>
        </p:nvSpPr>
        <p:spPr>
          <a:xfrm>
            <a:off x="428472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21"/>
              <a:gd name="adj2" fmla="val 21143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971640" y="333360"/>
            <a:ext cx="716256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bdélník 7"/>
          <p:cNvSpPr/>
          <p:nvPr/>
        </p:nvSpPr>
        <p:spPr>
          <a:xfrm>
            <a:off x="1258920" y="1916280"/>
            <a:ext cx="662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a základě standardních redukčních potenciálů platí, že brom vytěsní z roztoku jodidu jo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3492360" y="5516640"/>
            <a:ext cx="2138400" cy="398880"/>
          </a:xfrm>
          <a:prstGeom prst="rect">
            <a:avLst/>
          </a:prstGeom>
          <a:solidFill>
            <a:srgbClr val="33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avda x le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4"/>
          <p:cNvSpPr/>
          <p:nvPr/>
        </p:nvSpPr>
        <p:spPr>
          <a:xfrm>
            <a:off x="421164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50055"/>
              <a:gd name="adj2" fmla="val 250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42920" y="189000"/>
            <a:ext cx="71629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 Cr Fe Cd Ti Co Ni Sn P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u Ag Hg 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bdélník 6"/>
          <p:cNvSpPr/>
          <p:nvPr/>
        </p:nvSpPr>
        <p:spPr>
          <a:xfrm>
            <a:off x="1258920" y="191628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Nadpis 7"/>
          <p:cNvSpPr/>
          <p:nvPr/>
        </p:nvSpPr>
        <p:spPr>
          <a:xfrm>
            <a:off x="900000" y="2708280"/>
            <a:ext cx="73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e Cu Cd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o Pb Cr Ag Ti Zn Ni Sn Au Hg 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3492360" y="5516640"/>
            <a:ext cx="2160720" cy="398880"/>
          </a:xfrm>
          <a:prstGeom prst="rect">
            <a:avLst/>
          </a:prstGeom>
          <a:solidFill>
            <a:srgbClr val="e5e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pr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/>
          <p:cNvSpPr/>
          <p:nvPr/>
        </p:nvSpPr>
        <p:spPr>
          <a:xfrm>
            <a:off x="421164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49921"/>
              <a:gd name="adj2" fmla="val 23578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971640" y="189000"/>
            <a:ext cx="716256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proběhne. Zinek ležící vlevo od železa funguje jako redukční činid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Nadpis 7"/>
          <p:cNvSpPr/>
          <p:nvPr/>
        </p:nvSpPr>
        <p:spPr>
          <a:xfrm>
            <a:off x="755640" y="2708280"/>
            <a:ext cx="7345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Zn + FeSO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Fe + ZnSO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564000" y="5300640"/>
            <a:ext cx="1896840" cy="70380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běhne x neproběh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421164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50055"/>
              <a:gd name="adj2" fmla="val 2041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116000" y="260280"/>
            <a:ext cx="708660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latá cihlič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Nadpis 7"/>
          <p:cNvSpPr/>
          <p:nvPr/>
        </p:nvSpPr>
        <p:spPr>
          <a:xfrm>
            <a:off x="755640" y="2708280"/>
            <a:ext cx="7345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9" descr="http://seonaeko.cz/wp-content/uploads/2014/08/zlato_2.png"/>
          <p:cNvPicPr/>
          <p:nvPr/>
        </p:nvPicPr>
        <p:blipFill>
          <a:blip r:embed="rId1"/>
          <a:stretch/>
        </p:blipFill>
        <p:spPr>
          <a:xfrm>
            <a:off x="2124000" y="1557360"/>
            <a:ext cx="455148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>
            <a:hlinkClick r:id="rId1" action="ppaction://hlinksldjump"/>
          </p:cNvPr>
          <p:cNvSpPr/>
          <p:nvPr/>
        </p:nvSpPr>
        <p:spPr>
          <a:xfrm>
            <a:off x="2627280" y="1197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5">
            <a:hlinkClick r:id="rId3" action="ppaction://hlinksldjump"/>
          </p:cNvPr>
          <p:cNvSpPr/>
          <p:nvPr/>
        </p:nvSpPr>
        <p:spPr>
          <a:xfrm>
            <a:off x="4932360" y="1197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e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">
            <a:hlinkClick r:id="rId7" action="ppaction://hlinksldjump"/>
          </p:cNvPr>
          <p:cNvSpPr/>
          <p:nvPr/>
        </p:nvSpPr>
        <p:spPr>
          <a:xfrm>
            <a:off x="7164360" y="227664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268360" y="333360"/>
            <a:ext cx="2138400" cy="398880"/>
          </a:xfrm>
          <a:prstGeom prst="rect">
            <a:avLst/>
          </a:prstGeom>
          <a:solidFill>
            <a:srgbClr val="33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avda x le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500720" y="333360"/>
            <a:ext cx="2160360" cy="398880"/>
          </a:xfrm>
          <a:prstGeom prst="rect">
            <a:avLst/>
          </a:prstGeom>
          <a:solidFill>
            <a:srgbClr val="e5e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pr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6804000" y="333360"/>
            <a:ext cx="1897200" cy="70380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běhne x neproběh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95280" y="1197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56000" y="33577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e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32360" y="227664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e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e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4360" y="1197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e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179280" y="333360"/>
            <a:ext cx="1897200" cy="7038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plň, uprav a zdůvod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4"/>
          <p:cNvSpPr/>
          <p:nvPr/>
        </p:nvSpPr>
        <p:spPr>
          <a:xfrm>
            <a:off x="421164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055"/>
              <a:gd name="adj2" fmla="val 1968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ž! Železo leží napravo od bromu, nemůže tedy oxidovat  bromidy na b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Nadpis 7"/>
          <p:cNvSpPr/>
          <p:nvPr/>
        </p:nvSpPr>
        <p:spPr>
          <a:xfrm>
            <a:off x="900000" y="1989000"/>
            <a:ext cx="73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a základě standardních redukčních potenciálů platí, že železité ionty jsou schopny oxidovat bromidy na elementární bro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3492360" y="5516640"/>
            <a:ext cx="2138400" cy="398880"/>
          </a:xfrm>
          <a:prstGeom prst="rect">
            <a:avLst/>
          </a:prstGeom>
          <a:solidFill>
            <a:srgbClr val="33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avda x le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4"/>
          <p:cNvSpPr/>
          <p:nvPr/>
        </p:nvSpPr>
        <p:spPr>
          <a:xfrm>
            <a:off x="421164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50055"/>
              <a:gd name="adj2" fmla="val 21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latá cihlič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9" descr="http://seonaeko.cz/wp-content/uploads/2014/08/zlato_2.png"/>
          <p:cNvPicPr/>
          <p:nvPr/>
        </p:nvPicPr>
        <p:blipFill>
          <a:blip r:embed="rId1"/>
          <a:stretch/>
        </p:blipFill>
        <p:spPr>
          <a:xfrm>
            <a:off x="2124000" y="1557360"/>
            <a:ext cx="455148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4"/>
          <p:cNvSpPr/>
          <p:nvPr/>
        </p:nvSpPr>
        <p:spPr>
          <a:xfrm>
            <a:off x="428472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055"/>
              <a:gd name="adj2" fmla="val 2431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971640" y="333360"/>
            <a:ext cx="7200720" cy="119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eproběhne. Měď je ušlechtilý kov ležící napravo od zinku (neušlechtilého kovu). Měď tedy nemůže ze zinečnaté soli vytěsnit zi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Nadpis 7"/>
          <p:cNvSpPr/>
          <p:nvPr/>
        </p:nvSpPr>
        <p:spPr>
          <a:xfrm>
            <a:off x="900000" y="2492280"/>
            <a:ext cx="73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Cu + ZnSO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Zn + CuSO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3635280" y="5300640"/>
            <a:ext cx="1897200" cy="70380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běhne x neproběh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414036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49921"/>
              <a:gd name="adj2" fmla="val 1943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Zn + HCl </a:t>
            </a:r>
            <a:r>
              <a:rPr b="1" lang="cs-CZ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219320" y="228600"/>
            <a:ext cx="7169040" cy="875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n + 2HCl 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+ ZnCl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zinek je neušlechtilý kov, je schopen vytěsnit vodík z kyseli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3635280" y="5157720"/>
            <a:ext cx="1897200" cy="7038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plň, uprav a zdůvod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>
            <a:hlinkClick r:id="rId1" action="ppaction://hlinksldjump"/>
          </p:cNvPr>
          <p:cNvSpPr/>
          <p:nvPr/>
        </p:nvSpPr>
        <p:spPr>
          <a:xfrm>
            <a:off x="414036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50055"/>
              <a:gd name="adj2" fmla="val 1749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ž! (…je redukčním činidlem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5905440" cy="2519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ov ležící v řadě napětí kovů je oxidačním činidlem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 kov, který leží od něj naprav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3492360" y="5516640"/>
            <a:ext cx="2138400" cy="398880"/>
          </a:xfrm>
          <a:prstGeom prst="rect">
            <a:avLst/>
          </a:prstGeom>
          <a:solidFill>
            <a:srgbClr val="33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avda x le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421164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50194"/>
              <a:gd name="adj2" fmla="val 199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Nadpis 7"/>
          <p:cNvSpPr/>
          <p:nvPr/>
        </p:nvSpPr>
        <p:spPr>
          <a:xfrm>
            <a:off x="900000" y="2708280"/>
            <a:ext cx="73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u Ag Hg Au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Zn Cr Fe Cd Ti Co Ni Sn Pb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971640" y="189000"/>
            <a:ext cx="718164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 Cr Fe Cd Ti Co Ni Sn P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u Ag Hg 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3492360" y="5516640"/>
            <a:ext cx="2160720" cy="398880"/>
          </a:xfrm>
          <a:prstGeom prst="rect">
            <a:avLst/>
          </a:prstGeom>
          <a:solidFill>
            <a:srgbClr val="e5e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pr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4036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71640" y="1052640"/>
            <a:ext cx="7162560" cy="4038480"/>
          </a:xfrm>
          <a:prstGeom prst="wedgeRectCallout">
            <a:avLst>
              <a:gd name="adj1" fmla="val -50194"/>
              <a:gd name="adj2" fmla="val 18222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90720" y="228600"/>
            <a:ext cx="718164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eproběhne. Stříbro je ušlechtilý kov, není schopné vytěsnit vodí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bdélník 9"/>
          <p:cNvSpPr/>
          <p:nvPr/>
        </p:nvSpPr>
        <p:spPr>
          <a:xfrm>
            <a:off x="1042920" y="2708280"/>
            <a:ext cx="6985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2Ag + 2HCl </a:t>
            </a:r>
            <a:r>
              <a:rPr b="1" lang="cs-CZ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+ 2Ag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3564000" y="5300640"/>
            <a:ext cx="1896840" cy="703800"/>
          </a:xfrm>
          <a:prstGeom prst="rect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běhne x neproběh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>
            <a:hlinkClick r:id="rId1" action="ppaction://hlinksldjump"/>
          </p:cNvPr>
          <p:cNvSpPr/>
          <p:nvPr/>
        </p:nvSpPr>
        <p:spPr>
          <a:xfrm>
            <a:off x="414036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50055"/>
              <a:gd name="adj2" fmla="val 201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066680" y="228600"/>
            <a:ext cx="7162920" cy="875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Na + 2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 2NaOH, sodík je neušlechtilý kov, je schopen vytěsnit vodík z v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bdélník 7"/>
          <p:cNvSpPr/>
          <p:nvPr/>
        </p:nvSpPr>
        <p:spPr>
          <a:xfrm>
            <a:off x="1187280" y="2708280"/>
            <a:ext cx="6985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a + H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cs-CZ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___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3635280" y="5300640"/>
            <a:ext cx="1897200" cy="7038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plň, uprav a zdůvod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4">
            <a:hlinkClick r:id="rId1" action="ppaction://hlinksldjump"/>
          </p:cNvPr>
          <p:cNvSpPr/>
          <p:nvPr/>
        </p:nvSpPr>
        <p:spPr>
          <a:xfrm>
            <a:off x="414036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50055"/>
              <a:gd name="adj2" fmla="val 2065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00000" y="228600"/>
            <a:ext cx="72532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bdélník 7"/>
          <p:cNvSpPr/>
          <p:nvPr/>
        </p:nvSpPr>
        <p:spPr>
          <a:xfrm>
            <a:off x="971640" y="1125360"/>
            <a:ext cx="6985080" cy="3934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ovy ležící na pravé stran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od vodíku nazýváme ušlechtilými. Mají kladné hodnoty elektrodových potenciálů, oxidují velice obtížně, proto se vyskytují v přírodě vázané ve sloučeniná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 ryzí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3492360" y="5516640"/>
            <a:ext cx="2138400" cy="398880"/>
          </a:xfrm>
          <a:prstGeom prst="rect">
            <a:avLst/>
          </a:prstGeom>
          <a:solidFill>
            <a:srgbClr val="33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avda x le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414036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50055"/>
              <a:gd name="adj2" fmla="val 282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 Cr Fe Cd Ti Co Ni Sn P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u Ag Hg 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Nadpis 7"/>
          <p:cNvSpPr/>
          <p:nvPr/>
        </p:nvSpPr>
        <p:spPr>
          <a:xfrm>
            <a:off x="755640" y="2708280"/>
            <a:ext cx="7345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Pb Cr Cd Ti Zn Co Ni Sn Fe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u Ag Hg Au 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492360" y="5516640"/>
            <a:ext cx="2160720" cy="398880"/>
          </a:xfrm>
          <a:prstGeom prst="rect">
            <a:avLst/>
          </a:prstGeom>
          <a:solidFill>
            <a:srgbClr val="e5e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pr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Martina Filipová</dc:creator>
  <dc:description>Created by Jerry Myers is 1998 for a class.</dc:description>
  <dc:language>en-US</dc:language>
  <cp:lastModifiedBy>Filipovi</cp:lastModifiedBy>
  <cp:lastPrinted>2001-01-31T16:21:13Z</cp:lastPrinted>
  <dcterms:modified xsi:type="dcterms:W3CDTF">2015-06-24T11:20:33Z</dcterms:modified>
  <cp:revision>182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