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46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dt" idx="12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3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4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14A69-C3E9-46C3-942B-AA8FBB88A30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CC84A-9038-4465-983A-9B5F1679239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17B188-C55E-4432-A79F-01F44CCB7CFC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250A5-8937-4712-94E1-4E98BF8B42D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632EF6-FD9E-428D-9B2B-7FC16F08D707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E07CD-654C-4921-AB2D-CD5CAABAC0C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CAEAA2-42A3-49AA-9B2B-6A34FC575D41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C9D4A-8E23-43E1-9DD8-917485B4F50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212251-5374-4C4A-9983-D097591F426B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86502-6413-4823-A324-EDB5BEE6849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1D8B1D-57A6-41CC-9659-C78394446301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ADDB0-68F8-4EB3-9122-3F427813ABA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CBF9F2-B1EC-4A32-B598-8C4E7136DC26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F7C00-5978-4CE7-BB37-5AD673CC346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79AFA8-04D9-4B6E-B39B-222B3FF68AFE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161C6-E462-42B4-8A60-E1D7D3F3555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D07F5D-E3A7-414C-A40E-BF3F183511BC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F028B-F3AE-487C-AF1B-9AF1B088C5F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B89ED4-9DD3-4161-AF8A-AB4BEFFB27D1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F071-0530-45A1-8A76-58461A9EC4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DAC6-7B51-4C8E-9C07-257E448B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AF41-5972-40D3-B7A1-D1F3C665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62806-1A96-4514-A151-44E38F68F3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21F3E-6F63-42E2-96C5-4EFF888B11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97F49-A625-463B-A8B9-27B8BDD9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22438-9560-48C6-A6F8-B15BB6BF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601AD-C69E-45BF-8A01-DFE290DA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E9468-5A2F-4290-9A12-AE7B84BB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CC53C-44B8-4940-BC9D-446BAF08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2FB42-B9B4-4696-8615-EEB8598D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BC91-BC0B-43BA-B956-D9597962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3B5E8-8B3F-4C6A-AEE3-F95BD025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2DCD8-755C-4868-BD43-83865300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15E00-EBF3-4DAA-9BD3-F86B6A81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87E1B-5ED4-46D3-8517-95CADFAC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3919E-6F71-481E-A2ED-996211582E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3CF6-1538-4331-8355-4EEEFF0B95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C14D-CF86-4F58-9FC4-82EF5BA5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9898-DAB6-4E5D-AEE0-F70B1610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54B0-8DE8-422A-BB2D-DA25AD80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294B-6DEE-430B-A138-3DECD33A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91FF-F15C-42ED-BBDF-A5C60506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5B0D-1E5E-4E90-9205-6C977B7D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F2BB-E19D-41DB-B2B0-056833E2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0C46-9A75-41C2-948F-6CA5F706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776A-B86F-4A76-AEA3-7A375BD1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A083-3A06-49F0-A850-5C88BD03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6EED-4116-4D6E-9DFE-5EC7847B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7427-D413-4835-AF45-E5BBD2C3BD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279E6-2973-462D-886C-C4D3E64B35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0F2A4-3ED6-4E36-A880-C4DCF050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4548C-5CF0-4589-A80B-CFF6E7AA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19F9-AA45-4476-B790-BAA2FF74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7D8B4-E000-42C9-A9DC-184997E6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9346B-57AD-4571-8836-40F2328E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4413B-D156-4054-9CFF-1B2DDAA9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31505-7AB4-4CAC-9826-5A516679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9BB07-48D2-4CD9-87A6-ABFDF2A1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B3712-9F74-467C-9DF8-40898F55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04260-C88F-4C5D-8D58-9D48C892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BDE44-47CA-48B2-B3D0-7B9DB8B3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5BC63-8F39-404B-9FEB-637B66015F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9EC7AC-91B8-4B03-9DE8-D5C2D087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336AF-D3A1-4E25-BE5E-38B251BE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62AFD7-8EB3-43F2-9400-4C7875A0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744E1-B4E6-4863-BD71-76A27C02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39A9C-4C6F-498D-87FA-0029B400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556754-037F-40C1-814D-27BF6257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5DBDC-1C70-4475-BA1C-DD41F600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7D2750-CA33-466A-88DA-212B7F67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CF3B8-183E-4F4A-AD27-F5C83FAA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32D41-1FF7-412A-9816-FB9B6F4D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872A6E-AF25-45D5-9522-5135004F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0F69BE-9DC7-4F58-BFCC-40EBF768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0DA8C-DF98-47F7-B2E6-413A332D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AC2E50-9537-4A2B-AB9F-DB4F5A11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E4B0-EB90-4E21-B258-26077E17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E512-F24E-4D53-AA70-EB7F78D2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3045B-1AB3-4269-AC7D-63212C51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3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7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28AB3D-B753-40C9-8D21-F2D05DE0AA2F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49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8304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213C99-B21A-40AB-AB26-2D249CA52382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95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6BB478-C083-41CD-8A0F-5959469E9E6B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141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dt" idx="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ldNum" idx="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6A4F4B-A7E7-4DE8-B0ED-5A29A02A1BD1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9"/>
          </p:nvPr>
        </p:nvSpPr>
        <p:spPr>
          <a:xfrm>
            <a:off x="1599840" y="552924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0"/>
          </p:nvPr>
        </p:nvSpPr>
        <p:spPr>
          <a:xfrm>
            <a:off x="3813120" y="608328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1"/>
          </p:nvPr>
        </p:nvSpPr>
        <p:spPr>
          <a:xfrm>
            <a:off x="6816600" y="6083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7F4D5EB-A546-46F3-A659-BF35291019D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600" spc="-1" strike="noStrike">
                <a:solidFill>
                  <a:srgbClr val="3333cc"/>
                </a:solidFill>
                <a:latin typeface="Constantia"/>
              </a:rPr>
              <a:t>Otočení</a:t>
            </a:r>
            <a:endParaRPr b="1" i="1" lang="en-US" sz="5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ctr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Bc. David Kobla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Orientovaný úhel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468360" y="1917720"/>
            <a:ext cx="8209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e úhel u něhož je určeno, které jeho rameno je počáteční a které konc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určujeme pořadím v označ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rientovaný úhel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VB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– počáteční ramen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koncové ramen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olopřímk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mohou vytvářet dva orientované úhly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V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B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1619280" y="45086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5435640" y="4437000"/>
            <a:ext cx="2409840" cy="18115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611280" y="3860640"/>
            <a:ext cx="25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orientovaný úhel </a:t>
            </a:r>
            <a:r>
              <a:rPr b="0" i="1" lang="cs-CZ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AV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4716360" y="3860640"/>
            <a:ext cx="24480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orientovaný úhel </a:t>
            </a:r>
            <a:r>
              <a:rPr b="0" i="1" lang="cs-CZ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B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3059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3333cc"/>
                </a:solidFill>
                <a:latin typeface="Constantia"/>
              </a:rPr>
              <a:t>Základní velikost orientovaného úhlu</a:t>
            </a:r>
            <a:endParaRPr b="1" i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826920" y="2708280"/>
            <a:ext cx="7488360" cy="28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elikost v tzv. </a:t>
            </a:r>
            <a:r>
              <a:rPr b="0" i="1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kladném smyslu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– proti směru hodinových ručič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elikost v tzv. </a:t>
            </a:r>
            <a:r>
              <a:rPr b="0" i="1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záporném smys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po směru hodinových ručič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149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základní velik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rientovaného úhl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V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je velikost toho úhlu, kter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79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ytvoří polopřímk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otočením do polopřímk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kolem b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79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ladném s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e to číslo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od 0° do 3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včet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79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Otočení (rotace)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611280" y="5013360"/>
            <a:ext cx="2519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Zápis:</a:t>
            </a:r>
            <a:r>
              <a:rPr b="1" lang="cs-CZ" sz="1800" spc="-1" strike="noStrike">
                <a:solidFill>
                  <a:srgbClr val="0070c0"/>
                </a:solidFill>
                <a:latin typeface="Arial"/>
                <a:ea typeface="Arial Unicode MS"/>
              </a:rPr>
              <a:t> </a:t>
            </a:r>
            <a:r>
              <a:rPr b="0" i="1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R(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, </a:t>
            </a:r>
            <a:r>
              <a:rPr b="0" i="1" lang="cs-CZ" sz="1800" spc="-1" strike="noStrike">
                <a:solidFill>
                  <a:srgbClr val="ff0000"/>
                </a:solidFill>
                <a:latin typeface="Symbol"/>
                <a:ea typeface="Arial Unicode MS"/>
              </a:rPr>
              <a:t></a:t>
            </a:r>
            <a:r>
              <a:rPr b="0" i="1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): A </a:t>
            </a:r>
            <a:r>
              <a:rPr b="0" i="1" lang="cs-CZ" sz="1800" spc="-1" strike="noStrike">
                <a:solidFill>
                  <a:srgbClr val="00b050"/>
                </a:solidFill>
                <a:latin typeface="Symbol"/>
                <a:ea typeface="Arial Unicode MS"/>
              </a:rPr>
              <a:t></a:t>
            </a:r>
            <a:r>
              <a:rPr b="0" i="1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 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68360" y="1700280"/>
            <a:ext cx="8136000" cy="8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točení (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rota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 je přímou shodností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Značí se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 je dáno středem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 orientovaným úhlem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φ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Zapisujeme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R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(S,φ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) - otočení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R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o úhel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φ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e středem 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68360" y="2781360"/>
            <a:ext cx="806436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ts val="279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Zobrazuje takto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bod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zobrazí na bod S (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ám na seb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: S' = 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aždý bod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A ≠ 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e zobrazí na bod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A'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tak, že vzdálenost A' od S je stejná jako vzdálenost A od S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(|A'S| = |AS|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 orientovaný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úhel ASA' má velikost 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79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Skupina 35"/>
          <p:cNvGrpSpPr/>
          <p:nvPr/>
        </p:nvGrpSpPr>
        <p:grpSpPr>
          <a:xfrm>
            <a:off x="3422880" y="4380480"/>
            <a:ext cx="4894200" cy="2286720"/>
            <a:chOff x="3422880" y="4380480"/>
            <a:chExt cx="4894200" cy="2286720"/>
          </a:xfrm>
        </p:grpSpPr>
        <p:grpSp>
          <p:nvGrpSpPr>
            <p:cNvPr id="253" name="Skupina 21"/>
            <p:cNvGrpSpPr/>
            <p:nvPr/>
          </p:nvGrpSpPr>
          <p:grpSpPr>
            <a:xfrm>
              <a:off x="6698880" y="4751640"/>
              <a:ext cx="1363680" cy="1271520"/>
              <a:chOff x="6698880" y="4751640"/>
              <a:chExt cx="1363680" cy="1271520"/>
            </a:xfrm>
          </p:grpSpPr>
          <p:grpSp>
            <p:nvGrpSpPr>
              <p:cNvPr id="254" name="Skupina 15"/>
              <p:cNvGrpSpPr/>
              <p:nvPr/>
            </p:nvGrpSpPr>
            <p:grpSpPr>
              <a:xfrm>
                <a:off x="6698880" y="4751640"/>
                <a:ext cx="1363680" cy="1271520"/>
                <a:chOff x="6698880" y="4751640"/>
                <a:chExt cx="1363680" cy="1271520"/>
              </a:xfrm>
            </p:grpSpPr>
            <p:sp>
              <p:nvSpPr>
                <p:cNvPr id="255" name="Přímá spojovací čára 10"/>
                <p:cNvSpPr/>
                <p:nvPr/>
              </p:nvSpPr>
              <p:spPr>
                <a:xfrm>
                  <a:off x="7158960" y="4751640"/>
                  <a:ext cx="708120" cy="91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Přímá spojovací čára 12"/>
                <p:cNvSpPr/>
                <p:nvPr/>
              </p:nvSpPr>
              <p:spPr>
                <a:xfrm>
                  <a:off x="6698880" y="5613480"/>
                  <a:ext cx="1171080" cy="5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Oblouk 62"/>
                <p:cNvSpPr/>
                <p:nvPr/>
              </p:nvSpPr>
              <p:spPr>
                <a:xfrm rot="15360000">
                  <a:off x="7163640" y="5124240"/>
                  <a:ext cx="812880" cy="812160"/>
                </a:xfrm>
                <a:custGeom>
                  <a:avLst/>
                  <a:gdLst/>
                  <a:ahLst/>
                  <a:rect l="l" t="t" r="r" b="b"/>
                  <a:pathLst>
                    <a:path stroke="0" w="812878" h="811159">
                      <a:moveTo>
                        <a:pt x="406439" y="0"/>
                      </a:moveTo>
                      <a:cubicBezTo>
                        <a:pt x="630909" y="0"/>
                        <a:pt x="812878" y="181584"/>
                        <a:pt x="812878" y="405580"/>
                      </a:cubicBezTo>
                      <a:lnTo>
                        <a:pt x="406439" y="405580"/>
                      </a:lnTo>
                      <a:lnTo>
                        <a:pt x="406439" y="0"/>
                      </a:lnTo>
                      <a:close/>
                    </a:path>
                    <a:path fill="none" w="812878" h="811159">
                      <a:moveTo>
                        <a:pt x="406439" y="0"/>
                      </a:moveTo>
                      <a:cubicBezTo>
                        <a:pt x="630909" y="0"/>
                        <a:pt x="812878" y="181584"/>
                        <a:pt x="812878" y="405580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TextovéPole 59"/>
              <p:cNvSpPr/>
              <p:nvPr/>
            </p:nvSpPr>
            <p:spPr>
              <a:xfrm>
                <a:off x="7253640" y="5228640"/>
                <a:ext cx="2880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i="1" lang="el-GR" sz="1800" spc="-1" strike="noStrike">
                    <a:solidFill>
                      <a:srgbClr val="ff0000"/>
                    </a:solidFill>
                    <a:latin typeface="Arial"/>
                    <a:ea typeface="Arial Unicode MS"/>
                  </a:rPr>
                  <a:t>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Skupina 55"/>
            <p:cNvGrpSpPr/>
            <p:nvPr/>
          </p:nvGrpSpPr>
          <p:grpSpPr>
            <a:xfrm>
              <a:off x="3422880" y="4380480"/>
              <a:ext cx="3069720" cy="2286720"/>
              <a:chOff x="3422880" y="4380480"/>
              <a:chExt cx="3069720" cy="2286720"/>
            </a:xfrm>
          </p:grpSpPr>
          <p:grpSp>
            <p:nvGrpSpPr>
              <p:cNvPr id="260" name="Skupina 53"/>
              <p:cNvGrpSpPr/>
              <p:nvPr/>
            </p:nvGrpSpPr>
            <p:grpSpPr>
              <a:xfrm>
                <a:off x="3870360" y="4731120"/>
                <a:ext cx="2310840" cy="1936080"/>
                <a:chOff x="3870360" y="4731120"/>
                <a:chExt cx="2310840" cy="1936080"/>
              </a:xfrm>
            </p:grpSpPr>
            <p:grpSp>
              <p:nvGrpSpPr>
                <p:cNvPr id="261" name="Skupina 22"/>
                <p:cNvGrpSpPr/>
                <p:nvPr/>
              </p:nvGrpSpPr>
              <p:grpSpPr>
                <a:xfrm>
                  <a:off x="3942000" y="4742280"/>
                  <a:ext cx="2239200" cy="1924920"/>
                  <a:chOff x="3942000" y="4742280"/>
                  <a:chExt cx="2239200" cy="1924920"/>
                </a:xfrm>
              </p:grpSpPr>
              <p:grpSp>
                <p:nvGrpSpPr>
                  <p:cNvPr id="262" name="Skupina 15"/>
                  <p:cNvGrpSpPr/>
                  <p:nvPr/>
                </p:nvGrpSpPr>
                <p:grpSpPr>
                  <a:xfrm>
                    <a:off x="3942000" y="4742280"/>
                    <a:ext cx="2239200" cy="1924920"/>
                    <a:chOff x="3942000" y="4742280"/>
                    <a:chExt cx="2239200" cy="1924920"/>
                  </a:xfrm>
                </p:grpSpPr>
                <p:sp>
                  <p:nvSpPr>
                    <p:cNvPr id="263" name="Přímá spojovací čára 55"/>
                    <p:cNvSpPr/>
                    <p:nvPr/>
                  </p:nvSpPr>
                  <p:spPr>
                    <a:xfrm>
                      <a:off x="4750920" y="4742280"/>
                      <a:ext cx="1238760" cy="157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Přímá spojovací čára 56"/>
                    <p:cNvSpPr/>
                    <p:nvPr/>
                  </p:nvSpPr>
                  <p:spPr>
                    <a:xfrm>
                      <a:off x="3942000" y="6238080"/>
                      <a:ext cx="2047680" cy="75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Oblouk 57"/>
                    <p:cNvSpPr/>
                    <p:nvPr/>
                  </p:nvSpPr>
                  <p:spPr>
                    <a:xfrm rot="15360000">
                      <a:off x="5283360" y="5769000"/>
                      <a:ext cx="810720" cy="81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809702" h="812747">
                          <a:moveTo>
                            <a:pt x="404851" y="0"/>
                          </a:moveTo>
                          <a:cubicBezTo>
                            <a:pt x="628444" y="0"/>
                            <a:pt x="809702" y="181940"/>
                            <a:pt x="809702" y="406374"/>
                          </a:cubicBezTo>
                          <a:lnTo>
                            <a:pt x="404851" y="406374"/>
                          </a:lnTo>
                          <a:lnTo>
                            <a:pt x="404851" y="0"/>
                          </a:lnTo>
                          <a:close/>
                        </a:path>
                        <a:path fill="none" w="809702" h="812747">
                          <a:moveTo>
                            <a:pt x="404851" y="0"/>
                          </a:moveTo>
                          <a:cubicBezTo>
                            <a:pt x="628444" y="0"/>
                            <a:pt x="809702" y="181940"/>
                            <a:pt x="809702" y="40637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" name="TextovéPole 54"/>
                  <p:cNvSpPr/>
                  <p:nvPr/>
                </p:nvSpPr>
                <p:spPr>
                  <a:xfrm>
                    <a:off x="5372640" y="5872320"/>
                    <a:ext cx="288000" cy="34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i="1" lang="el-GR" sz="1800" spc="-1" strike="noStrike">
                        <a:solidFill>
                          <a:srgbClr val="ff0000"/>
                        </a:solidFill>
                        <a:latin typeface="Arial"/>
                        <a:ea typeface="Arial Unicode MS"/>
                      </a:rPr>
                      <a:t>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Skupina 38"/>
                <p:cNvGrpSpPr/>
                <p:nvPr/>
              </p:nvGrpSpPr>
              <p:grpSpPr>
                <a:xfrm>
                  <a:off x="5953680" y="6266160"/>
                  <a:ext cx="106920" cy="106920"/>
                  <a:chOff x="5953680" y="6266160"/>
                  <a:chExt cx="106920" cy="106920"/>
                </a:xfrm>
              </p:grpSpPr>
              <p:sp>
                <p:nvSpPr>
                  <p:cNvPr id="268" name="Přímá spojovací čára 51"/>
                  <p:cNvSpPr/>
                  <p:nvPr/>
                </p:nvSpPr>
                <p:spPr>
                  <a:xfrm>
                    <a:off x="6001200" y="6266160"/>
                    <a:ext cx="15120" cy="10692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Přímá spojovací čára 52"/>
                  <p:cNvSpPr/>
                  <p:nvPr/>
                </p:nvSpPr>
                <p:spPr>
                  <a:xfrm flipH="1">
                    <a:off x="5953680" y="6302520"/>
                    <a:ext cx="106920" cy="1512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Skupina 39"/>
                <p:cNvGrpSpPr/>
                <p:nvPr/>
              </p:nvGrpSpPr>
              <p:grpSpPr>
                <a:xfrm>
                  <a:off x="3870360" y="6195240"/>
                  <a:ext cx="106920" cy="106920"/>
                  <a:chOff x="3870360" y="6195240"/>
                  <a:chExt cx="106920" cy="106920"/>
                </a:xfrm>
              </p:grpSpPr>
              <p:sp>
                <p:nvSpPr>
                  <p:cNvPr id="271" name="Přímá spojovací čára 49"/>
                  <p:cNvSpPr/>
                  <p:nvPr/>
                </p:nvSpPr>
                <p:spPr>
                  <a:xfrm>
                    <a:off x="3918240" y="6195240"/>
                    <a:ext cx="14760" cy="10692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Přímá spojovací čára 50"/>
                  <p:cNvSpPr/>
                  <p:nvPr/>
                </p:nvSpPr>
                <p:spPr>
                  <a:xfrm flipH="1">
                    <a:off x="3870360" y="6231600"/>
                    <a:ext cx="106920" cy="1512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Skupina 42"/>
                <p:cNvGrpSpPr/>
                <p:nvPr/>
              </p:nvGrpSpPr>
              <p:grpSpPr>
                <a:xfrm>
                  <a:off x="4719600" y="4731120"/>
                  <a:ext cx="106920" cy="106920"/>
                  <a:chOff x="4719600" y="4731120"/>
                  <a:chExt cx="106920" cy="106920"/>
                </a:xfrm>
              </p:grpSpPr>
              <p:sp>
                <p:nvSpPr>
                  <p:cNvPr id="274" name="Přímá spojovací čára 47"/>
                  <p:cNvSpPr/>
                  <p:nvPr/>
                </p:nvSpPr>
                <p:spPr>
                  <a:xfrm>
                    <a:off x="4766040" y="4731120"/>
                    <a:ext cx="15120" cy="10692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Přímá spojovací čára 48"/>
                  <p:cNvSpPr/>
                  <p:nvPr/>
                </p:nvSpPr>
                <p:spPr>
                  <a:xfrm flipH="1">
                    <a:off x="4719600" y="4767480"/>
                    <a:ext cx="106920" cy="1476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6" name="TextovéPole 40"/>
              <p:cNvSpPr/>
              <p:nvPr/>
            </p:nvSpPr>
            <p:spPr>
              <a:xfrm>
                <a:off x="4506480" y="4380480"/>
                <a:ext cx="36000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ovéPole 41"/>
              <p:cNvSpPr/>
              <p:nvPr/>
            </p:nvSpPr>
            <p:spPr>
              <a:xfrm>
                <a:off x="3422880" y="5981760"/>
                <a:ext cx="43200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ovéPole 42"/>
              <p:cNvSpPr/>
              <p:nvPr/>
            </p:nvSpPr>
            <p:spPr>
              <a:xfrm>
                <a:off x="6060600" y="6120360"/>
                <a:ext cx="43200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cs-CZ" sz="1600" spc="-1" strike="noStrike">
                    <a:solidFill>
                      <a:srgbClr val="ff0000"/>
                    </a:solidFill>
                    <a:latin typeface="Arial"/>
                    <a:ea typeface="Arial Unicode MS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TextovéPole 38"/>
            <p:cNvSpPr/>
            <p:nvPr/>
          </p:nvSpPr>
          <p:spPr>
            <a:xfrm>
              <a:off x="6876720" y="6021720"/>
              <a:ext cx="14403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|AS| = |A´S|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Otočení (rotace)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468360" y="2205000"/>
            <a:ext cx="820908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amodružný bo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e jenom jeden a to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třed otoče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amodružné přím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ři otáčení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ne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amodružné kružni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sou všechny kružnice, které mají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třed ve středu otoč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1835280" y="3716280"/>
            <a:ext cx="507672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30592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3333cc"/>
                </a:solidFill>
                <a:latin typeface="Calibri"/>
              </a:rPr>
              <a:t>Zobrazení bodu: </a:t>
            </a:r>
            <a:r>
              <a:rPr b="0" i="1" lang="cs-CZ" sz="4400" spc="-1" strike="noStrike">
                <a:solidFill>
                  <a:srgbClr val="3333cc"/>
                </a:solidFill>
                <a:latin typeface="Calibri"/>
              </a:rPr>
              <a:t>R(</a:t>
            </a:r>
            <a:r>
              <a:rPr b="0" i="1" lang="cs-CZ" sz="4400" spc="-1" strike="noStrike">
                <a:solidFill>
                  <a:srgbClr val="00b050"/>
                </a:solidFill>
                <a:latin typeface="Calibri"/>
              </a:rPr>
              <a:t>S, </a:t>
            </a:r>
            <a:r>
              <a:rPr b="0" lang="cs-CZ" sz="4400" spc="-1" strike="noStrike">
                <a:solidFill>
                  <a:srgbClr val="00b050"/>
                </a:solidFill>
                <a:latin typeface="Calibri"/>
              </a:rPr>
              <a:t>α</a:t>
            </a:r>
            <a:r>
              <a:rPr b="0" i="1" lang="cs-CZ" sz="4400" spc="-1" strike="noStrike">
                <a:solidFill>
                  <a:srgbClr val="3333cc"/>
                </a:solidFill>
                <a:latin typeface="Calibri"/>
              </a:rPr>
              <a:t>): </a:t>
            </a:r>
            <a:r>
              <a:rPr b="0" lang="cs-CZ" sz="4400" spc="-1" strike="noStrike">
                <a:solidFill>
                  <a:srgbClr val="3333cc"/>
                </a:solidFill>
                <a:latin typeface="Calibri"/>
              </a:rPr>
              <a:t>X</a:t>
            </a:r>
            <a:r>
              <a:rPr b="0" i="1" lang="cs-CZ" sz="4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0" lang="cs-CZ" sz="4400" spc="-1" strike="noStrike">
                <a:solidFill>
                  <a:srgbClr val="3333cc"/>
                </a:solidFill>
                <a:latin typeface="Calibri"/>
              </a:rPr>
              <a:t>→ </a:t>
            </a: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X´</a:t>
            </a:r>
            <a:r>
              <a:rPr b="0" lang="cs-CZ" sz="4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1"/>
          <p:cNvGrpSpPr/>
          <p:nvPr/>
        </p:nvGrpSpPr>
        <p:grpSpPr>
          <a:xfrm>
            <a:off x="3276720" y="2376360"/>
            <a:ext cx="5584680" cy="4969080"/>
            <a:chOff x="3276720" y="2376360"/>
            <a:chExt cx="5584680" cy="4969080"/>
          </a:xfrm>
        </p:grpSpPr>
        <p:grpSp>
          <p:nvGrpSpPr>
            <p:cNvPr id="287" name="Group 12"/>
            <p:cNvGrpSpPr/>
            <p:nvPr/>
          </p:nvGrpSpPr>
          <p:grpSpPr>
            <a:xfrm>
              <a:off x="3276720" y="2376360"/>
              <a:ext cx="5584680" cy="4969080"/>
              <a:chOff x="3276720" y="2376360"/>
              <a:chExt cx="5584680" cy="4969080"/>
            </a:xfrm>
          </p:grpSpPr>
          <p:sp>
            <p:nvSpPr>
              <p:cNvPr id="288" name="Rectangle 13"/>
              <p:cNvSpPr/>
              <p:nvPr/>
            </p:nvSpPr>
            <p:spPr>
              <a:xfrm>
                <a:off x="6164280" y="5265720"/>
                <a:ext cx="358920" cy="75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Group 14"/>
              <p:cNvGrpSpPr/>
              <p:nvPr/>
            </p:nvGrpSpPr>
            <p:grpSpPr>
              <a:xfrm>
                <a:off x="3276720" y="2376360"/>
                <a:ext cx="5584680" cy="4969080"/>
                <a:chOff x="3276720" y="2376360"/>
                <a:chExt cx="5584680" cy="4969080"/>
              </a:xfrm>
            </p:grpSpPr>
            <p:sp>
              <p:nvSpPr>
                <p:cNvPr id="290" name="Rectangle 15"/>
                <p:cNvSpPr/>
                <p:nvPr/>
              </p:nvSpPr>
              <p:spPr>
                <a:xfrm>
                  <a:off x="4972320" y="4137840"/>
                  <a:ext cx="371160" cy="75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cs-CZ" sz="1800" spc="-1" strike="noStrike">
                      <a:solidFill>
                        <a:srgbClr val="008000"/>
                      </a:solidFill>
                      <a:latin typeface="Arial"/>
                      <a:ea typeface="Arial Unicode MS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cs-CZ" sz="1800" spc="-1" strike="noStrike">
                      <a:solidFill>
                        <a:srgbClr val="008000"/>
                      </a:solidFill>
                      <a:latin typeface="Arial"/>
                      <a:ea typeface="Arial Unicode MS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AutoShape 16"/>
                <p:cNvSpPr/>
                <p:nvPr/>
              </p:nvSpPr>
              <p:spPr>
                <a:xfrm rot="11580000">
                  <a:off x="4856760" y="4786200"/>
                  <a:ext cx="3810240" cy="2158200"/>
                </a:xfrm>
                <a:prstGeom prst="triangle">
                  <a:avLst>
                    <a:gd name="adj" fmla="val 14736"/>
                  </a:avLst>
                </a:prstGeom>
                <a:noFill/>
                <a:ln cap="rnd" w="19080">
                  <a:solidFill>
                    <a:srgbClr val="000000"/>
                  </a:solidFill>
                  <a:custDash>
                    <a:ds d="499000" sp="20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7"/>
                <p:cNvSpPr/>
                <p:nvPr/>
              </p:nvSpPr>
              <p:spPr>
                <a:xfrm>
                  <a:off x="3276720" y="2376360"/>
                  <a:ext cx="3719520" cy="3940920"/>
                </a:xfrm>
                <a:prstGeom prst="ellipse">
                  <a:avLst/>
                </a:prstGeom>
                <a:noFill/>
                <a:ln cap="rnd" w="19080">
                  <a:solidFill>
                    <a:srgbClr val="0000ff"/>
                  </a:solidFill>
                  <a:custDash>
                    <a:ds d="499000" sp="201000"/>
                    <a:ds d="199000" sp="20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18"/>
                <p:cNvSpPr/>
                <p:nvPr/>
              </p:nvSpPr>
              <p:spPr>
                <a:xfrm>
                  <a:off x="6794640" y="4588920"/>
                  <a:ext cx="462600" cy="75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cs-CZ" sz="1800" spc="-1" strike="noStrike">
                      <a:solidFill>
                        <a:srgbClr val="ff3300"/>
                      </a:solidFill>
                      <a:latin typeface="Arial"/>
                      <a:ea typeface="Arial Unicode MS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cs-CZ" sz="1800" spc="-1" strike="noStrike">
                      <a:solidFill>
                        <a:srgbClr val="ff3300"/>
                      </a:solidFill>
                      <a:latin typeface="Arial"/>
                      <a:ea typeface="Arial Unicode MS"/>
                    </a:rPr>
                    <a:t>X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19"/>
                <p:cNvSpPr/>
                <p:nvPr/>
              </p:nvSpPr>
              <p:spPr>
                <a:xfrm>
                  <a:off x="8265600" y="4948560"/>
                  <a:ext cx="370440" cy="75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5" name="Line 20"/>
            <p:cNvSpPr/>
            <p:nvPr/>
          </p:nvSpPr>
          <p:spPr>
            <a:xfrm flipH="1">
              <a:off x="7640280" y="5025960"/>
              <a:ext cx="1027080" cy="1782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Rectangle 22"/>
          <p:cNvSpPr/>
          <p:nvPr/>
        </p:nvSpPr>
        <p:spPr>
          <a:xfrm>
            <a:off x="0" y="905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3"/>
          <p:cNvSpPr/>
          <p:nvPr/>
        </p:nvSpPr>
        <p:spPr>
          <a:xfrm>
            <a:off x="395280" y="1484280"/>
            <a:ext cx="8496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Z definice ví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.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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XSX´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 = α, (tj. X´ leží na rameni SY úhlu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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XSY , který je stejně velký, jako úhel 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2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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SX´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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X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4"/>
          <p:cNvSpPr/>
          <p:nvPr/>
        </p:nvSpPr>
        <p:spPr>
          <a:xfrm>
            <a:off x="468360" y="3284640"/>
            <a:ext cx="2519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ostup konstruk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.  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, α,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2.   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⇥ S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3.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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XSY;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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XSY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 = 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4.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</a:t>
            </a:r>
            <a:r>
              <a:rPr b="0" i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(S,S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5.  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X´; X´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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 ⇥ 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aoblený obdélník 24"/>
          <p:cNvSpPr/>
          <p:nvPr/>
        </p:nvSpPr>
        <p:spPr>
          <a:xfrm>
            <a:off x="6443640" y="26028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Skupina 25"/>
          <p:cNvGrpSpPr/>
          <p:nvPr/>
        </p:nvGrpSpPr>
        <p:grpSpPr>
          <a:xfrm>
            <a:off x="6948360" y="2349360"/>
            <a:ext cx="1944720" cy="1397520"/>
            <a:chOff x="6948360" y="2349360"/>
            <a:chExt cx="1944720" cy="1397520"/>
          </a:xfrm>
        </p:grpSpPr>
        <p:grpSp>
          <p:nvGrpSpPr>
            <p:cNvPr id="301" name="Skupina 25"/>
            <p:cNvGrpSpPr/>
            <p:nvPr/>
          </p:nvGrpSpPr>
          <p:grpSpPr>
            <a:xfrm>
              <a:off x="6948360" y="2349360"/>
              <a:ext cx="1944720" cy="1397520"/>
              <a:chOff x="6948360" y="2349360"/>
              <a:chExt cx="1944720" cy="1397520"/>
            </a:xfrm>
          </p:grpSpPr>
          <p:grpSp>
            <p:nvGrpSpPr>
              <p:cNvPr id="302" name="Skupina 23"/>
              <p:cNvGrpSpPr/>
              <p:nvPr/>
            </p:nvGrpSpPr>
            <p:grpSpPr>
              <a:xfrm>
                <a:off x="6948360" y="2349360"/>
                <a:ext cx="1944720" cy="1020240"/>
                <a:chOff x="6948360" y="2349360"/>
                <a:chExt cx="1944720" cy="1020240"/>
              </a:xfrm>
            </p:grpSpPr>
            <p:sp>
              <p:nvSpPr>
                <p:cNvPr id="303" name="AutoShape 19"/>
                <p:cNvSpPr/>
                <p:nvPr/>
              </p:nvSpPr>
              <p:spPr>
                <a:xfrm>
                  <a:off x="6948360" y="2349360"/>
                  <a:ext cx="1944720" cy="1020240"/>
                </a:xfrm>
                <a:prstGeom prst="triangle">
                  <a:avLst>
                    <a:gd name="adj" fmla="val 15917"/>
                  </a:avLst>
                </a:prstGeom>
                <a:solidFill>
                  <a:srgbClr val="ffffff"/>
                </a:solidFill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Text Box 27"/>
                <p:cNvSpPr/>
                <p:nvPr/>
              </p:nvSpPr>
              <p:spPr>
                <a:xfrm>
                  <a:off x="8028360" y="2997000"/>
                  <a:ext cx="4842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cs-CZ" sz="1800" spc="-1" strike="noStrike">
                      <a:solidFill>
                        <a:srgbClr val="009900"/>
                      </a:solidFill>
                      <a:latin typeface="Arial"/>
                      <a:ea typeface="Arial Unicode MS"/>
                    </a:rPr>
                    <a:t>α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Oblouk 29"/>
              <p:cNvSpPr/>
              <p:nvPr/>
            </p:nvSpPr>
            <p:spPr>
              <a:xfrm rot="14820000">
                <a:off x="7848000" y="2831400"/>
                <a:ext cx="792360" cy="792000"/>
              </a:xfrm>
              <a:custGeom>
                <a:avLst/>
                <a:gdLst/>
                <a:ahLst/>
                <a:rect l="l" t="t" r="r" b="b"/>
                <a:pathLst>
                  <a:path stroke="0" w="792553" h="792163">
                    <a:moveTo>
                      <a:pt x="396276" y="0"/>
                    </a:moveTo>
                    <a:cubicBezTo>
                      <a:pt x="615134" y="0"/>
                      <a:pt x="792553" y="177332"/>
                      <a:pt x="792553" y="396082"/>
                    </a:cubicBezTo>
                    <a:lnTo>
                      <a:pt x="396277" y="396082"/>
                    </a:lnTo>
                    <a:cubicBezTo>
                      <a:pt x="396277" y="264055"/>
                      <a:pt x="396276" y="132027"/>
                      <a:pt x="396276" y="0"/>
                    </a:cubicBezTo>
                    <a:close/>
                  </a:path>
                  <a:path fill="none" w="792553" h="792163">
                    <a:moveTo>
                      <a:pt x="396276" y="0"/>
                    </a:moveTo>
                    <a:cubicBezTo>
                      <a:pt x="615134" y="0"/>
                      <a:pt x="792553" y="177332"/>
                      <a:pt x="792553" y="396082"/>
                    </a:cubicBezTo>
                  </a:path>
                </a:pathLst>
              </a:custGeom>
              <a:noFill/>
              <a:ln w="9360">
                <a:solidFill>
                  <a:srgbClr val="3294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Přímá spojovací čára 27"/>
            <p:cNvSpPr/>
            <p:nvPr/>
          </p:nvSpPr>
          <p:spPr>
            <a:xfrm flipH="1">
              <a:off x="6948360" y="2349360"/>
              <a:ext cx="309600" cy="1020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římá spojovací čára 32"/>
          <p:cNvSpPr/>
          <p:nvPr/>
        </p:nvSpPr>
        <p:spPr>
          <a:xfrm>
            <a:off x="75564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"/>
          <p:cNvSpPr/>
          <p:nvPr/>
        </p:nvSpPr>
        <p:spPr>
          <a:xfrm>
            <a:off x="457200" y="549360"/>
            <a:ext cx="86868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Obraz kružnice:</a:t>
            </a:r>
            <a:r>
              <a:rPr b="0" lang="cs-CZ" sz="3600" spc="-1" strike="noStrike">
                <a:solidFill>
                  <a:srgbClr val="0070c0"/>
                </a:solidFill>
                <a:latin typeface="Constantia"/>
                <a:ea typeface="Arial Unicode MS"/>
              </a:rPr>
              <a:t> </a:t>
            </a:r>
            <a:r>
              <a:rPr b="0" i="1" lang="cs-CZ" sz="36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R(</a:t>
            </a:r>
            <a:r>
              <a:rPr b="0" i="1" lang="cs-CZ" sz="3600" spc="-1" strike="noStrike">
                <a:solidFill>
                  <a:srgbClr val="00b050"/>
                </a:solidFill>
                <a:latin typeface="Constantia"/>
                <a:ea typeface="Arial Unicode MS"/>
              </a:rPr>
              <a:t>S, </a:t>
            </a:r>
            <a:r>
              <a:rPr b="0" lang="cs-CZ" sz="3600" spc="-1" strike="noStrike">
                <a:solidFill>
                  <a:srgbClr val="00b050"/>
                </a:solidFill>
                <a:latin typeface="Constantia"/>
                <a:ea typeface="Arial Unicode MS"/>
              </a:rPr>
              <a:t>α</a:t>
            </a:r>
            <a:r>
              <a:rPr b="0" i="1" lang="cs-CZ" sz="36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): </a:t>
            </a:r>
            <a:r>
              <a:rPr b="0" lang="cs-CZ" sz="36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k(O,r) → </a:t>
            </a:r>
            <a:r>
              <a:rPr b="0" lang="cs-CZ" sz="36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k´(O´,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324000" y="1268280"/>
            <a:ext cx="813564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Z definice ví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1.  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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XSX´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 = α,  (tj. X´ leží na rameni SY úhlu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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XSY , který je stejně velký, jako úhel 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2. 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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SX´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 =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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X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3.   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ružnice jsou shodné a tedy jejich poloměry jsou shod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     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(každý bod kružnice </a:t>
            </a:r>
            <a:r>
              <a:rPr b="0" i="1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se zobrazí na bod kružnice </a:t>
            </a:r>
            <a:r>
              <a:rPr b="0" i="1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24000" y="2852640"/>
            <a:ext cx="2952720" cy="34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ostup konstruk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1.   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, α, k(O,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2.   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⇥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3.  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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OSX;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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OSX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 = 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4.   </a:t>
            </a:r>
            <a:r>
              <a:rPr b="0" i="1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; </a:t>
            </a:r>
            <a:r>
              <a:rPr b="0" i="1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(O,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5.   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O´; O´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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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 ⇥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6.   </a:t>
            </a:r>
            <a:r>
              <a:rPr b="0" i="1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´; </a:t>
            </a:r>
            <a:r>
              <a:rPr b="0" i="1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´(O´,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řesnější konstruk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1.   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; K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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 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(libovoln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2.    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⇥ 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3.  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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SY;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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KSY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 = 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4.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  </a:t>
            </a:r>
            <a:r>
              <a:rPr b="0" i="1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n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; n(S,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5. 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 K´; K´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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n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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 Unicode MS"/>
              </a:rPr>
              <a:t>6.   </a:t>
            </a:r>
            <a:r>
              <a:rPr b="0" i="1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´; </a:t>
            </a:r>
            <a:r>
              <a:rPr b="0" i="1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´(O´,K´O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4"/>
          <p:cNvCxnSpPr/>
          <p:nvPr/>
        </p:nvCxnSpPr>
        <p:spPr>
          <a:xfrm flipV="1" rot="10800000">
            <a:off x="7019280" y="2047680"/>
            <a:ext cx="310320" cy="1021320"/>
          </a:xfrm>
          <a:prstGeom prst="bentConnector3">
            <a:avLst>
              <a:gd name="adj1" fmla="val 49941"/>
            </a:avLst>
          </a:prstGeom>
          <a:ln w="76320">
            <a:solidFill>
              <a:srgbClr val="ffffff"/>
            </a:solidFill>
            <a:round/>
          </a:ln>
        </p:spPr>
      </p:cxnSp>
      <p:sp>
        <p:nvSpPr>
          <p:cNvPr id="312" name="Rectangle 5"/>
          <p:cNvSpPr/>
          <p:nvPr/>
        </p:nvSpPr>
        <p:spPr>
          <a:xfrm>
            <a:off x="7940520" y="2701800"/>
            <a:ext cx="4842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6"/>
          <p:cNvSpPr/>
          <p:nvPr/>
        </p:nvSpPr>
        <p:spPr>
          <a:xfrm>
            <a:off x="4295880" y="4356000"/>
            <a:ext cx="143964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4865760" y="4995720"/>
            <a:ext cx="4446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5921280" y="4460760"/>
            <a:ext cx="360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80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8000"/>
                </a:solidFill>
                <a:latin typeface="Constantia"/>
                <a:ea typeface="Arial Unicode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 flipH="1" flipV="1">
            <a:off x="3289320" y="4474800"/>
            <a:ext cx="2798640" cy="58680"/>
          </a:xfrm>
          <a:prstGeom prst="line">
            <a:avLst/>
          </a:prstGeom>
          <a:ln cap="rnd" w="19080">
            <a:solidFill>
              <a:srgbClr val="626262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4834080" y="5703840"/>
            <a:ext cx="4442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1"/>
          <p:cNvSpPr/>
          <p:nvPr/>
        </p:nvSpPr>
        <p:spPr>
          <a:xfrm flipH="1">
            <a:off x="4228920" y="4562640"/>
            <a:ext cx="1842840" cy="2106360"/>
          </a:xfrm>
          <a:prstGeom prst="line">
            <a:avLst/>
          </a:prstGeom>
          <a:ln cap="rnd" w="19080">
            <a:solidFill>
              <a:srgbClr val="626262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2"/>
          <p:cNvSpPr/>
          <p:nvPr/>
        </p:nvSpPr>
        <p:spPr>
          <a:xfrm flipH="1">
            <a:off x="3557520" y="4538520"/>
            <a:ext cx="2527200" cy="995400"/>
          </a:xfrm>
          <a:prstGeom prst="line">
            <a:avLst/>
          </a:prstGeom>
          <a:ln cap="rnd" w="19080">
            <a:solidFill>
              <a:srgbClr val="626262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3635280" y="5337000"/>
            <a:ext cx="474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3419640" y="4381560"/>
            <a:ext cx="4442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5"/>
          <p:cNvSpPr/>
          <p:nvPr/>
        </p:nvSpPr>
        <p:spPr>
          <a:xfrm>
            <a:off x="4429080" y="2905200"/>
            <a:ext cx="3311640" cy="3311280"/>
          </a:xfrm>
          <a:prstGeom prst="ellipse">
            <a:avLst/>
          </a:prstGeom>
          <a:noFill/>
          <a:ln cap="rnd" w="19080">
            <a:solidFill>
              <a:srgbClr val="ff99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6"/>
          <p:cNvSpPr/>
          <p:nvPr/>
        </p:nvSpPr>
        <p:spPr>
          <a:xfrm>
            <a:off x="4892760" y="3370320"/>
            <a:ext cx="2374920" cy="2374920"/>
          </a:xfrm>
          <a:prstGeom prst="ellipse">
            <a:avLst/>
          </a:prstGeom>
          <a:noFill/>
          <a:ln cap="rnd" w="19080">
            <a:solidFill>
              <a:srgbClr val="4747ff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7"/>
          <p:cNvSpPr/>
          <p:nvPr/>
        </p:nvSpPr>
        <p:spPr>
          <a:xfrm>
            <a:off x="4735440" y="4417920"/>
            <a:ext cx="4446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O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4394160" y="5065560"/>
            <a:ext cx="4446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K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9"/>
          <p:cNvSpPr/>
          <p:nvPr/>
        </p:nvSpPr>
        <p:spPr>
          <a:xfrm>
            <a:off x="4156200" y="3774960"/>
            <a:ext cx="1439640" cy="1440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0"/>
          <p:cNvSpPr/>
          <p:nvPr/>
        </p:nvSpPr>
        <p:spPr>
          <a:xfrm>
            <a:off x="5608800" y="3913200"/>
            <a:ext cx="455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k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1"/>
          <p:cNvSpPr/>
          <p:nvPr/>
        </p:nvSpPr>
        <p:spPr>
          <a:xfrm>
            <a:off x="3987720" y="4853160"/>
            <a:ext cx="5968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6721560" y="2720880"/>
            <a:ext cx="5968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Constantia"/>
                <a:ea typeface="Arial Unicode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3"/>
          <p:cNvSpPr/>
          <p:nvPr/>
        </p:nvSpPr>
        <p:spPr>
          <a:xfrm>
            <a:off x="7020000" y="3584520"/>
            <a:ext cx="5968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cs-CZ" sz="1800" spc="-1" strike="noStrike">
                <a:solidFill>
                  <a:srgbClr val="4747ff"/>
                </a:solidFill>
                <a:latin typeface="Constantia"/>
                <a:ea typeface="Arial Unicode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4"/>
          <p:cNvSpPr/>
          <p:nvPr/>
        </p:nvSpPr>
        <p:spPr>
          <a:xfrm flipH="1">
            <a:off x="3417840" y="4560840"/>
            <a:ext cx="2635200" cy="1314360"/>
          </a:xfrm>
          <a:prstGeom prst="line">
            <a:avLst/>
          </a:prstGeom>
          <a:ln cap="rnd" w="19080">
            <a:solidFill>
              <a:srgbClr val="626262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aoblený obdélník 32"/>
          <p:cNvSpPr/>
          <p:nvPr/>
        </p:nvSpPr>
        <p:spPr>
          <a:xfrm>
            <a:off x="6443640" y="18900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Skupina 33"/>
          <p:cNvGrpSpPr/>
          <p:nvPr/>
        </p:nvGrpSpPr>
        <p:grpSpPr>
          <a:xfrm>
            <a:off x="7020000" y="1916280"/>
            <a:ext cx="1944720" cy="1399320"/>
            <a:chOff x="7020000" y="1916280"/>
            <a:chExt cx="1944720" cy="1399320"/>
          </a:xfrm>
        </p:grpSpPr>
        <p:grpSp>
          <p:nvGrpSpPr>
            <p:cNvPr id="334" name="Skupina 25"/>
            <p:cNvGrpSpPr/>
            <p:nvPr/>
          </p:nvGrpSpPr>
          <p:grpSpPr>
            <a:xfrm>
              <a:off x="7020000" y="1916280"/>
              <a:ext cx="1944720" cy="1399320"/>
              <a:chOff x="7020000" y="1916280"/>
              <a:chExt cx="1944720" cy="1399320"/>
            </a:xfrm>
          </p:grpSpPr>
          <p:grpSp>
            <p:nvGrpSpPr>
              <p:cNvPr id="335" name="Skupina 23"/>
              <p:cNvGrpSpPr/>
              <p:nvPr/>
            </p:nvGrpSpPr>
            <p:grpSpPr>
              <a:xfrm>
                <a:off x="7020000" y="1916280"/>
                <a:ext cx="1944720" cy="1021680"/>
                <a:chOff x="7020000" y="1916280"/>
                <a:chExt cx="1944720" cy="1021680"/>
              </a:xfrm>
            </p:grpSpPr>
            <p:sp>
              <p:nvSpPr>
                <p:cNvPr id="336" name="AutoShape 19"/>
                <p:cNvSpPr/>
                <p:nvPr/>
              </p:nvSpPr>
              <p:spPr>
                <a:xfrm>
                  <a:off x="7020000" y="1916280"/>
                  <a:ext cx="1944720" cy="1021680"/>
                </a:xfrm>
                <a:prstGeom prst="triangle">
                  <a:avLst>
                    <a:gd name="adj" fmla="val 15917"/>
                  </a:avLst>
                </a:prstGeom>
                <a:solidFill>
                  <a:srgbClr val="ffffff"/>
                </a:solidFill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27"/>
                <p:cNvSpPr/>
                <p:nvPr/>
              </p:nvSpPr>
              <p:spPr>
                <a:xfrm>
                  <a:off x="8100000" y="2565360"/>
                  <a:ext cx="4842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cs-CZ" sz="1800" spc="-1" strike="noStrike">
                      <a:solidFill>
                        <a:srgbClr val="009900"/>
                      </a:solidFill>
                      <a:latin typeface="Arial"/>
                      <a:ea typeface="Arial Unicode MS"/>
                    </a:rPr>
                    <a:t>α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Oblouk 37"/>
              <p:cNvSpPr/>
              <p:nvPr/>
            </p:nvSpPr>
            <p:spPr>
              <a:xfrm rot="14820000">
                <a:off x="7919640" y="2400120"/>
                <a:ext cx="792000" cy="792000"/>
              </a:xfrm>
              <a:custGeom>
                <a:avLst/>
                <a:gdLst/>
                <a:ahLst/>
                <a:rect l="l" t="t" r="r" b="b"/>
                <a:pathLst>
                  <a:path stroke="0" w="791568" h="792162">
                    <a:moveTo>
                      <a:pt x="395784" y="0"/>
                    </a:moveTo>
                    <a:cubicBezTo>
                      <a:pt x="614369" y="0"/>
                      <a:pt x="791568" y="177332"/>
                      <a:pt x="791568" y="396081"/>
                    </a:cubicBezTo>
                    <a:lnTo>
                      <a:pt x="395784" y="396081"/>
                    </a:lnTo>
                    <a:lnTo>
                      <a:pt x="395784" y="0"/>
                    </a:lnTo>
                    <a:close/>
                  </a:path>
                  <a:path fill="none" w="791568" h="792162">
                    <a:moveTo>
                      <a:pt x="395784" y="0"/>
                    </a:moveTo>
                    <a:cubicBezTo>
                      <a:pt x="614369" y="0"/>
                      <a:pt x="791568" y="177332"/>
                      <a:pt x="791568" y="396081"/>
                    </a:cubicBezTo>
                  </a:path>
                </a:pathLst>
              </a:custGeom>
              <a:noFill/>
              <a:ln w="9360">
                <a:solidFill>
                  <a:srgbClr val="3294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Přímá spojovací čára 35"/>
            <p:cNvSpPr/>
            <p:nvPr/>
          </p:nvSpPr>
          <p:spPr>
            <a:xfrm flipH="1">
              <a:off x="7020000" y="1916280"/>
              <a:ext cx="309600" cy="10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Přímá spojovací čára 40"/>
          <p:cNvSpPr/>
          <p:nvPr/>
        </p:nvSpPr>
        <p:spPr>
          <a:xfrm>
            <a:off x="75564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"/>
          <p:cNvSpPr/>
          <p:nvPr/>
        </p:nvSpPr>
        <p:spPr>
          <a:xfrm>
            <a:off x="457200" y="476280"/>
            <a:ext cx="82296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Obraz útvaru: </a:t>
            </a:r>
            <a:r>
              <a:rPr b="0" i="1" lang="cs-CZ" sz="44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R(</a:t>
            </a:r>
            <a:r>
              <a:rPr b="0" i="1" lang="cs-CZ" sz="4400" spc="-1" strike="noStrike">
                <a:solidFill>
                  <a:srgbClr val="00b050"/>
                </a:solidFill>
                <a:latin typeface="Constantia"/>
                <a:ea typeface="Arial Unicode MS"/>
              </a:rPr>
              <a:t>S, </a:t>
            </a:r>
            <a:r>
              <a:rPr b="0" lang="cs-CZ" sz="4400" spc="-1" strike="noStrike">
                <a:solidFill>
                  <a:srgbClr val="00b050"/>
                </a:solidFill>
                <a:latin typeface="Constantia"/>
                <a:ea typeface="Arial Unicode MS"/>
              </a:rPr>
              <a:t>α</a:t>
            </a:r>
            <a:r>
              <a:rPr b="0" i="1" lang="cs-CZ" sz="44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)</a:t>
            </a:r>
            <a:r>
              <a:rPr b="0" lang="cs-CZ" sz="44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:</a:t>
            </a:r>
            <a:r>
              <a:rPr b="0" i="1" lang="cs-CZ" sz="44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 </a:t>
            </a:r>
            <a:r>
              <a:rPr b="0" lang="cs-CZ" sz="44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u → </a:t>
            </a:r>
            <a:r>
              <a:rPr b="0" lang="cs-CZ" sz="44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u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468360" y="1339920"/>
            <a:ext cx="85359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nožinou obrazů všech bodů útvaru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je útvar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U´,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terý je s útvarem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U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hodn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ačí nám tedy, pokud zobrazíme vrcholy útvaru a tyto obrazy vrcholů spojí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ř.: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R(S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,a): 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KLM →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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K´L´M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468360" y="4437000"/>
            <a:ext cx="2952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ostup konstruk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.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LM, S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2.  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´; </a:t>
            </a:r>
            <a:r>
              <a:rPr b="0" i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R(S,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α</a:t>
            </a:r>
            <a:r>
              <a:rPr b="0" i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):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K → K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3.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  L´;</a:t>
            </a:r>
            <a:r>
              <a:rPr b="0" lang="cs-CZ" sz="1800" spc="-1" strike="noStrike">
                <a:solidFill>
                  <a:srgbClr val="00005c"/>
                </a:solidFill>
                <a:latin typeface="Constantia"/>
                <a:ea typeface="Arial Unicode MS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R(S,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α</a:t>
            </a:r>
            <a:r>
              <a:rPr b="0" i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):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L → L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4.  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´; </a:t>
            </a:r>
            <a:r>
              <a:rPr b="0" i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R(S,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α</a:t>
            </a:r>
            <a:r>
              <a:rPr b="0" i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):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M → M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5.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K´L´M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AutoShape 9"/>
          <p:cNvCxnSpPr/>
          <p:nvPr/>
        </p:nvCxnSpPr>
        <p:spPr>
          <a:xfrm flipV="1" rot="10800000">
            <a:off x="6908040" y="2053800"/>
            <a:ext cx="310320" cy="1021680"/>
          </a:xfrm>
          <a:prstGeom prst="bentConnector3">
            <a:avLst>
              <a:gd name="adj1" fmla="val 49941"/>
            </a:avLst>
          </a:prstGeom>
          <a:ln w="76320">
            <a:solidFill>
              <a:srgbClr val="ffffff"/>
            </a:solidFill>
            <a:round/>
          </a:ln>
        </p:spPr>
      </p:cxnSp>
      <p:sp>
        <p:nvSpPr>
          <p:cNvPr id="345" name="Text Box 14"/>
          <p:cNvSpPr/>
          <p:nvPr/>
        </p:nvSpPr>
        <p:spPr>
          <a:xfrm>
            <a:off x="5610240" y="2655720"/>
            <a:ext cx="514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5"/>
          <p:cNvSpPr/>
          <p:nvPr/>
        </p:nvSpPr>
        <p:spPr>
          <a:xfrm>
            <a:off x="3665520" y="3657600"/>
            <a:ext cx="514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6146640" y="5611680"/>
            <a:ext cx="51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7"/>
          <p:cNvSpPr/>
          <p:nvPr/>
        </p:nvSpPr>
        <p:spPr>
          <a:xfrm rot="2066400">
            <a:off x="4079880" y="3057120"/>
            <a:ext cx="2930400" cy="1623960"/>
          </a:xfrm>
          <a:prstGeom prst="triangle">
            <a:avLst>
              <a:gd name="adj" fmla="val 3950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5208480" y="5075280"/>
            <a:ext cx="360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8000"/>
                </a:solidFill>
                <a:latin typeface="Arial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8000"/>
                </a:solidFill>
                <a:latin typeface="Arial"/>
                <a:ea typeface="Arial Unicode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3"/>
          <p:cNvSpPr/>
          <p:nvPr/>
        </p:nvSpPr>
        <p:spPr>
          <a:xfrm>
            <a:off x="5370480" y="5175360"/>
            <a:ext cx="1873440" cy="406440"/>
          </a:xfrm>
          <a:prstGeom prst="line">
            <a:avLst/>
          </a:prstGeom>
          <a:ln w="19080">
            <a:solidFill>
              <a:srgbClr val="2fff2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4"/>
          <p:cNvSpPr/>
          <p:nvPr/>
        </p:nvSpPr>
        <p:spPr>
          <a:xfrm flipV="1">
            <a:off x="5365800" y="4747680"/>
            <a:ext cx="1869840" cy="423360"/>
          </a:xfrm>
          <a:prstGeom prst="line">
            <a:avLst/>
          </a:prstGeom>
          <a:ln w="19080">
            <a:solidFill>
              <a:srgbClr val="2fff2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5"/>
          <p:cNvSpPr/>
          <p:nvPr/>
        </p:nvSpPr>
        <p:spPr>
          <a:xfrm flipV="1">
            <a:off x="5364000" y="1971360"/>
            <a:ext cx="582840" cy="3203640"/>
          </a:xfrm>
          <a:prstGeom prst="line">
            <a:avLst/>
          </a:prstGeom>
          <a:ln w="19080">
            <a:solidFill>
              <a:srgbClr val="ffa92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6"/>
          <p:cNvSpPr/>
          <p:nvPr/>
        </p:nvSpPr>
        <p:spPr>
          <a:xfrm flipH="1" flipV="1">
            <a:off x="4543920" y="2010960"/>
            <a:ext cx="825840" cy="3149640"/>
          </a:xfrm>
          <a:prstGeom prst="line">
            <a:avLst/>
          </a:prstGeom>
          <a:ln w="19080">
            <a:solidFill>
              <a:srgbClr val="ffa92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7"/>
          <p:cNvSpPr/>
          <p:nvPr/>
        </p:nvSpPr>
        <p:spPr>
          <a:xfrm flipH="1" flipV="1">
            <a:off x="3211200" y="3057120"/>
            <a:ext cx="2152440" cy="2104920"/>
          </a:xfrm>
          <a:prstGeom prst="line">
            <a:avLst/>
          </a:prstGeom>
          <a:ln w="19080">
            <a:solidFill>
              <a:srgbClr val="474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8"/>
          <p:cNvSpPr/>
          <p:nvPr/>
        </p:nvSpPr>
        <p:spPr>
          <a:xfrm flipH="1" flipV="1">
            <a:off x="2513880" y="4176000"/>
            <a:ext cx="2840400" cy="997920"/>
          </a:xfrm>
          <a:prstGeom prst="line">
            <a:avLst/>
          </a:prstGeom>
          <a:ln w="19080">
            <a:solidFill>
              <a:srgbClr val="474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9"/>
          <p:cNvSpPr/>
          <p:nvPr/>
        </p:nvSpPr>
        <p:spPr>
          <a:xfrm>
            <a:off x="4421160" y="4206960"/>
            <a:ext cx="1908360" cy="1908000"/>
          </a:xfrm>
          <a:prstGeom prst="ellipse">
            <a:avLst/>
          </a:prstGeom>
          <a:noFill/>
          <a:ln w="19080">
            <a:solidFill>
              <a:srgbClr val="2fff2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2"/>
          <p:cNvSpPr/>
          <p:nvPr/>
        </p:nvSpPr>
        <p:spPr>
          <a:xfrm>
            <a:off x="6154560" y="4875120"/>
            <a:ext cx="586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 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L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43"/>
          <p:cNvSpPr/>
          <p:nvPr/>
        </p:nvSpPr>
        <p:spPr>
          <a:xfrm>
            <a:off x="3211560" y="2998800"/>
            <a:ext cx="4317840" cy="4317840"/>
          </a:xfrm>
          <a:prstGeom prst="ellipse">
            <a:avLst/>
          </a:prstGeom>
          <a:noFill/>
          <a:ln w="19080">
            <a:solidFill>
              <a:srgbClr val="ffa92b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4"/>
          <p:cNvSpPr/>
          <p:nvPr/>
        </p:nvSpPr>
        <p:spPr>
          <a:xfrm>
            <a:off x="4659480" y="2687760"/>
            <a:ext cx="585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 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M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45"/>
          <p:cNvSpPr/>
          <p:nvPr/>
        </p:nvSpPr>
        <p:spPr>
          <a:xfrm>
            <a:off x="3268800" y="3075120"/>
            <a:ext cx="4174920" cy="4174920"/>
          </a:xfrm>
          <a:prstGeom prst="ellipse">
            <a:avLst/>
          </a:prstGeom>
          <a:noFill/>
          <a:ln w="19080">
            <a:solidFill>
              <a:srgbClr val="4747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6"/>
          <p:cNvSpPr/>
          <p:nvPr/>
        </p:nvSpPr>
        <p:spPr>
          <a:xfrm>
            <a:off x="3224160" y="4114800"/>
            <a:ext cx="585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 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K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7"/>
          <p:cNvSpPr/>
          <p:nvPr/>
        </p:nvSpPr>
        <p:spPr>
          <a:xfrm rot="540000">
            <a:off x="3519360" y="3106440"/>
            <a:ext cx="2930760" cy="1623960"/>
          </a:xfrm>
          <a:prstGeom prst="triangle">
            <a:avLst>
              <a:gd name="adj" fmla="val 39505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aoblený obdélník 48"/>
          <p:cNvSpPr/>
          <p:nvPr/>
        </p:nvSpPr>
        <p:spPr>
          <a:xfrm>
            <a:off x="6443640" y="26028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Skupina 49"/>
          <p:cNvGrpSpPr/>
          <p:nvPr/>
        </p:nvGrpSpPr>
        <p:grpSpPr>
          <a:xfrm>
            <a:off x="6875280" y="2133720"/>
            <a:ext cx="1944720" cy="1397520"/>
            <a:chOff x="6875280" y="2133720"/>
            <a:chExt cx="1944720" cy="1397520"/>
          </a:xfrm>
        </p:grpSpPr>
        <p:grpSp>
          <p:nvGrpSpPr>
            <p:cNvPr id="365" name="Skupina 25"/>
            <p:cNvGrpSpPr/>
            <p:nvPr/>
          </p:nvGrpSpPr>
          <p:grpSpPr>
            <a:xfrm>
              <a:off x="6875640" y="2133720"/>
              <a:ext cx="1944360" cy="1397520"/>
              <a:chOff x="6875640" y="2133720"/>
              <a:chExt cx="1944360" cy="1397520"/>
            </a:xfrm>
          </p:grpSpPr>
          <p:grpSp>
            <p:nvGrpSpPr>
              <p:cNvPr id="366" name="Skupina 23"/>
              <p:cNvGrpSpPr/>
              <p:nvPr/>
            </p:nvGrpSpPr>
            <p:grpSpPr>
              <a:xfrm>
                <a:off x="6875640" y="2133720"/>
                <a:ext cx="1944360" cy="1020240"/>
                <a:chOff x="6875640" y="2133720"/>
                <a:chExt cx="1944360" cy="1020240"/>
              </a:xfrm>
            </p:grpSpPr>
            <p:sp>
              <p:nvSpPr>
                <p:cNvPr id="367" name="AutoShape 19"/>
                <p:cNvSpPr/>
                <p:nvPr/>
              </p:nvSpPr>
              <p:spPr>
                <a:xfrm>
                  <a:off x="6875640" y="2133720"/>
                  <a:ext cx="1944360" cy="1020240"/>
                </a:xfrm>
                <a:prstGeom prst="triangle">
                  <a:avLst>
                    <a:gd name="adj" fmla="val 15917"/>
                  </a:avLst>
                </a:prstGeom>
                <a:solidFill>
                  <a:srgbClr val="ffffff"/>
                </a:solidFill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27"/>
                <p:cNvSpPr/>
                <p:nvPr/>
              </p:nvSpPr>
              <p:spPr>
                <a:xfrm>
                  <a:off x="7955640" y="2781360"/>
                  <a:ext cx="48384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cs-CZ" sz="1800" spc="-1" strike="noStrike">
                      <a:solidFill>
                        <a:srgbClr val="009900"/>
                      </a:solidFill>
                      <a:latin typeface="Arial"/>
                      <a:ea typeface="Arial Unicode MS"/>
                    </a:rPr>
                    <a:t>α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Oblouk 53"/>
              <p:cNvSpPr/>
              <p:nvPr/>
            </p:nvSpPr>
            <p:spPr>
              <a:xfrm rot="14820000">
                <a:off x="7775280" y="2615760"/>
                <a:ext cx="792360" cy="792000"/>
              </a:xfrm>
              <a:custGeom>
                <a:avLst/>
                <a:gdLst/>
                <a:ahLst/>
                <a:rect l="l" t="t" r="r" b="b"/>
                <a:pathLst>
                  <a:path stroke="0" w="792553" h="792163">
                    <a:moveTo>
                      <a:pt x="396276" y="0"/>
                    </a:moveTo>
                    <a:cubicBezTo>
                      <a:pt x="615134" y="0"/>
                      <a:pt x="792553" y="177332"/>
                      <a:pt x="792553" y="396082"/>
                    </a:cubicBezTo>
                    <a:lnTo>
                      <a:pt x="396277" y="396082"/>
                    </a:lnTo>
                    <a:cubicBezTo>
                      <a:pt x="396277" y="264055"/>
                      <a:pt x="396276" y="132027"/>
                      <a:pt x="396276" y="0"/>
                    </a:cubicBezTo>
                    <a:close/>
                  </a:path>
                  <a:path fill="none" w="792553" h="792163">
                    <a:moveTo>
                      <a:pt x="396276" y="0"/>
                    </a:moveTo>
                    <a:cubicBezTo>
                      <a:pt x="615134" y="0"/>
                      <a:pt x="792553" y="177332"/>
                      <a:pt x="792553" y="396082"/>
                    </a:cubicBezTo>
                  </a:path>
                </a:pathLst>
              </a:custGeom>
              <a:noFill/>
              <a:ln w="9360">
                <a:solidFill>
                  <a:srgbClr val="3294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Přímá spojovací čára 51"/>
            <p:cNvSpPr/>
            <p:nvPr/>
          </p:nvSpPr>
          <p:spPr>
            <a:xfrm flipH="1">
              <a:off x="6875280" y="2133720"/>
              <a:ext cx="309240" cy="1020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Přímá spojovací čára 56"/>
          <p:cNvSpPr/>
          <p:nvPr/>
        </p:nvSpPr>
        <p:spPr>
          <a:xfrm>
            <a:off x="75564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Příklad 1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826920" y="2133720"/>
            <a:ext cx="748836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estroj rovnostranný trojúhelník AB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 = 5cm, b = 5cm, c = 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Zobrazte ho ve shodnosti R(S, 45°):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ABC →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A´B´C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ro střed S platí: S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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⇥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B, |BS| = 2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aoblený obdélník 6"/>
          <p:cNvSpPr/>
          <p:nvPr/>
        </p:nvSpPr>
        <p:spPr>
          <a:xfrm>
            <a:off x="6443640" y="26028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Koblasa</dc:creator>
  <dc:description/>
  <dc:language>en-US</dc:language>
  <cp:lastModifiedBy>David Koblasa</cp:lastModifiedBy>
  <dcterms:modified xsi:type="dcterms:W3CDTF">2015-08-17T18:03:49Z</dcterms:modified>
  <cp:revision>35</cp:revision>
  <dc:subject/>
  <dc:title>Posunutí</dc:title>
</cp:coreProperties>
</file>