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2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3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4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FF0F3-135F-4B7C-A890-C273084F6B9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174F6-DCD1-4C63-A34C-B08119E4E41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08D20-692B-4315-B5F8-F07DEE2D1ED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EB3B-D655-4E83-B175-EBB0567C407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85FDAE-A823-4B94-814D-798C2ADE41C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9241-7227-456D-8F9F-F44C7B75AB7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7B341E-AFAC-4996-B84B-357FA0E44383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E470E-58F6-4171-AC8D-7FEB872CD03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5D22AA-8063-498C-BF04-1BBE2252B402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2B729-8A36-4550-8DD1-2E6BE2D055A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D419B9-38AD-42A1-8267-34AA07238FB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28C5E-D86E-437A-B30D-EDD4E908CAB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01201A-631A-4676-A085-A368808B6480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A196-2288-4176-AE30-BBD1C240386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5F171-A4B6-49C0-8B60-50FBBA798B7A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108FD-09F7-4440-BC19-27B5C7D6C3E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3473CC-C4B2-4034-A5B5-F31E4C7664D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C4290-640A-4C84-8E5E-D9732F3D399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B2862B-D71C-49EB-8B27-6D7ACD1805C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4EE8-7054-426A-93B2-D555EB345C2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88F1C8-A25A-4792-BCA0-BC00F83EF9F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EB20-7850-4675-9E53-272200744B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1972-D1F6-4A73-B743-FC66988C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AC6A-7B25-476B-9FAA-5CEA4D7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7126-2002-4F48-A79F-3E013AB33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A818D-DAC8-4AC0-9EBC-4DDB73A54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C76E2-6CC4-47EE-9A37-E4077BD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0D2EE-2A0A-4B0C-86C6-A88A9AA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EDC83-8379-4000-9FF4-07D2F3C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C5FD3-F129-4C7F-86E8-EB249105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19B8D-B715-4469-A2E5-F734717A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EDBC-794D-4CF8-81E0-4F4142B2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D557-55D3-46BC-883A-02F228F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70B44-E109-483D-8948-39ED34E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1A85-82F6-4B43-A481-76015D69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CFE2C-AB1D-41DD-B5F1-6B577A80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EBE23-3EC1-492B-9BFC-FBDC176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5204-5801-43EC-B5C7-450E636AF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9B32-898E-41F7-B2FD-8AA72DA680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FF6B-5D17-4EC1-80E9-7FA1BA35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B8A-24DB-476A-9972-8FFCC60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4EDD-AE71-412C-82BF-B2E76866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E83-937B-4D57-AA53-ED9CA3A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B568-E98F-48CA-B976-E3E02A4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8690-A6B8-43E4-B87E-9CEED5E5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BEB2-CD30-4713-A9D5-29D569E1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853-F1CB-4C81-BDFD-8EED7050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133B-B866-48B0-A53F-9FDA7E7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932D-262C-4766-82E4-3ADB98E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A16-D992-487D-AEB7-E6398D22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AC16-8B86-4F7C-AC35-890663803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E9D4B-4CE4-430C-B99C-FBC376783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85A3B-C48F-49EF-A3B7-057BE90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B76DE-7EC6-4BE7-A2DA-0189BFA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65F5-7F7A-4130-BBAA-58A2C76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B5E2E-248A-4456-BA33-15345718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C23BB-CC08-4643-B7D5-F8B73BEE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2C75B-F052-405E-9C83-0385FEB0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A17E5-B221-4D45-AB3F-6F4E117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C6E5F-FE96-4FD3-AB37-9A3E7EF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96477-33F0-4E77-980F-B6CAA69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BD10D-E53A-46B2-9171-538E27F7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03E9C-AAB2-4CD5-92CA-0FDF8F4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8548F-D9D2-4267-91A3-68C619F30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428AE-6FCE-4E73-8D7C-FBAB993E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CB8D-608F-40C1-B897-F5944CC8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965A5-CF1F-458B-B7B5-CE3D8870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B672B-DDF5-4FB1-ADD6-8E94490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0A9ED-08E0-4C83-B3A2-5C50BCFB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CDF84-80A6-4E50-923C-C3373BC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83905-F447-45BF-A05B-819976B7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5ED06-EDD6-4401-A82D-98D8D59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1109C-6BC8-4D03-A376-ADE7EBE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7A2D8-A628-460D-9842-D66B021D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CFCDF-89AD-482B-BA1C-F3B8681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5163A-6764-4395-85C8-E68C33D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A76A-924A-4A2E-BD35-16ACF050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16CD1-C55C-4D04-A719-C450925F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1BAA-1D2F-479F-B2A0-DEFB015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9AD3-2DB6-4D66-A6E5-B6302CC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2C45-9AD6-4E47-8499-A802FF9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3531A-8984-4AD9-BAA9-F6A3BA67B117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04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130905-AF78-4C13-8C02-C85424FD861A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95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C8D1AB-5B4C-48E5-ABBE-35BA8C45ADE4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141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D4CFA4-B965-4F20-B1BB-A4EFF02BCA83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1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C00209-A1AA-4800-B71F-A73F09B993F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3333cc"/>
                </a:solidFill>
                <a:latin typeface="Constantia"/>
              </a:rPr>
              <a:t>Osová souměrnost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20640" y="2133720"/>
            <a:ext cx="790272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4cm) , osová souměrno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(o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3cm. Najdi kružnici k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6cm) , osová souměrno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(o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6cm. Najdi kružnici k‘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3cm) , osová souměrno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(o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5cm. Najdi kružnici k‘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aoblený obdélník 5"/>
          <p:cNvSpPr/>
          <p:nvPr/>
        </p:nvSpPr>
        <p:spPr>
          <a:xfrm>
            <a:off x="6443640" y="33336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sová souměrnost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39640" y="1844640"/>
            <a:ext cx="8136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vá souměr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nepřímou shodností. Značí s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je dána přímkou (osou)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apisujem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(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) - osová souměrnost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s osou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55640" y="4508640"/>
            <a:ext cx="29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ápis: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O(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): A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→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A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539640" y="2708280"/>
            <a:ext cx="82090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uje takt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ždý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terý neleží na os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e zobrazí na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'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tak, že úsečka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A´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je kolm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a os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třed úsečky AA' leží na ose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B ϵ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zobrazí na bod B 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ám na se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B' =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Skupina 37"/>
          <p:cNvGrpSpPr/>
          <p:nvPr/>
        </p:nvGrpSpPr>
        <p:grpSpPr>
          <a:xfrm>
            <a:off x="4219920" y="4581360"/>
            <a:ext cx="3160440" cy="612360"/>
            <a:chOff x="4219920" y="4581360"/>
            <a:chExt cx="3160440" cy="612360"/>
          </a:xfrm>
        </p:grpSpPr>
        <p:sp>
          <p:nvSpPr>
            <p:cNvPr id="241" name="TextovéPole 31"/>
            <p:cNvSpPr/>
            <p:nvPr/>
          </p:nvSpPr>
          <p:spPr>
            <a:xfrm>
              <a:off x="5580000" y="4581360"/>
              <a:ext cx="18003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Constantia"/>
                  <a:ea typeface="Arial Unicode MS"/>
                </a:rPr>
                <a:t>osa souměrno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Přímá spojovací šipka 36"/>
            <p:cNvCxnSpPr/>
            <p:nvPr/>
          </p:nvCxnSpPr>
          <p:spPr>
            <a:xfrm flipH="1">
              <a:off x="4219920" y="4834800"/>
              <a:ext cx="1352160" cy="3592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arrow" w="med"/>
            </a:ln>
          </p:spPr>
        </p:cxnSp>
      </p:grpSp>
      <p:grpSp>
        <p:nvGrpSpPr>
          <p:cNvPr id="243" name="Skupina 36"/>
          <p:cNvGrpSpPr/>
          <p:nvPr/>
        </p:nvGrpSpPr>
        <p:grpSpPr>
          <a:xfrm>
            <a:off x="2484360" y="4437000"/>
            <a:ext cx="3382920" cy="2087640"/>
            <a:chOff x="2484360" y="4437000"/>
            <a:chExt cx="3382920" cy="2087640"/>
          </a:xfrm>
        </p:grpSpPr>
        <p:grpSp>
          <p:nvGrpSpPr>
            <p:cNvPr id="244" name="Skupina 29"/>
            <p:cNvGrpSpPr/>
            <p:nvPr/>
          </p:nvGrpSpPr>
          <p:grpSpPr>
            <a:xfrm>
              <a:off x="2484360" y="4437000"/>
              <a:ext cx="3382920" cy="2087640"/>
              <a:chOff x="2484360" y="4437000"/>
              <a:chExt cx="3382920" cy="2087640"/>
            </a:xfrm>
          </p:grpSpPr>
          <p:sp>
            <p:nvSpPr>
              <p:cNvPr id="245" name="Pravá složená závorka 40"/>
              <p:cNvSpPr/>
              <p:nvPr/>
            </p:nvSpPr>
            <p:spPr>
              <a:xfrm rot="5400000">
                <a:off x="4679640" y="5265360"/>
                <a:ext cx="215640" cy="129528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5400 h 1295280"/>
                  <a:gd name="textAreaBottom" fmla="*/ 128988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50"/>
                      <a:pt x="10800" y="300"/>
                    </a:cubicBezTo>
                    <a:lnTo>
                      <a:pt x="10800" y="10500"/>
                    </a:lnTo>
                    <a:cubicBezTo>
                      <a:pt x="10800" y="10650"/>
                      <a:pt x="16200" y="10800"/>
                      <a:pt x="21600" y="10800"/>
                    </a:cubicBezTo>
                    <a:cubicBezTo>
                      <a:pt x="16200" y="10800"/>
                      <a:pt x="10800" y="10950"/>
                      <a:pt x="10800" y="11100"/>
                    </a:cubicBezTo>
                    <a:lnTo>
                      <a:pt x="10800" y="21300"/>
                    </a:lnTo>
                    <a:cubicBezTo>
                      <a:pt x="10800" y="2145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Skupina 27"/>
              <p:cNvGrpSpPr/>
              <p:nvPr/>
            </p:nvGrpSpPr>
            <p:grpSpPr>
              <a:xfrm>
                <a:off x="2484360" y="4437000"/>
                <a:ext cx="3382920" cy="2087640"/>
                <a:chOff x="2484360" y="4437000"/>
                <a:chExt cx="3382920" cy="2087640"/>
              </a:xfrm>
            </p:grpSpPr>
            <p:grpSp>
              <p:nvGrpSpPr>
                <p:cNvPr id="247" name="Skupina 25"/>
                <p:cNvGrpSpPr/>
                <p:nvPr/>
              </p:nvGrpSpPr>
              <p:grpSpPr>
                <a:xfrm>
                  <a:off x="2484360" y="4437000"/>
                  <a:ext cx="3382920" cy="2087640"/>
                  <a:chOff x="2484360" y="4437000"/>
                  <a:chExt cx="3382920" cy="2087640"/>
                </a:xfrm>
              </p:grpSpPr>
              <p:grpSp>
                <p:nvGrpSpPr>
                  <p:cNvPr id="248" name="Skupina 17"/>
                  <p:cNvGrpSpPr/>
                  <p:nvPr/>
                </p:nvGrpSpPr>
                <p:grpSpPr>
                  <a:xfrm>
                    <a:off x="2844000" y="4437000"/>
                    <a:ext cx="2591280" cy="2087640"/>
                    <a:chOff x="2844000" y="4437000"/>
                    <a:chExt cx="2591280" cy="2087640"/>
                  </a:xfrm>
                </p:grpSpPr>
                <p:sp>
                  <p:nvSpPr>
                    <p:cNvPr id="249" name="Přímá spojovací čára 10"/>
                    <p:cNvSpPr/>
                    <p:nvPr/>
                  </p:nvSpPr>
                  <p:spPr>
                    <a:xfrm>
                      <a:off x="4139640" y="443700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Přímá spojovací čára 12"/>
                    <p:cNvSpPr/>
                    <p:nvPr/>
                  </p:nvSpPr>
                  <p:spPr>
                    <a:xfrm>
                      <a:off x="2844000" y="5805360"/>
                      <a:ext cx="259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Přímá spojovací čára 53"/>
                    <p:cNvSpPr/>
                    <p:nvPr/>
                  </p:nvSpPr>
                  <p:spPr>
                    <a:xfrm flipH="1">
                      <a:off x="4085280" y="4706640"/>
                      <a:ext cx="107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Přímá spojovací čára 54"/>
                    <p:cNvSpPr/>
                    <p:nvPr/>
                  </p:nvSpPr>
                  <p:spPr>
                    <a:xfrm>
                      <a:off x="5435280" y="5759640"/>
                      <a:ext cx="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Přímá spojovací čára 55"/>
                    <p:cNvSpPr/>
                    <p:nvPr/>
                  </p:nvSpPr>
                  <p:spPr>
                    <a:xfrm>
                      <a:off x="2844000" y="5759640"/>
                      <a:ext cx="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4" name="TextovéPole 18"/>
                  <p:cNvSpPr/>
                  <p:nvPr/>
                </p:nvSpPr>
                <p:spPr>
                  <a:xfrm>
                    <a:off x="4140000" y="6164640"/>
                    <a:ext cx="287640" cy="32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i="1" lang="cs-CZ" sz="1600" spc="-1" strike="noStrike">
                        <a:solidFill>
                          <a:srgbClr val="000000"/>
                        </a:solidFill>
                        <a:latin typeface="Constantia"/>
                        <a:ea typeface="Arial Unicode MS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TextovéPole 19"/>
                  <p:cNvSpPr/>
                  <p:nvPr/>
                </p:nvSpPr>
                <p:spPr>
                  <a:xfrm>
                    <a:off x="2484360" y="5660640"/>
                    <a:ext cx="359640" cy="32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i="1" lang="cs-CZ" sz="1600" spc="-1" strike="noStrike">
                        <a:solidFill>
                          <a:srgbClr val="000000"/>
                        </a:solidFill>
                        <a:latin typeface="Constantia"/>
                        <a:ea typeface="Arial Unicode MS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TextovéPole 20"/>
                  <p:cNvSpPr/>
                  <p:nvPr/>
                </p:nvSpPr>
                <p:spPr>
                  <a:xfrm>
                    <a:off x="5435640" y="5660640"/>
                    <a:ext cx="431640" cy="32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i="1" lang="cs-CZ" sz="1600" spc="-1" strike="noStrike">
                        <a:solidFill>
                          <a:srgbClr val="000000"/>
                        </a:solidFill>
                        <a:latin typeface="Constantia"/>
                        <a:ea typeface="Arial Unicode MS"/>
                      </a:rPr>
                      <a:t>A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TextovéPole 22"/>
                  <p:cNvSpPr/>
                  <p:nvPr/>
                </p:nvSpPr>
                <p:spPr>
                  <a:xfrm>
                    <a:off x="4211640" y="4508640"/>
                    <a:ext cx="719640" cy="32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i="1" lang="cs-CZ" sz="1600" spc="-1" strike="noStrike">
                        <a:solidFill>
                          <a:srgbClr val="000000"/>
                        </a:solidFill>
                        <a:latin typeface="Constantia"/>
                        <a:ea typeface="Arial Unicode MS"/>
                      </a:rPr>
                      <a:t>B = B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blouk 50"/>
                  <p:cNvSpPr/>
                  <p:nvPr/>
                </p:nvSpPr>
                <p:spPr>
                  <a:xfrm>
                    <a:off x="3833640" y="5516640"/>
                    <a:ext cx="609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609855" h="609796">
                        <a:moveTo>
                          <a:pt x="304927" y="0"/>
                        </a:moveTo>
                        <a:cubicBezTo>
                          <a:pt x="473334" y="0"/>
                          <a:pt x="609855" y="136507"/>
                          <a:pt x="609855" y="304898"/>
                        </a:cubicBezTo>
                        <a:lnTo>
                          <a:pt x="304928" y="304898"/>
                        </a:lnTo>
                        <a:cubicBezTo>
                          <a:pt x="304928" y="203265"/>
                          <a:pt x="304927" y="101633"/>
                          <a:pt x="304927" y="0"/>
                        </a:cubicBezTo>
                        <a:close/>
                      </a:path>
                      <a:path fill="none" w="609855" h="609796">
                        <a:moveTo>
                          <a:pt x="304927" y="0"/>
                        </a:moveTo>
                        <a:cubicBezTo>
                          <a:pt x="473334" y="0"/>
                          <a:pt x="609855" y="136507"/>
                          <a:pt x="609855" y="30489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TextovéPole 24"/>
                <p:cNvSpPr/>
                <p:nvPr/>
              </p:nvSpPr>
              <p:spPr>
                <a:xfrm>
                  <a:off x="4139640" y="5471640"/>
                  <a:ext cx="2156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cs-CZ" sz="1800" spc="-1" strike="noStrike">
                      <a:solidFill>
                        <a:srgbClr val="ff0000"/>
                      </a:solidFill>
                      <a:latin typeface="Constantia"/>
                      <a:ea typeface="Arial Unicode MS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Pravá složená závorka 42"/>
              <p:cNvSpPr/>
              <p:nvPr/>
            </p:nvSpPr>
            <p:spPr>
              <a:xfrm rot="5400000">
                <a:off x="3384360" y="5287680"/>
                <a:ext cx="215640" cy="129528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5400 h 1295280"/>
                  <a:gd name="textAreaBottom" fmla="*/ 128988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50"/>
                      <a:pt x="10800" y="300"/>
                    </a:cubicBezTo>
                    <a:lnTo>
                      <a:pt x="10800" y="10500"/>
                    </a:lnTo>
                    <a:cubicBezTo>
                      <a:pt x="10800" y="10650"/>
                      <a:pt x="16200" y="10800"/>
                      <a:pt x="21600" y="10800"/>
                    </a:cubicBezTo>
                    <a:cubicBezTo>
                      <a:pt x="16200" y="10800"/>
                      <a:pt x="10800" y="10950"/>
                      <a:pt x="10800" y="11100"/>
                    </a:cubicBezTo>
                    <a:lnTo>
                      <a:pt x="10800" y="21300"/>
                    </a:lnTo>
                    <a:cubicBezTo>
                      <a:pt x="10800" y="2145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ovéPole 35"/>
            <p:cNvSpPr/>
            <p:nvPr/>
          </p:nvSpPr>
          <p:spPr>
            <a:xfrm>
              <a:off x="3816000" y="5516640"/>
              <a:ext cx="359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Constantia"/>
                  <a:ea typeface="Arial Unicode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6588000" y="5661000"/>
            <a:ext cx="1266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sová souměrnost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11280" y="1628640"/>
            <a:ext cx="79200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b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množina samodružných bodů) jsou ty body, který lež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na ose souměrnosti (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přím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dvě možnost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ts val="25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os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ts val="25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šechny přímky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kolm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a osu 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kružnice</a:t>
            </a:r>
            <a:r>
              <a:rPr b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sou všechny kružnice, které mají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třed na 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 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0003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Zobrazení bodu: O(</a:t>
            </a:r>
            <a:r>
              <a:rPr b="0" lang="cs-CZ" sz="5000" spc="-1" strike="noStrike">
                <a:solidFill>
                  <a:srgbClr val="008000"/>
                </a:solidFill>
                <a:latin typeface="Constantia"/>
              </a:rPr>
              <a:t>o</a:t>
            </a: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):A </a:t>
            </a:r>
            <a:r>
              <a:rPr b="0" lang="cs-CZ" sz="5000" spc="-1" strike="noStrike">
                <a:solidFill>
                  <a:srgbClr val="3333cc"/>
                </a:solidFill>
                <a:latin typeface="Symbol"/>
              </a:rPr>
              <a:t></a:t>
            </a:r>
            <a:r>
              <a:rPr b="0" lang="cs-CZ" sz="5000" spc="-1" strike="noStrike">
                <a:solidFill>
                  <a:srgbClr val="ff3300"/>
                </a:solidFill>
                <a:latin typeface="Constantia"/>
              </a:rPr>
              <a:t>A´</a:t>
            </a:r>
            <a:r>
              <a:rPr b="0" lang="cs-CZ" sz="50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684360" y="3716280"/>
            <a:ext cx="2995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 A,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 p; 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o; A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 P; P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 k; 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P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 A´; A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862520" y="2879640"/>
            <a:ext cx="5857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904080" y="4919760"/>
            <a:ext cx="5857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 flipH="1">
            <a:off x="4487400" y="2176560"/>
            <a:ext cx="3181320" cy="3760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859280" y="5425920"/>
            <a:ext cx="585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20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489560" y="2513160"/>
            <a:ext cx="4071960" cy="4084560"/>
          </a:xfrm>
          <a:prstGeom prst="line">
            <a:avLst/>
          </a:prstGeom>
          <a:ln cap="rnd" w="19080">
            <a:solidFill>
              <a:srgbClr val="626262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4606920" y="2646360"/>
            <a:ext cx="2879640" cy="2879640"/>
          </a:xfrm>
          <a:prstGeom prst="ellipse">
            <a:avLst/>
          </a:prstGeom>
          <a:noFill/>
          <a:ln cap="rnd" w="19080">
            <a:solidFill>
              <a:srgbClr val="3366ff"/>
            </a:solidFill>
            <a:custDash>
              <a:ds d="4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8163000" y="5864400"/>
            <a:ext cx="585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7297560" y="3056040"/>
            <a:ext cx="586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2000" spc="-1" strike="noStrike">
                <a:solidFill>
                  <a:srgbClr val="3366ff"/>
                </a:solidFill>
                <a:latin typeface="Constantia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11280" y="2349360"/>
            <a:ext cx="3321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A´ leží na přímce kolmé k </a:t>
            </a:r>
            <a:r>
              <a:rPr b="0" lang="cs-CZ" sz="1600" spc="-1" strike="noStrike">
                <a:solidFill>
                  <a:srgbClr val="009900"/>
                </a:solidFill>
                <a:latin typeface="Arial"/>
                <a:ea typeface="Arial Unicode MS"/>
              </a:rPr>
              <a:t>ose</a:t>
            </a:r>
            <a:r>
              <a:rPr b="0" i="1" lang="cs-CZ" sz="1600" spc="-1" strike="noStrike">
                <a:solidFill>
                  <a:srgbClr val="009900"/>
                </a:solidFill>
                <a:latin typeface="Arial"/>
                <a:ea typeface="Arial Unicode MS"/>
              </a:rPr>
              <a:t> 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Osa 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ůlí úsečku AA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869080" y="3917880"/>
            <a:ext cx="5857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římá spojovací čára 13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aoblený obdélník 14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</a:rPr>
              <a:t>Obraz úsečky: O(</a:t>
            </a:r>
            <a:r>
              <a:rPr b="0" lang="cs-CZ" sz="4400" spc="-1" strike="noStrike">
                <a:solidFill>
                  <a:srgbClr val="008000"/>
                </a:solidFill>
                <a:latin typeface="Constantia"/>
              </a:rPr>
              <a:t>o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</a:rPr>
              <a:t>):AB → </a:t>
            </a:r>
            <a:r>
              <a:rPr b="0" lang="cs-CZ" sz="4400" spc="-1" strike="noStrike">
                <a:solidFill>
                  <a:srgbClr val="ff3300"/>
                </a:solidFill>
                <a:latin typeface="Constantia"/>
              </a:rPr>
              <a:t>A´B´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95280" y="3311640"/>
            <a:ext cx="317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 AB,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 a; 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o; A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 P; P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P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 A´; A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6.  b; 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o; B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7.  Q; Q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8.  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Q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Q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9.  B´; B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88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.  A´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6215040" y="5262480"/>
            <a:ext cx="527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4021200" y="3373560"/>
            <a:ext cx="2589120" cy="2866320"/>
            <a:chOff x="4021200" y="3373560"/>
            <a:chExt cx="2589120" cy="2866320"/>
          </a:xfrm>
        </p:grpSpPr>
        <p:sp>
          <p:nvSpPr>
            <p:cNvPr id="286" name="Oval 5"/>
            <p:cNvSpPr/>
            <p:nvPr/>
          </p:nvSpPr>
          <p:spPr>
            <a:xfrm>
              <a:off x="4021200" y="3373560"/>
              <a:ext cx="2589120" cy="2589120"/>
            </a:xfrm>
            <a:prstGeom prst="ellipse">
              <a:avLst/>
            </a:prstGeom>
            <a:noFill/>
            <a:ln cap="rnd" w="19080">
              <a:solidFill>
                <a:srgbClr val="4747ff"/>
              </a:solidFill>
              <a:custDash>
                <a:ds d="499000" sp="201000"/>
                <a:ds d="1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4778280" y="5875200"/>
              <a:ext cx="5256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4747ff"/>
                  </a:solidFill>
                  <a:latin typeface="Arial"/>
                  <a:ea typeface="Arial Unicode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7"/>
          <p:cNvSpPr/>
          <p:nvPr/>
        </p:nvSpPr>
        <p:spPr>
          <a:xfrm>
            <a:off x="5234040" y="4441680"/>
            <a:ext cx="527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8"/>
          <p:cNvGrpSpPr/>
          <p:nvPr/>
        </p:nvGrpSpPr>
        <p:grpSpPr>
          <a:xfrm>
            <a:off x="3916080" y="2232000"/>
            <a:ext cx="3506760" cy="4129200"/>
            <a:chOff x="3916080" y="2232000"/>
            <a:chExt cx="3506760" cy="4129200"/>
          </a:xfrm>
        </p:grpSpPr>
        <p:sp>
          <p:nvSpPr>
            <p:cNvPr id="290" name="Rectangle 9"/>
            <p:cNvSpPr/>
            <p:nvPr/>
          </p:nvSpPr>
          <p:spPr>
            <a:xfrm>
              <a:off x="4249440" y="5875200"/>
              <a:ext cx="524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0"/>
            <p:cNvSpPr/>
            <p:nvPr/>
          </p:nvSpPr>
          <p:spPr>
            <a:xfrm flipH="1">
              <a:off x="3916080" y="2232000"/>
              <a:ext cx="3506760" cy="41292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4251240" y="2765520"/>
            <a:ext cx="2190600" cy="1571040"/>
            <a:chOff x="4251240" y="2765520"/>
            <a:chExt cx="2190600" cy="1571040"/>
          </a:xfrm>
        </p:grpSpPr>
        <p:grpSp>
          <p:nvGrpSpPr>
            <p:cNvPr id="293" name="Group 12"/>
            <p:cNvGrpSpPr/>
            <p:nvPr/>
          </p:nvGrpSpPr>
          <p:grpSpPr>
            <a:xfrm>
              <a:off x="4251240" y="2765520"/>
              <a:ext cx="2190600" cy="1571040"/>
              <a:chOff x="4251240" y="2765520"/>
              <a:chExt cx="2190600" cy="157104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4251240" y="3583080"/>
                <a:ext cx="52524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5916600" y="2765520"/>
                <a:ext cx="52524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Line 15"/>
            <p:cNvSpPr/>
            <p:nvPr/>
          </p:nvSpPr>
          <p:spPr>
            <a:xfrm flipV="1">
              <a:off x="4410000" y="2901600"/>
              <a:ext cx="1674720" cy="84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6"/>
          <p:cNvGrpSpPr/>
          <p:nvPr/>
        </p:nvGrpSpPr>
        <p:grpSpPr>
          <a:xfrm>
            <a:off x="5880240" y="2446200"/>
            <a:ext cx="1260360" cy="1554480"/>
            <a:chOff x="5880240" y="2446200"/>
            <a:chExt cx="1260360" cy="1554480"/>
          </a:xfrm>
        </p:grpSpPr>
        <p:sp>
          <p:nvSpPr>
            <p:cNvPr id="298" name="Oval 17"/>
            <p:cNvSpPr/>
            <p:nvPr/>
          </p:nvSpPr>
          <p:spPr>
            <a:xfrm>
              <a:off x="5880240" y="2739960"/>
              <a:ext cx="1260360" cy="1260720"/>
            </a:xfrm>
            <a:prstGeom prst="ellipse">
              <a:avLst/>
            </a:prstGeom>
            <a:noFill/>
            <a:ln cap="rnd" w="19080">
              <a:solidFill>
                <a:srgbClr val="ff9900"/>
              </a:solidFill>
              <a:custDash>
                <a:ds d="499000" sp="201000"/>
                <a:ds d="1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"/>
            <p:cNvSpPr/>
            <p:nvPr/>
          </p:nvSpPr>
          <p:spPr>
            <a:xfrm>
              <a:off x="6362640" y="2446200"/>
              <a:ext cx="5256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ff9900"/>
                  </a:solidFill>
                  <a:latin typeface="Arial"/>
                  <a:ea typeface="Arial Unicode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9"/>
          <p:cNvGrpSpPr/>
          <p:nvPr/>
        </p:nvGrpSpPr>
        <p:grpSpPr>
          <a:xfrm>
            <a:off x="3635280" y="3090600"/>
            <a:ext cx="4129200" cy="3506760"/>
            <a:chOff x="3635280" y="3090600"/>
            <a:chExt cx="4129200" cy="3506760"/>
          </a:xfrm>
        </p:grpSpPr>
        <p:sp>
          <p:nvSpPr>
            <p:cNvPr id="301" name="Rectangle 20"/>
            <p:cNvSpPr/>
            <p:nvPr/>
          </p:nvSpPr>
          <p:spPr>
            <a:xfrm>
              <a:off x="7090200" y="5798520"/>
              <a:ext cx="524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626262"/>
                  </a:solidFill>
                  <a:latin typeface="Arial"/>
                  <a:ea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1"/>
            <p:cNvSpPr/>
            <p:nvPr/>
          </p:nvSpPr>
          <p:spPr>
            <a:xfrm flipH="1" flipV="1">
              <a:off x="3635280" y="3090600"/>
              <a:ext cx="4129200" cy="3506760"/>
            </a:xfrm>
            <a:prstGeom prst="line">
              <a:avLst/>
            </a:prstGeom>
            <a:ln cap="rnd" w="19080">
              <a:solidFill>
                <a:srgbClr val="626262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22"/>
          <p:cNvSpPr/>
          <p:nvPr/>
        </p:nvSpPr>
        <p:spPr>
          <a:xfrm>
            <a:off x="6345360" y="3154320"/>
            <a:ext cx="527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3"/>
          <p:cNvGrpSpPr/>
          <p:nvPr/>
        </p:nvGrpSpPr>
        <p:grpSpPr>
          <a:xfrm>
            <a:off x="5233680" y="2205000"/>
            <a:ext cx="3639960" cy="3105360"/>
            <a:chOff x="5233680" y="2205000"/>
            <a:chExt cx="3639960" cy="3105360"/>
          </a:xfrm>
        </p:grpSpPr>
        <p:sp>
          <p:nvSpPr>
            <p:cNvPr id="305" name="Rectangle 24"/>
            <p:cNvSpPr/>
            <p:nvPr/>
          </p:nvSpPr>
          <p:spPr>
            <a:xfrm>
              <a:off x="7882560" y="4653360"/>
              <a:ext cx="524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626262"/>
                  </a:solidFill>
                  <a:latin typeface="Arial"/>
                  <a:ea typeface="Arial Unicode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 flipH="1" flipV="1">
              <a:off x="5233680" y="2205000"/>
              <a:ext cx="3639960" cy="3105360"/>
            </a:xfrm>
            <a:prstGeom prst="line">
              <a:avLst/>
            </a:prstGeom>
            <a:ln cap="rnd" w="19080">
              <a:solidFill>
                <a:srgbClr val="626262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26"/>
          <p:cNvSpPr/>
          <p:nvPr/>
        </p:nvSpPr>
        <p:spPr>
          <a:xfrm>
            <a:off x="6880320" y="3586320"/>
            <a:ext cx="527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 flipV="1">
            <a:off x="6362640" y="3747960"/>
            <a:ext cx="671400" cy="1694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611280" y="1484280"/>
            <a:ext cx="3527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A´ leží na přímce kolmé k </a:t>
            </a:r>
            <a:r>
              <a:rPr b="0" lang="cs-CZ" sz="1600" spc="-1" strike="noStrike">
                <a:solidFill>
                  <a:srgbClr val="009900"/>
                </a:solidFill>
                <a:latin typeface="Arial"/>
                <a:ea typeface="Arial Unicode MS"/>
              </a:rPr>
              <a:t>ose</a:t>
            </a:r>
            <a:r>
              <a:rPr b="0" i="1" lang="cs-CZ" sz="1600" spc="-1" strike="noStrike">
                <a:solidFill>
                  <a:srgbClr val="009900"/>
                </a:solidFill>
                <a:latin typeface="Arial"/>
                <a:ea typeface="Arial Unicode MS"/>
              </a:rPr>
              <a:t> 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Osa 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ůlí úsečku AA´.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B´ leží na přímce kolmé k </a:t>
            </a:r>
            <a:r>
              <a:rPr b="0" lang="cs-CZ" sz="1600" spc="-1" strike="noStrike">
                <a:solidFill>
                  <a:srgbClr val="00b050"/>
                </a:solidFill>
                <a:latin typeface="Arial"/>
                <a:ea typeface="Arial Unicode MS"/>
              </a:rPr>
              <a:t>ose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Osa 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ůlí úsečku BB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aoblený obdélník 29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římá spojovací čára 30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457200" y="549360"/>
            <a:ext cx="8229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útvaru: O(</a:t>
            </a:r>
            <a:r>
              <a:rPr b="0" lang="cs-CZ" sz="4400" spc="-1" strike="noStrike">
                <a:solidFill>
                  <a:srgbClr val="00b050"/>
                </a:solidFill>
                <a:latin typeface="Constantia"/>
                <a:ea typeface="Arial Unicode MS"/>
              </a:rPr>
              <a:t>o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:u → </a:t>
            </a:r>
            <a:r>
              <a:rPr b="0" lang="cs-CZ" sz="44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u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9640" y="4076640"/>
            <a:ext cx="22748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BC,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A´; O(o):A → A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B´;</a:t>
            </a:r>
            <a:r>
              <a:rPr b="0" lang="cs-CZ" sz="1600" spc="-1" strike="noStrike">
                <a:solidFill>
                  <a:srgbClr val="00005c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(o):B → 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C´; O(o):C → C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ts val="2288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A´B´C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3708360" y="1917720"/>
            <a:ext cx="5263920" cy="4677840"/>
            <a:chOff x="3708360" y="1917720"/>
            <a:chExt cx="5263920" cy="4677840"/>
          </a:xfrm>
        </p:grpSpPr>
        <p:sp>
          <p:nvSpPr>
            <p:cNvPr id="315" name="Rectangle 4"/>
            <p:cNvSpPr/>
            <p:nvPr/>
          </p:nvSpPr>
          <p:spPr>
            <a:xfrm>
              <a:off x="7440480" y="3639960"/>
              <a:ext cx="3207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5"/>
            <p:cNvGrpSpPr/>
            <p:nvPr/>
          </p:nvGrpSpPr>
          <p:grpSpPr>
            <a:xfrm>
              <a:off x="3708360" y="1917720"/>
              <a:ext cx="5263920" cy="4677840"/>
              <a:chOff x="3708360" y="1917720"/>
              <a:chExt cx="5263920" cy="4677840"/>
            </a:xfrm>
          </p:grpSpPr>
          <p:sp>
            <p:nvSpPr>
              <p:cNvPr id="317" name="Rectangle 6"/>
              <p:cNvSpPr/>
              <p:nvPr/>
            </p:nvSpPr>
            <p:spPr>
              <a:xfrm>
                <a:off x="5457960" y="1941480"/>
                <a:ext cx="34272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Group 7"/>
              <p:cNvGrpSpPr/>
              <p:nvPr/>
            </p:nvGrpSpPr>
            <p:grpSpPr>
              <a:xfrm>
                <a:off x="3708360" y="1917720"/>
                <a:ext cx="5263920" cy="4677840"/>
                <a:chOff x="3708360" y="1917720"/>
                <a:chExt cx="5263920" cy="4677840"/>
              </a:xfrm>
            </p:grpSpPr>
            <p:sp>
              <p:nvSpPr>
                <p:cNvPr id="319" name="AutoShape 8"/>
                <p:cNvSpPr/>
                <p:nvPr/>
              </p:nvSpPr>
              <p:spPr>
                <a:xfrm>
                  <a:off x="4866480" y="2290680"/>
                  <a:ext cx="2579760" cy="1336680"/>
                </a:xfrm>
                <a:prstGeom prst="triangle">
                  <a:avLst>
                    <a:gd name="adj" fmla="val 26611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9"/>
                <p:cNvSpPr/>
                <p:nvPr/>
              </p:nvSpPr>
              <p:spPr>
                <a:xfrm>
                  <a:off x="4645800" y="3629160"/>
                  <a:ext cx="3427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0"/>
                <p:cNvSpPr/>
                <p:nvPr/>
              </p:nvSpPr>
              <p:spPr>
                <a:xfrm flipH="1">
                  <a:off x="3708360" y="2952720"/>
                  <a:ext cx="4749840" cy="32241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1"/>
                <p:cNvSpPr/>
                <p:nvPr/>
              </p:nvSpPr>
              <p:spPr>
                <a:xfrm>
                  <a:off x="3711240" y="5699160"/>
                  <a:ext cx="3427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8000"/>
                      </a:solidFill>
                      <a:latin typeface="Arial"/>
                      <a:ea typeface="Arial Unicode MS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2"/>
                <p:cNvSpPr/>
                <p:nvPr/>
              </p:nvSpPr>
              <p:spPr>
                <a:xfrm flipH="1" flipV="1">
                  <a:off x="4285440" y="2777760"/>
                  <a:ext cx="2606760" cy="3817800"/>
                </a:xfrm>
                <a:prstGeom prst="line">
                  <a:avLst/>
                </a:prstGeom>
                <a:ln cap="rnd" w="19080">
                  <a:solidFill>
                    <a:srgbClr val="626262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"/>
                <p:cNvSpPr/>
                <p:nvPr/>
              </p:nvSpPr>
              <p:spPr>
                <a:xfrm flipH="1" flipV="1">
                  <a:off x="5431320" y="2027160"/>
                  <a:ext cx="2712960" cy="4019760"/>
                </a:xfrm>
                <a:prstGeom prst="line">
                  <a:avLst/>
                </a:prstGeom>
                <a:ln cap="rnd" w="19080">
                  <a:solidFill>
                    <a:srgbClr val="626262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14"/>
                <p:cNvSpPr/>
                <p:nvPr/>
              </p:nvSpPr>
              <p:spPr>
                <a:xfrm>
                  <a:off x="4225680" y="3381480"/>
                  <a:ext cx="2908080" cy="2909880"/>
                </a:xfrm>
                <a:prstGeom prst="ellipse">
                  <a:avLst/>
                </a:prstGeom>
                <a:noFill/>
                <a:ln cap="rnd" w="19080">
                  <a:solidFill>
                    <a:srgbClr val="4747ff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5"/>
                <p:cNvSpPr/>
                <p:nvPr/>
              </p:nvSpPr>
              <p:spPr>
                <a:xfrm>
                  <a:off x="4660200" y="1917720"/>
                  <a:ext cx="4312080" cy="4314960"/>
                </a:xfrm>
                <a:prstGeom prst="ellipse">
                  <a:avLst/>
                </a:prstGeom>
                <a:noFill/>
                <a:ln cap="rnd" w="19080">
                  <a:solidFill>
                    <a:srgbClr val="ff99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6"/>
                <p:cNvSpPr/>
                <p:nvPr/>
              </p:nvSpPr>
              <p:spPr>
                <a:xfrm>
                  <a:off x="7887240" y="5683320"/>
                  <a:ext cx="523440" cy="75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C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"/>
                <p:cNvSpPr/>
                <p:nvPr/>
              </p:nvSpPr>
              <p:spPr>
                <a:xfrm flipV="1">
                  <a:off x="6510240" y="5873400"/>
                  <a:ext cx="1503720" cy="168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8"/>
                <p:cNvSpPr/>
                <p:nvPr/>
              </p:nvSpPr>
              <p:spPr>
                <a:xfrm flipH="1" flipV="1">
                  <a:off x="7450920" y="3649680"/>
                  <a:ext cx="569520" cy="2209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9"/>
                <p:cNvSpPr/>
                <p:nvPr/>
              </p:nvSpPr>
              <p:spPr>
                <a:xfrm flipV="1">
                  <a:off x="6505560" y="3649680"/>
                  <a:ext cx="935640" cy="2379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20"/>
                <p:cNvSpPr/>
                <p:nvPr/>
              </p:nvSpPr>
              <p:spPr>
                <a:xfrm>
                  <a:off x="7312680" y="3440160"/>
                  <a:ext cx="4554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21"/>
                <p:cNvSpPr/>
                <p:nvPr/>
              </p:nvSpPr>
              <p:spPr>
                <a:xfrm>
                  <a:off x="6356160" y="5851440"/>
                  <a:ext cx="63432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x </a:t>
                  </a:r>
                  <a:br>
                    <a:rPr sz="1800"/>
                  </a:b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A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2"/>
                <p:cNvSpPr/>
                <p:nvPr/>
              </p:nvSpPr>
              <p:spPr>
                <a:xfrm>
                  <a:off x="7593840" y="3629160"/>
                  <a:ext cx="686520" cy="75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= </a:t>
                  </a:r>
                  <a:r>
                    <a:rPr b="0" lang="cs-CZ" sz="1800" spc="-1" strike="noStrike">
                      <a:solidFill>
                        <a:srgbClr val="ff3300"/>
                      </a:solidFill>
                      <a:latin typeface="Arial"/>
                      <a:ea typeface="Arial Unicode MS"/>
                    </a:rPr>
                    <a:t>B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23"/>
          <p:cNvSpPr/>
          <p:nvPr/>
        </p:nvSpPr>
        <p:spPr>
          <a:xfrm>
            <a:off x="468360" y="1557360"/>
            <a:ext cx="52560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nožinou obrazů všech bodů útva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útva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terý je s útvare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ho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čí nám tedy, pokud zobrazíme vrch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útvaru a tyto obrazy vrcholů spoj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539640" y="2925720"/>
            <a:ext cx="3527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ř.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(o):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BC →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´B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6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79064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aoblený obdélník 28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římá spojovací čára 29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sově souměrný útvar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826920" y="1700280"/>
            <a:ext cx="7560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Útvar osově souměrn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odle přímky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takový útvar, který se v osové souměrnosti s oso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zobrazí sám na se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římka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e nazývá osou souměrnosti osově souměrného ú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684360" y="2852640"/>
            <a:ext cx="1228680" cy="2494440"/>
            <a:chOff x="684360" y="2852640"/>
            <a:chExt cx="1228680" cy="2494440"/>
          </a:xfrm>
        </p:grpSpPr>
        <p:grpSp>
          <p:nvGrpSpPr>
            <p:cNvPr id="346" name="Group 6"/>
            <p:cNvGrpSpPr/>
            <p:nvPr/>
          </p:nvGrpSpPr>
          <p:grpSpPr>
            <a:xfrm>
              <a:off x="684360" y="2852640"/>
              <a:ext cx="1228680" cy="2395800"/>
              <a:chOff x="684360" y="2852640"/>
              <a:chExt cx="1228680" cy="2395800"/>
            </a:xfrm>
          </p:grpSpPr>
          <p:sp>
            <p:nvSpPr>
              <p:cNvPr id="347" name="AutoShape 7"/>
              <p:cNvSpPr/>
              <p:nvPr/>
            </p:nvSpPr>
            <p:spPr>
              <a:xfrm>
                <a:off x="684360" y="3249720"/>
                <a:ext cx="1228680" cy="16826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8"/>
              <p:cNvSpPr/>
              <p:nvPr/>
            </p:nvSpPr>
            <p:spPr>
              <a:xfrm>
                <a:off x="1298520" y="2852640"/>
                <a:ext cx="0" cy="239580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9"/>
            <p:cNvSpPr/>
            <p:nvPr/>
          </p:nvSpPr>
          <p:spPr>
            <a:xfrm>
              <a:off x="1042920" y="5013360"/>
              <a:ext cx="32220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"/>
          <p:cNvGrpSpPr/>
          <p:nvPr/>
        </p:nvGrpSpPr>
        <p:grpSpPr>
          <a:xfrm>
            <a:off x="2700360" y="2924280"/>
            <a:ext cx="2878200" cy="1794240"/>
            <a:chOff x="2700360" y="2924280"/>
            <a:chExt cx="2878200" cy="1794240"/>
          </a:xfrm>
        </p:grpSpPr>
        <p:grpSp>
          <p:nvGrpSpPr>
            <p:cNvPr id="351" name="Group 11"/>
            <p:cNvGrpSpPr/>
            <p:nvPr/>
          </p:nvGrpSpPr>
          <p:grpSpPr>
            <a:xfrm>
              <a:off x="3089160" y="2924280"/>
              <a:ext cx="1747800" cy="1747800"/>
              <a:chOff x="3089160" y="2924280"/>
              <a:chExt cx="1747800" cy="1747800"/>
            </a:xfrm>
          </p:grpSpPr>
          <p:sp>
            <p:nvSpPr>
              <p:cNvPr id="352" name="Rectangle 12"/>
              <p:cNvSpPr/>
              <p:nvPr/>
            </p:nvSpPr>
            <p:spPr>
              <a:xfrm>
                <a:off x="3089160" y="3249720"/>
                <a:ext cx="1747800" cy="969840"/>
              </a:xfrm>
              <a:prstGeom prst="rect">
                <a:avLst/>
              </a:prstGeom>
              <a:noFill/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3963960" y="2924280"/>
                <a:ext cx="0" cy="174780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700360" y="3727440"/>
              <a:ext cx="2655720" cy="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"/>
            <p:cNvSpPr/>
            <p:nvPr/>
          </p:nvSpPr>
          <p:spPr>
            <a:xfrm>
              <a:off x="5162400" y="3701880"/>
              <a:ext cx="4161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6"/>
            <p:cNvSpPr/>
            <p:nvPr/>
          </p:nvSpPr>
          <p:spPr>
            <a:xfrm>
              <a:off x="3930480" y="4351320"/>
              <a:ext cx="4222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7"/>
          <p:cNvGrpSpPr/>
          <p:nvPr/>
        </p:nvGrpSpPr>
        <p:grpSpPr>
          <a:xfrm>
            <a:off x="4427640" y="4437000"/>
            <a:ext cx="2305080" cy="2095920"/>
            <a:chOff x="4427640" y="4437000"/>
            <a:chExt cx="2305080" cy="2095920"/>
          </a:xfrm>
        </p:grpSpPr>
        <p:sp>
          <p:nvSpPr>
            <p:cNvPr id="358" name="Rectangle 18"/>
            <p:cNvSpPr/>
            <p:nvPr/>
          </p:nvSpPr>
          <p:spPr>
            <a:xfrm>
              <a:off x="5003640" y="4940280"/>
              <a:ext cx="1078200" cy="1077840"/>
            </a:xfrm>
            <a:prstGeom prst="rect">
              <a:avLst/>
            </a:prstGeom>
            <a:noFill/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5543640" y="4437000"/>
              <a:ext cx="0" cy="201456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 flipH="1">
              <a:off x="4785840" y="4797360"/>
              <a:ext cx="1427400" cy="142416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 flipH="1">
              <a:off x="4498560" y="5472000"/>
              <a:ext cx="2017800" cy="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4859280" y="4797360"/>
              <a:ext cx="1424160" cy="142416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3"/>
            <p:cNvSpPr/>
            <p:nvPr/>
          </p:nvSpPr>
          <p:spPr>
            <a:xfrm>
              <a:off x="4427640" y="5445000"/>
              <a:ext cx="431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"/>
            <p:cNvSpPr/>
            <p:nvPr/>
          </p:nvSpPr>
          <p:spPr>
            <a:xfrm>
              <a:off x="5508720" y="6165720"/>
              <a:ext cx="431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>
              <a:off x="4716360" y="6165720"/>
              <a:ext cx="4320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6"/>
            <p:cNvSpPr/>
            <p:nvPr/>
          </p:nvSpPr>
          <p:spPr>
            <a:xfrm>
              <a:off x="6227640" y="5950080"/>
              <a:ext cx="505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7"/>
          <p:cNvGrpSpPr/>
          <p:nvPr/>
        </p:nvGrpSpPr>
        <p:grpSpPr>
          <a:xfrm>
            <a:off x="1332000" y="4437000"/>
            <a:ext cx="2519280" cy="2234160"/>
            <a:chOff x="1332000" y="4437000"/>
            <a:chExt cx="2519280" cy="2234160"/>
          </a:xfrm>
        </p:grpSpPr>
        <p:sp>
          <p:nvSpPr>
            <p:cNvPr id="368" name="Line 28"/>
            <p:cNvSpPr/>
            <p:nvPr/>
          </p:nvSpPr>
          <p:spPr>
            <a:xfrm>
              <a:off x="2587680" y="4437000"/>
              <a:ext cx="0" cy="201456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9"/>
            <p:cNvSpPr/>
            <p:nvPr/>
          </p:nvSpPr>
          <p:spPr>
            <a:xfrm>
              <a:off x="1332000" y="6021360"/>
              <a:ext cx="431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30"/>
            <p:cNvSpPr/>
            <p:nvPr/>
          </p:nvSpPr>
          <p:spPr>
            <a:xfrm>
              <a:off x="1835280" y="4869000"/>
              <a:ext cx="1501560" cy="1293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1"/>
            <p:cNvSpPr/>
            <p:nvPr/>
          </p:nvSpPr>
          <p:spPr>
            <a:xfrm flipV="1">
              <a:off x="1619280" y="5291280"/>
              <a:ext cx="1744560" cy="100944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2"/>
            <p:cNvSpPr/>
            <p:nvPr/>
          </p:nvSpPr>
          <p:spPr>
            <a:xfrm flipH="1" flipV="1">
              <a:off x="1833120" y="5299200"/>
              <a:ext cx="1747800" cy="1009440"/>
            </a:xfrm>
            <a:prstGeom prst="line">
              <a:avLst/>
            </a:prstGeom>
            <a:ln w="9360">
              <a:solidFill>
                <a:srgbClr val="095294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3"/>
            <p:cNvSpPr/>
            <p:nvPr/>
          </p:nvSpPr>
          <p:spPr>
            <a:xfrm>
              <a:off x="2556000" y="6303960"/>
              <a:ext cx="431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4"/>
            <p:cNvSpPr/>
            <p:nvPr/>
          </p:nvSpPr>
          <p:spPr>
            <a:xfrm>
              <a:off x="3419640" y="5950080"/>
              <a:ext cx="431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Arial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5"/>
          <p:cNvGrpSpPr/>
          <p:nvPr/>
        </p:nvGrpSpPr>
        <p:grpSpPr>
          <a:xfrm>
            <a:off x="6791040" y="2889360"/>
            <a:ext cx="1813320" cy="2032200"/>
            <a:chOff x="6791040" y="2889360"/>
            <a:chExt cx="1813320" cy="2032200"/>
          </a:xfrm>
        </p:grpSpPr>
        <p:grpSp>
          <p:nvGrpSpPr>
            <p:cNvPr id="376" name="Group 36"/>
            <p:cNvGrpSpPr/>
            <p:nvPr/>
          </p:nvGrpSpPr>
          <p:grpSpPr>
            <a:xfrm>
              <a:off x="6791040" y="2889360"/>
              <a:ext cx="1813320" cy="2032200"/>
              <a:chOff x="6791040" y="2889360"/>
              <a:chExt cx="1813320" cy="2032200"/>
            </a:xfrm>
          </p:grpSpPr>
          <p:sp>
            <p:nvSpPr>
              <p:cNvPr id="377" name="Oval 37"/>
              <p:cNvSpPr/>
              <p:nvPr/>
            </p:nvSpPr>
            <p:spPr>
              <a:xfrm>
                <a:off x="7153200" y="3257640"/>
                <a:ext cx="1222560" cy="12222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38"/>
              <p:cNvSpPr/>
              <p:nvPr/>
            </p:nvSpPr>
            <p:spPr>
              <a:xfrm>
                <a:off x="7764480" y="2889360"/>
                <a:ext cx="0" cy="197784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39"/>
              <p:cNvSpPr/>
              <p:nvPr/>
            </p:nvSpPr>
            <p:spPr>
              <a:xfrm>
                <a:off x="7296120" y="3041640"/>
                <a:ext cx="988920" cy="171288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40"/>
              <p:cNvSpPr/>
              <p:nvPr/>
            </p:nvSpPr>
            <p:spPr>
              <a:xfrm flipH="1">
                <a:off x="7294680" y="2986200"/>
                <a:ext cx="992160" cy="171288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1"/>
              <p:cNvSpPr/>
              <p:nvPr/>
            </p:nvSpPr>
            <p:spPr>
              <a:xfrm flipH="1">
                <a:off x="6791040" y="3456000"/>
                <a:ext cx="1716120" cy="988920"/>
              </a:xfrm>
              <a:prstGeom prst="line">
                <a:avLst/>
              </a:prstGeom>
              <a:ln w="9360">
                <a:solidFill>
                  <a:srgbClr val="095294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42"/>
              <p:cNvGrpSpPr/>
              <p:nvPr/>
            </p:nvGrpSpPr>
            <p:grpSpPr>
              <a:xfrm>
                <a:off x="7729200" y="3817800"/>
                <a:ext cx="106200" cy="106560"/>
                <a:chOff x="7729200" y="3817800"/>
                <a:chExt cx="106200" cy="106560"/>
              </a:xfrm>
            </p:grpSpPr>
            <p:sp>
              <p:nvSpPr>
                <p:cNvPr id="383" name="Line 43"/>
                <p:cNvSpPr/>
                <p:nvPr/>
              </p:nvSpPr>
              <p:spPr>
                <a:xfrm>
                  <a:off x="7781400" y="3817800"/>
                  <a:ext cx="0" cy="106560"/>
                </a:xfrm>
                <a:prstGeom prst="line">
                  <a:avLst/>
                </a:prstGeom>
                <a:ln w="19080">
                  <a:solidFill>
                    <a:srgbClr val="0952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4"/>
                <p:cNvSpPr/>
                <p:nvPr/>
              </p:nvSpPr>
              <p:spPr>
                <a:xfrm flipH="1">
                  <a:off x="7729200" y="3871800"/>
                  <a:ext cx="106200" cy="0"/>
                </a:xfrm>
                <a:prstGeom prst="line">
                  <a:avLst/>
                </a:prstGeom>
                <a:ln w="19080">
                  <a:solidFill>
                    <a:srgbClr val="0952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Rectangle 45"/>
              <p:cNvSpPr/>
              <p:nvPr/>
            </p:nvSpPr>
            <p:spPr>
              <a:xfrm>
                <a:off x="8161200" y="4410000"/>
                <a:ext cx="44316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o</a:t>
                </a:r>
                <a:r>
                  <a:rPr b="0" lang="cs-CZ" sz="1600" spc="-1" strike="noStrike" baseline="-25000">
                    <a:solidFill>
                      <a:srgbClr val="000000"/>
                    </a:solidFill>
                    <a:latin typeface="Arial"/>
                    <a:ea typeface="Arial Unicode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46"/>
              <p:cNvSpPr/>
              <p:nvPr/>
            </p:nvSpPr>
            <p:spPr>
              <a:xfrm>
                <a:off x="7729560" y="4554360"/>
                <a:ext cx="4428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o</a:t>
                </a:r>
                <a:r>
                  <a:rPr b="0" lang="cs-CZ" sz="1600" spc="-1" strike="noStrike" baseline="-25000">
                    <a:solidFill>
                      <a:srgbClr val="000000"/>
                    </a:solidFill>
                    <a:latin typeface="Arial"/>
                    <a:ea typeface="Arial Unicode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47"/>
              <p:cNvSpPr/>
              <p:nvPr/>
            </p:nvSpPr>
            <p:spPr>
              <a:xfrm>
                <a:off x="7296120" y="4554360"/>
                <a:ext cx="444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o</a:t>
                </a:r>
                <a:r>
                  <a:rPr b="0" lang="cs-CZ" sz="1600" spc="-1" strike="noStrike" baseline="-25000">
                    <a:solidFill>
                      <a:srgbClr val="000000"/>
                    </a:solidFill>
                    <a:latin typeface="Arial"/>
                    <a:ea typeface="Arial Unicode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8"/>
              <p:cNvSpPr/>
              <p:nvPr/>
            </p:nvSpPr>
            <p:spPr>
              <a:xfrm>
                <a:off x="6792840" y="4338720"/>
                <a:ext cx="44316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o</a:t>
                </a:r>
                <a:r>
                  <a:rPr b="0" lang="cs-CZ" sz="1600" spc="-1" strike="noStrike" baseline="-25000">
                    <a:solidFill>
                      <a:srgbClr val="000000"/>
                    </a:solidFill>
                    <a:latin typeface="Arial"/>
                    <a:ea typeface="Arial Unicode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Rectangle 49"/>
            <p:cNvSpPr/>
            <p:nvPr/>
          </p:nvSpPr>
          <p:spPr>
            <a:xfrm>
              <a:off x="7380360" y="3645000"/>
              <a:ext cx="2858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50"/>
          <p:cNvSpPr/>
          <p:nvPr/>
        </p:nvSpPr>
        <p:spPr>
          <a:xfrm>
            <a:off x="6948360" y="5157720"/>
            <a:ext cx="1871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Kružnice, kru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nekonečně mno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s souměr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sově sdružené útvary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26920" y="2133720"/>
            <a:ext cx="7488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 jsou takové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dva útva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které se v osové souměrnosti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zobrazí jeden na druh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tvoří dvojici – vzor a obra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1571760" y="3429000"/>
            <a:ext cx="60004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26920" y="2133720"/>
            <a:ext cx="748836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stroj trojúhelník AB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= 60°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= 60°, c = 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) c = 4cm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= 90°, a = 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) a = 6cm, b = 5cm, c = 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ajdi obrazy těchto trojúhelníků v osové souměrnosti, pro která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) Osa souměr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(o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ží na obvodu trojúhelníku A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) Osa souměr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(o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ží mimo trojúhelník A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) Osa souměr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(o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ží uvnitř trojúhelníku A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aoblený obdélník 6"/>
          <p:cNvSpPr/>
          <p:nvPr/>
        </p:nvSpPr>
        <p:spPr>
          <a:xfrm>
            <a:off x="6443640" y="26028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5-06-10T18:07:44Z</dcterms:modified>
  <cp:revision>22</cp:revision>
  <dc:subject/>
  <dc:title>Osová souměrnost</dc:title>
</cp:coreProperties>
</file>