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0737-BCE2-4883-A183-569A1AE91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4CB0D-E794-4F53-8A80-931CB2263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8ACE48-D0B9-44EE-A271-0B7272698E19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8B6BE-CF10-4082-9992-7459153B45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EB0FA3-88CA-43C1-89BA-31E29CA5A160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BC885-276E-4DCA-B2AE-735011F43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CF6A4A-F36F-4483-9976-663075DAEADE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FF98E-B473-48AE-894D-72E3C66082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D7802A-F757-4995-B06A-E88B886D43F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A1608-35B0-439F-9034-FD45DD0F5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07E898-B8D1-43E0-8184-633CC568A343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5B70B-C4F5-4316-9F2F-656E301E43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8D9B02-D1AB-4C68-9B90-89EA829CA8A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D2C18-35A5-450D-8C09-DC197EE7DF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2335AD-8299-4D4F-8D9A-E5280AFBA8A8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F78BA-CDAB-4BFE-9615-79DD0B7FF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0F7214-2062-4833-BF63-1C8CF4D02009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B8627-9DE9-44D2-A791-771F5D7CD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A28E9C-B7BD-4C9D-ABD0-6C43198C65F4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4B05-1821-41E7-8CF8-B717FE9CA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E5B1F0-1B69-408E-B2B7-B66EFF70033A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22EA5-C5F9-4B0D-9046-31F2D86407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94296F-D6E6-4DD7-AEEC-ED178302EACD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3C4-4AA5-48D6-920D-4BC3F8B2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137-487C-4F5A-B317-6CB24B38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757-0638-4569-B66B-D98C69D1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CE9-A8F2-4AC6-BEFB-DD6FE894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3CA-2A1C-48CC-9B4C-3F3E75A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A2A-939A-432C-A3F4-82865B9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741-D602-4602-B18F-D9F4596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EC6-197E-4914-9822-BB83EFA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3D7-311C-4AF5-981B-D4AA7599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F96-423C-4157-889E-B128FAF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A99-2300-43DD-9EA2-6BFE90F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318-FEE2-4A7B-B5D7-7B856ED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FFA70B-ABCF-4900-A56B-2AB09B53D2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0000ff"/>
                </a:solidFill>
                <a:latin typeface="Constantia"/>
              </a:rPr>
              <a:t>PLANIMETRIE</a:t>
            </a:r>
            <a:br>
              <a:rPr sz="5600"/>
            </a:br>
            <a:r>
              <a:rPr b="1" lang="cs-CZ" sz="5600" spc="-1" strike="noStrike">
                <a:solidFill>
                  <a:srgbClr val="0000ff"/>
                </a:solidFill>
                <a:latin typeface="Constantia"/>
              </a:rPr>
              <a:t>Zobrazení v rovině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864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Constantia"/>
              </a:rPr>
              <a:t>Podobná zobr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0000ff"/>
                </a:solidFill>
                <a:latin typeface="Arial"/>
              </a:rPr>
              <a:t>Příklady</a:t>
            </a:r>
            <a:endParaRPr b="1" i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Mějme čtverec o straně a = 6 cm, který porovnáváme se čtvercem o straně a = 4 cm. Jedná se o shodnost nebo podobnost?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očítejte poměr podob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Máme zadaný čtverek o straně a = 2 cm, který porovnáváme se čtvercem o straně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= 4 cm. Vypočítejte poměr podob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0000ff"/>
                </a:solidFill>
                <a:latin typeface="Arial"/>
              </a:rPr>
              <a:t>Cvičení</a:t>
            </a:r>
            <a:endParaRPr b="1" i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707724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Arial"/>
              </a:rPr>
              <a:t>Zobrazení v rovině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Obdélník 5"/>
          <p:cNvSpPr/>
          <p:nvPr/>
        </p:nvSpPr>
        <p:spPr>
          <a:xfrm>
            <a:off x="2006640" y="1484280"/>
            <a:ext cx="4944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ázornění pomocí množ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717228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Arial"/>
              </a:rPr>
              <a:t>Podobné zobrazen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4"/>
          <p:cNvSpPr/>
          <p:nvPr/>
        </p:nvSpPr>
        <p:spPr>
          <a:xfrm>
            <a:off x="3575520" y="1052640"/>
            <a:ext cx="1840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(Podob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82308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Arial"/>
              </a:rPr>
              <a:t>Podobnost trojúhelníků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7272360" cy="41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Arial"/>
              </a:rPr>
              <a:t>Shodnost vs. Podobnost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11280" y="1773360"/>
            <a:ext cx="81360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é 4 věty o shodnosti zná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platí pro shodnost trojúhelník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 pro shodnost tyto rovn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 tyto rovnosti i pro podobn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C:\Users\Kloby\Desktop\praxe\SPEDAPR\hodina02\podobnost1.PNG"/>
          <p:cNvPicPr/>
          <p:nvPr/>
        </p:nvPicPr>
        <p:blipFill>
          <a:blip r:embed="rId1"/>
          <a:stretch/>
        </p:blipFill>
        <p:spPr>
          <a:xfrm>
            <a:off x="5219640" y="1630440"/>
            <a:ext cx="3105360" cy="16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C:\Users\Kloby\Desktop\praxe\SPEDAPR\hodina02\podobnost2.PNG"/>
          <p:cNvPicPr/>
          <p:nvPr/>
        </p:nvPicPr>
        <p:blipFill>
          <a:blip r:embed="rId2"/>
          <a:stretch/>
        </p:blipFill>
        <p:spPr>
          <a:xfrm>
            <a:off x="2843280" y="3218040"/>
            <a:ext cx="437184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Podobnost a shodnost - příklady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11280" y="1700280"/>
            <a:ext cx="8136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jme model Eifelovy věže, který porovnáme s originálem. Jedná se o shodnost nebo podobn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arkovišti vidíme dvě auta značky škoda octávia. Jedno je v barvě červené a druhé v barvě oranžové. Jsou auta shodná nebo podob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é z následujících příkladů jsou shodné a které pouze podobn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lavice ve tří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pa republiky v měřítku 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čka "STOP" na silnici a v k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el letadla a skutečné let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0000ff"/>
                </a:solidFill>
                <a:latin typeface="Arial"/>
              </a:rPr>
              <a:t>Věty o podobnosti trojúhelníků</a:t>
            </a:r>
            <a:endParaRPr b="1" i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704700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0000ff"/>
                </a:solidFill>
                <a:latin typeface="Arial"/>
              </a:rPr>
              <a:t>Věty o podobnosti trojúhelníků</a:t>
            </a:r>
            <a:endParaRPr b="1" i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7196040" cy="42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0000ff"/>
                </a:solidFill>
                <a:latin typeface="Arial"/>
              </a:rPr>
              <a:t>Věty o podobnosti trojúhelníků</a:t>
            </a:r>
            <a:endParaRPr b="1" i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68360" y="1628640"/>
            <a:ext cx="8218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71233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David Koblasa</cp:lastModifiedBy>
  <dcterms:modified xsi:type="dcterms:W3CDTF">2014-09-17T09:20:10Z</dcterms:modified>
  <cp:revision>18</cp:revision>
  <dc:subject/>
  <dc:title>PLANIMETRIE Zobrazení v rovině</dc:title>
</cp:coreProperties>
</file>