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C7992-AB9A-49BE-BE86-EDEA1017385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8F3F8-3118-43E4-8A8B-3F0607EE52D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A36B07-4BAD-4B28-815A-FCD1312F7E4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EA38F-E6B4-4532-A113-E14781B45A4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CBE6AF-42AC-4873-A46D-D1B6E3697A96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45688-3AF5-4ED5-AE8B-2C8B95DCCBD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34B76F-6EEA-452D-AB0D-B17E9DCCC8D3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29CAC-4E09-49B3-8915-833D3C99B69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2FB1D3-C714-4269-B022-AFC6D1DA9EC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1C66-C580-4ED3-94E4-D4F60FDA1D3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4DF407-8B81-4D10-97F5-3201F1CD7452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52AD6-E41C-4240-8817-24AEF9A4731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0F86E4-5FE2-4B83-91BF-878A7B23B89C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099D-BD93-431D-8DB7-7E487E14203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F452DE-5476-48B3-931E-7A6D5F5AB65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D1446-3290-4EAF-82ED-C4DC8339F09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CC81E5-F03E-4D32-B46B-D16B64EEA9A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D111-D79A-41D6-839E-67305CAB57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DB09-4662-44A7-9DD4-68FFC37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0385-4A47-4DCD-AFDF-92CA160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4462-D122-4386-8A5D-5A729EDAFC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B76C6-72E3-4667-B94F-CA9F62AD3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6835-93D0-447B-AD53-D0580D2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1CC2-2CFC-4766-9424-59673B5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6B57-6114-4628-86E3-87D5D7D0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7AC94-3D8F-4F22-AD1A-4FAFCC12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D07C8-EC83-4EE4-A548-A89BB62B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C16EF-9461-4C3B-8037-02A9EC9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E7B5-8544-4DC5-9EC3-7C7DF806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C745-F82F-491D-B8DD-4DE2798D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4F87A-3647-4F1A-81E6-2059624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7C04-AE17-4BF2-8378-3AD11D7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2CA81-680E-4CED-B395-2BD0110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D0618-4D9B-43F4-8391-B6D6DEF03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B23D-23AD-4E2A-BC62-0AC885299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1AE-9615-4D04-AF3F-BBE0058C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C2A1-BBC6-4B89-960A-1B851B4F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CAD-ECFF-4CE9-BCC3-FFCFA02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E43-4BD5-44CF-84B9-6FB11236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BB01-E2C2-40E9-8668-BDB839B3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F3CE-6782-4063-B89D-636B8A2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620-5423-42A7-9C89-A062F652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51BD-3FE1-48B4-8E9A-0600079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5E1B-D2BC-45E8-B19D-F1FA27A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3A8-D9CD-4D77-B9AB-0980A4B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4FB7-7480-4250-A2F9-DB99EF1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0301-9FAB-494F-8511-0FE9300AF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1FFA7-D149-4C34-B923-994D8E382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CB4D0-2D84-4A6E-9B18-D4F7A9E7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84DE3-7E1B-4800-A8B2-7CA60D0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9FDF-B011-4A32-8E27-D05BDCB4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E529D-15C7-41A1-8425-4433CCDE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0CDEB-2014-4015-91F8-C3EE136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F88B9-6774-490A-9145-D54157F4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49035-A312-4940-B5C2-22933C06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87884-19B2-4EEA-97B2-9B3E5FFD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CF46B-9AF4-47AE-B219-67FE9EE3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C1264-A429-45BC-A741-9CB7D0B9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2E430-01C2-4209-B488-DE2A798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5397B-8BB8-4CD2-A292-08BB061521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FA683-ABCC-4EE3-8894-AFD371E0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5799-7D34-4626-92BC-22EB0D5C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8CBB6-5EF2-4A1C-BC50-0266087E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63401-CF63-4FC9-A918-BCC9B9F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32188-0502-47BA-B77A-B4DB42E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685E6-0F5A-41EB-9C6F-3CB170F5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65C32-B13E-4D13-A510-7CF5314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E55C7-1002-4BF8-A9DD-6FC4916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2B291-E382-4BCB-820B-27EA4E3B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24FC2-EC5F-4830-B184-67BF7CF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6FF67-34A7-42A9-BCD8-22EB973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38039-E9AA-48FF-A276-35B1A94A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1A2B-9C21-4B6C-9A82-5609285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8A6DF-51CE-4148-8F88-21B39A3B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958A-2452-4CCD-9559-AC7F9E80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0E90-0EE6-4097-A308-181A366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C2BE-06DD-4A31-92E6-FE640AC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A3E0F1-D053-4C3B-8076-9CE5B384E3B3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04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92C993-A481-4F52-88B0-5D126CE38408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95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A6598C-F145-4BAC-86CD-24AA87C9AE56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141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FDBAC5-5918-4F58-BE86-412EBBB4FB16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1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B79280-F8C0-4899-B65F-DD53AFDF58B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3333cc"/>
                </a:solidFill>
                <a:latin typeface="Constantia"/>
              </a:rPr>
              <a:t>Posunutí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osunut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11280" y="1628640"/>
            <a:ext cx="79200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osunu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l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je přímou shodností. Značí s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je dána orientovanou úsečko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apisujem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(AB) - posunutí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o orientovanou úsečkou AB (vektor AB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uje tak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ždý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zobrazí na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'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tak, že orientovaná úsečka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X'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má stej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měr a stejnou velikost jako orientovaná úsečka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987640" y="5373720"/>
            <a:ext cx="5472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Délku posunu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dává délka orientované úsečky 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měr posunu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rčuje směr orientované úsečky 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851280" y="4149720"/>
            <a:ext cx="25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ápis: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T(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B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): X → X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Skupina 18"/>
          <p:cNvGrpSpPr/>
          <p:nvPr/>
        </p:nvGrpSpPr>
        <p:grpSpPr>
          <a:xfrm>
            <a:off x="829800" y="4149720"/>
            <a:ext cx="2336400" cy="1615320"/>
            <a:chOff x="829800" y="4149720"/>
            <a:chExt cx="2336400" cy="1615320"/>
          </a:xfrm>
        </p:grpSpPr>
        <p:grpSp>
          <p:nvGrpSpPr>
            <p:cNvPr id="240" name="Skupina 10"/>
            <p:cNvGrpSpPr/>
            <p:nvPr/>
          </p:nvGrpSpPr>
          <p:grpSpPr>
            <a:xfrm>
              <a:off x="876240" y="4220640"/>
              <a:ext cx="1535760" cy="705960"/>
              <a:chOff x="876240" y="4220640"/>
              <a:chExt cx="1535760" cy="705960"/>
            </a:xfrm>
          </p:grpSpPr>
          <p:cxnSp>
            <p:nvCxnSpPr>
              <p:cNvPr id="241" name="Přímá spojovací šipka 27"/>
              <p:cNvCxnSpPr/>
              <p:nvPr/>
            </p:nvCxnSpPr>
            <p:spPr>
              <a:xfrm flipV="1">
                <a:off x="898560" y="4220640"/>
                <a:ext cx="1513800" cy="64764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arrow" w="med"/>
              </a:ln>
            </p:spPr>
          </p:cxnSp>
          <p:sp>
            <p:nvSpPr>
              <p:cNvPr id="242" name="Přímá spojovací čára 28"/>
              <p:cNvSpPr/>
              <p:nvPr/>
            </p:nvSpPr>
            <p:spPr>
              <a:xfrm>
                <a:off x="876240" y="4829040"/>
                <a:ext cx="45360" cy="975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Skupina 11"/>
            <p:cNvGrpSpPr/>
            <p:nvPr/>
          </p:nvGrpSpPr>
          <p:grpSpPr>
            <a:xfrm>
              <a:off x="1308600" y="4724640"/>
              <a:ext cx="1535760" cy="705960"/>
              <a:chOff x="1308600" y="4724640"/>
              <a:chExt cx="1535760" cy="705960"/>
            </a:xfrm>
          </p:grpSpPr>
          <p:cxnSp>
            <p:nvCxnSpPr>
              <p:cNvPr id="244" name="Přímá spojovací šipka 25"/>
              <p:cNvCxnSpPr/>
              <p:nvPr/>
            </p:nvCxnSpPr>
            <p:spPr>
              <a:xfrm flipV="1">
                <a:off x="1330920" y="4724640"/>
                <a:ext cx="1513800" cy="64908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arrow" w="med"/>
              </a:ln>
            </p:spPr>
          </p:cxnSp>
          <p:sp>
            <p:nvSpPr>
              <p:cNvPr id="245" name="Přímá spojovací čára 26"/>
              <p:cNvSpPr/>
              <p:nvPr/>
            </p:nvSpPr>
            <p:spPr>
              <a:xfrm>
                <a:off x="1308600" y="5332680"/>
                <a:ext cx="45360" cy="979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ovéPole 21"/>
            <p:cNvSpPr/>
            <p:nvPr/>
          </p:nvSpPr>
          <p:spPr>
            <a:xfrm>
              <a:off x="829800" y="4869360"/>
              <a:ext cx="316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ovéPole 22"/>
            <p:cNvSpPr/>
            <p:nvPr/>
          </p:nvSpPr>
          <p:spPr>
            <a:xfrm>
              <a:off x="2406960" y="4149720"/>
              <a:ext cx="316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ovéPole 23"/>
            <p:cNvSpPr/>
            <p:nvPr/>
          </p:nvSpPr>
          <p:spPr>
            <a:xfrm>
              <a:off x="1261800" y="5445000"/>
              <a:ext cx="316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ovéPole 24"/>
            <p:cNvSpPr/>
            <p:nvPr/>
          </p:nvSpPr>
          <p:spPr>
            <a:xfrm>
              <a:off x="2782800" y="4725360"/>
              <a:ext cx="383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osunut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39640" y="2133720"/>
            <a:ext cx="799308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b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žádné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ne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přím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sou všechny přímky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rovnoběž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 vektorem posu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kruž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žádné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ne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</a:rPr>
              <a:t>Zobrazení bodu: T(</a:t>
            </a:r>
            <a:r>
              <a:rPr b="1" lang="cs-CZ" sz="4400" spc="-1" strike="noStrike">
                <a:solidFill>
                  <a:srgbClr val="008000"/>
                </a:solidFill>
                <a:latin typeface="Constantia"/>
              </a:rPr>
              <a:t>AB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</a:rPr>
              <a:t>): X </a:t>
            </a:r>
            <a:r>
              <a:rPr b="0" lang="cs-CZ" sz="4400" spc="-1" strike="noStrike">
                <a:solidFill>
                  <a:srgbClr val="3333cc"/>
                </a:solidFill>
                <a:latin typeface="Symbol"/>
              </a:rPr>
              <a:t>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0" lang="cs-CZ" sz="4400" spc="-1" strike="noStrike">
                <a:solidFill>
                  <a:srgbClr val="ff0000"/>
                </a:solidFill>
                <a:latin typeface="Constantia"/>
              </a:rPr>
              <a:t>X´</a:t>
            </a:r>
            <a:r>
              <a:rPr b="0" lang="cs-CZ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900000" y="4292640"/>
            <a:ext cx="27352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.  AB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.  ⇥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Y; X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X, 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.  X´; X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00000" y="1989000"/>
            <a:ext cx="4578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6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X´ a AB jsou souhlasn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65000"/>
              </a:lnSpc>
              <a:spcBef>
                <a:spcPts val="901"/>
              </a:spcBef>
              <a:buClr>
                <a:srgbClr val="000000"/>
              </a:buClr>
              <a:buFont typeface="Symbo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XX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718240" y="4405320"/>
            <a:ext cx="485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5862600" y="4405320"/>
            <a:ext cx="2806560" cy="479160"/>
            <a:chOff x="5862600" y="4405320"/>
            <a:chExt cx="2806560" cy="479160"/>
          </a:xfrm>
        </p:grpSpPr>
        <p:sp>
          <p:nvSpPr>
            <p:cNvPr id="258" name="Line 6"/>
            <p:cNvSpPr/>
            <p:nvPr/>
          </p:nvSpPr>
          <p:spPr>
            <a:xfrm>
              <a:off x="5862600" y="4492800"/>
              <a:ext cx="2806560" cy="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8072280" y="4405320"/>
              <a:ext cx="4842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8"/>
          <p:cNvSpPr/>
          <p:nvPr/>
        </p:nvSpPr>
        <p:spPr>
          <a:xfrm>
            <a:off x="7391520" y="4398840"/>
            <a:ext cx="485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4211640" y="2637000"/>
            <a:ext cx="3327480" cy="3511440"/>
            <a:chOff x="4211640" y="2637000"/>
            <a:chExt cx="3327480" cy="3511440"/>
          </a:xfrm>
        </p:grpSpPr>
        <p:sp>
          <p:nvSpPr>
            <p:cNvPr id="262" name="Oval 10"/>
            <p:cNvSpPr/>
            <p:nvPr/>
          </p:nvSpPr>
          <p:spPr>
            <a:xfrm>
              <a:off x="4211640" y="2820960"/>
              <a:ext cx="3327480" cy="3327480"/>
            </a:xfrm>
            <a:prstGeom prst="ellipse">
              <a:avLst/>
            </a:prstGeom>
            <a:noFill/>
            <a:ln cap="rnd" w="19080">
              <a:solidFill>
                <a:srgbClr val="4747ff"/>
              </a:solidFill>
              <a:custDash>
                <a:ds d="499000" sp="201000"/>
                <a:ds d="1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6694560" y="2637000"/>
              <a:ext cx="3967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800" spc="-1" strike="noStrike">
                  <a:solidFill>
                    <a:srgbClr val="3366ff"/>
                  </a:solidFill>
                  <a:latin typeface="Arial"/>
                  <a:ea typeface="Arial Unicode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716360" y="3384720"/>
            <a:ext cx="2140200" cy="479160"/>
            <a:chOff x="4716360" y="3384720"/>
            <a:chExt cx="2140200" cy="479160"/>
          </a:xfrm>
        </p:grpSpPr>
        <p:sp>
          <p:nvSpPr>
            <p:cNvPr id="265" name="Rectangle 13"/>
            <p:cNvSpPr/>
            <p:nvPr/>
          </p:nvSpPr>
          <p:spPr>
            <a:xfrm>
              <a:off x="4716360" y="3384720"/>
              <a:ext cx="4842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6372360" y="3384720"/>
              <a:ext cx="4842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4865760" y="3484440"/>
              <a:ext cx="16542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Zaoblený obdélník 1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římá spojovací čára 17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6227640" y="2708280"/>
            <a:ext cx="258444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 AB, K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 ⇥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 KX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K, 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 K´; K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⇥  K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 ⇥ LY; LY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6.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L, 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7.  L´; L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l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⇥ 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8.  K´L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úsečky: T(</a:t>
            </a:r>
            <a:r>
              <a:rPr b="0" lang="cs-CZ" sz="44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AB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:KL → </a:t>
            </a:r>
            <a:r>
              <a:rPr b="0" lang="cs-CZ" sz="44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K´L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95280" y="1413000"/>
            <a:ext cx="8136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5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K´ a AB jsou souhlasně orientované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L´ a  AB jsou souhlasně orientova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500"/>
              </a:lnSpc>
              <a:buClr>
                <a:srgbClr val="000000"/>
              </a:buClr>
              <a:buFont typeface="Symbo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K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=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L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</a:t>
            </a:r>
            <a:r>
              <a:rPr b="0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5040360" y="4446720"/>
            <a:ext cx="947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 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L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Skupina 28"/>
          <p:cNvGrpSpPr/>
          <p:nvPr/>
        </p:nvGrpSpPr>
        <p:grpSpPr>
          <a:xfrm>
            <a:off x="2276640" y="3132000"/>
            <a:ext cx="2116080" cy="968040"/>
            <a:chOff x="2276640" y="3132000"/>
            <a:chExt cx="2116080" cy="968040"/>
          </a:xfrm>
        </p:grpSpPr>
        <p:cxnSp>
          <p:nvCxnSpPr>
            <p:cNvPr id="275" name="AutoShape 7"/>
            <p:cNvCxnSpPr/>
            <p:nvPr/>
          </p:nvCxnSpPr>
          <p:spPr>
            <a:xfrm flipV="1">
              <a:off x="2429280" y="3329280"/>
              <a:ext cx="1928520" cy="37656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lg" type="triangle" w="lg"/>
            </a:ln>
          </p:spPr>
        </p:cxnSp>
        <p:sp>
          <p:nvSpPr>
            <p:cNvPr id="276" name="Text Box 8"/>
            <p:cNvSpPr/>
            <p:nvPr/>
          </p:nvSpPr>
          <p:spPr>
            <a:xfrm>
              <a:off x="2276640" y="3496320"/>
              <a:ext cx="188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204440" y="3132000"/>
              <a:ext cx="188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Skupina 32"/>
          <p:cNvGrpSpPr/>
          <p:nvPr/>
        </p:nvGrpSpPr>
        <p:grpSpPr>
          <a:xfrm>
            <a:off x="1836720" y="3887640"/>
            <a:ext cx="1484280" cy="1431720"/>
            <a:chOff x="1836720" y="3887640"/>
            <a:chExt cx="1484280" cy="1431720"/>
          </a:xfrm>
        </p:grpSpPr>
        <p:sp>
          <p:nvSpPr>
            <p:cNvPr id="279" name="Line 10"/>
            <p:cNvSpPr/>
            <p:nvPr/>
          </p:nvSpPr>
          <p:spPr>
            <a:xfrm>
              <a:off x="1967760" y="4101120"/>
              <a:ext cx="1315440" cy="81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1836720" y="3887640"/>
              <a:ext cx="323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3132720" y="4715640"/>
              <a:ext cx="188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kupina 36"/>
          <p:cNvGrpSpPr/>
          <p:nvPr/>
        </p:nvGrpSpPr>
        <p:grpSpPr>
          <a:xfrm>
            <a:off x="1330200" y="2948040"/>
            <a:ext cx="4124520" cy="3909960"/>
            <a:chOff x="1330200" y="2948040"/>
            <a:chExt cx="4124520" cy="3909960"/>
          </a:xfrm>
        </p:grpSpPr>
        <p:sp>
          <p:nvSpPr>
            <p:cNvPr id="283" name="Text Box 27"/>
            <p:cNvSpPr/>
            <p:nvPr/>
          </p:nvSpPr>
          <p:spPr>
            <a:xfrm>
              <a:off x="5220720" y="5177160"/>
              <a:ext cx="2340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4747ff"/>
                  </a:solidFill>
                  <a:latin typeface="Arial"/>
                  <a:ea typeface="Arial Unicode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1"/>
            <p:cNvSpPr/>
            <p:nvPr/>
          </p:nvSpPr>
          <p:spPr>
            <a:xfrm>
              <a:off x="1330200" y="2948040"/>
              <a:ext cx="3911400" cy="3909960"/>
            </a:xfrm>
            <a:prstGeom prst="ellipse">
              <a:avLst/>
            </a:prstGeom>
            <a:noFill/>
            <a:ln w="19080">
              <a:solidFill>
                <a:srgbClr val="4747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3"/>
          <p:cNvSpPr/>
          <p:nvPr/>
        </p:nvSpPr>
        <p:spPr>
          <a:xfrm>
            <a:off x="3743280" y="3662280"/>
            <a:ext cx="419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 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K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3886200" y="3726000"/>
            <a:ext cx="1314360" cy="811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Skupina 41"/>
          <p:cNvGrpSpPr/>
          <p:nvPr/>
        </p:nvGrpSpPr>
        <p:grpSpPr>
          <a:xfrm>
            <a:off x="0" y="2141640"/>
            <a:ext cx="3909960" cy="3909960"/>
            <a:chOff x="0" y="2141640"/>
            <a:chExt cx="3909960" cy="3909960"/>
          </a:xfrm>
        </p:grpSpPr>
        <p:sp>
          <p:nvSpPr>
            <p:cNvPr id="288" name="Oval 18"/>
            <p:cNvSpPr/>
            <p:nvPr/>
          </p:nvSpPr>
          <p:spPr>
            <a:xfrm>
              <a:off x="0" y="2141640"/>
              <a:ext cx="3909960" cy="390996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6"/>
            <p:cNvSpPr/>
            <p:nvPr/>
          </p:nvSpPr>
          <p:spPr>
            <a:xfrm>
              <a:off x="3589920" y="5195160"/>
              <a:ext cx="1882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ff9900"/>
                  </a:solidFill>
                  <a:latin typeface="Arial"/>
                  <a:ea typeface="Arial Unicode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Skupina 44"/>
          <p:cNvGrpSpPr/>
          <p:nvPr/>
        </p:nvGrpSpPr>
        <p:grpSpPr>
          <a:xfrm>
            <a:off x="1966680" y="3384720"/>
            <a:ext cx="3370320" cy="717120"/>
            <a:chOff x="1966680" y="3384720"/>
            <a:chExt cx="3370320" cy="717120"/>
          </a:xfrm>
        </p:grpSpPr>
        <p:cxnSp>
          <p:nvCxnSpPr>
            <p:cNvPr id="291" name="AutoShape 13"/>
            <p:cNvCxnSpPr/>
            <p:nvPr/>
          </p:nvCxnSpPr>
          <p:spPr>
            <a:xfrm flipV="1">
              <a:off x="1966680" y="3444120"/>
              <a:ext cx="3370680" cy="658080"/>
            </a:xfrm>
            <a:prstGeom prst="straightConnector1">
              <a:avLst/>
            </a:prstGeom>
            <a:ln w="19080">
              <a:solidFill>
                <a:srgbClr val="626262"/>
              </a:solidFill>
              <a:prstDash val="dash"/>
              <a:miter/>
            </a:ln>
          </p:spPr>
        </p:cxnSp>
        <p:sp>
          <p:nvSpPr>
            <p:cNvPr id="292" name="Text Box 30"/>
            <p:cNvSpPr/>
            <p:nvPr/>
          </p:nvSpPr>
          <p:spPr>
            <a:xfrm>
              <a:off x="4427640" y="3384720"/>
              <a:ext cx="2880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626262"/>
                  </a:solidFill>
                  <a:latin typeface="Arial"/>
                  <a:ea typeface="Arial Unicode MS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Skupina 47"/>
          <p:cNvGrpSpPr/>
          <p:nvPr/>
        </p:nvGrpSpPr>
        <p:grpSpPr>
          <a:xfrm>
            <a:off x="3282840" y="4388760"/>
            <a:ext cx="2572200" cy="606600"/>
            <a:chOff x="3282840" y="4388760"/>
            <a:chExt cx="2572200" cy="606600"/>
          </a:xfrm>
        </p:grpSpPr>
        <p:cxnSp>
          <p:nvCxnSpPr>
            <p:cNvPr id="294" name="AutoShape 14"/>
            <p:cNvCxnSpPr/>
            <p:nvPr/>
          </p:nvCxnSpPr>
          <p:spPr>
            <a:xfrm flipV="1">
              <a:off x="3282840" y="4388760"/>
              <a:ext cx="2572560" cy="525240"/>
            </a:xfrm>
            <a:prstGeom prst="straightConnector1">
              <a:avLst/>
            </a:prstGeom>
            <a:ln w="19080">
              <a:solidFill>
                <a:srgbClr val="626262"/>
              </a:solidFill>
              <a:prstDash val="dash"/>
              <a:miter/>
            </a:ln>
          </p:spPr>
        </p:cxnSp>
        <p:sp>
          <p:nvSpPr>
            <p:cNvPr id="295" name="Text Box 31"/>
            <p:cNvSpPr/>
            <p:nvPr/>
          </p:nvSpPr>
          <p:spPr>
            <a:xfrm>
              <a:off x="4644360" y="4391640"/>
              <a:ext cx="3250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626262"/>
                  </a:solidFill>
                  <a:latin typeface="Arial"/>
                  <a:ea typeface="Arial Unicode MS"/>
                </a:rPr>
                <a:t>x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oblený obdélník 50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římá spojovací čára 51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útvaru: T(</a:t>
            </a:r>
            <a:r>
              <a:rPr b="0" lang="cs-CZ" sz="44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AB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:u → </a:t>
            </a:r>
            <a:r>
              <a:rPr b="0" lang="cs-CZ" sz="44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u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4005360"/>
            <a:ext cx="2952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LM,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 K´; T(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: K → K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 L´;</a:t>
            </a:r>
            <a:r>
              <a:rPr b="0" lang="cs-CZ" sz="1600" spc="-1" strike="noStrike">
                <a:solidFill>
                  <a:srgbClr val="00005c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(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: L → L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 M´;T(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A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: M → M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K´L´M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468360" y="1484280"/>
            <a:ext cx="8535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nožinou obrazů všech bodů útva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útva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´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terý je s útvare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ho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čí nám tedy, pokud zobrazíme vrcholy útvaru a tyto obrazy vrcholů spoj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539640" y="2708280"/>
            <a:ext cx="3384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ř.: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(AB):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LM →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K´L´M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Skupina 24"/>
          <p:cNvGrpSpPr/>
          <p:nvPr/>
        </p:nvGrpSpPr>
        <p:grpSpPr>
          <a:xfrm>
            <a:off x="4211640" y="2927520"/>
            <a:ext cx="3193200" cy="2997000"/>
            <a:chOff x="4211640" y="2927520"/>
            <a:chExt cx="3193200" cy="2997000"/>
          </a:xfrm>
        </p:grpSpPr>
        <p:sp>
          <p:nvSpPr>
            <p:cNvPr id="303" name="Text Box 8"/>
            <p:cNvSpPr/>
            <p:nvPr/>
          </p:nvSpPr>
          <p:spPr>
            <a:xfrm>
              <a:off x="5962320" y="3184560"/>
              <a:ext cx="462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9"/>
            <p:cNvSpPr/>
            <p:nvPr/>
          </p:nvSpPr>
          <p:spPr>
            <a:xfrm>
              <a:off x="4211640" y="4085640"/>
              <a:ext cx="462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0"/>
            <p:cNvSpPr/>
            <p:nvPr/>
          </p:nvSpPr>
          <p:spPr>
            <a:xfrm>
              <a:off x="6415560" y="5575680"/>
              <a:ext cx="462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8"/>
            <p:cNvSpPr/>
            <p:nvPr/>
          </p:nvSpPr>
          <p:spPr>
            <a:xfrm rot="2066400">
              <a:off x="4584240" y="3545280"/>
              <a:ext cx="2638440" cy="1461240"/>
            </a:xfrm>
            <a:prstGeom prst="triangle">
              <a:avLst>
                <a:gd name="adj" fmla="val 3950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Skupina 29"/>
          <p:cNvGrpSpPr/>
          <p:nvPr/>
        </p:nvGrpSpPr>
        <p:grpSpPr>
          <a:xfrm>
            <a:off x="4794120" y="2276640"/>
            <a:ext cx="2035440" cy="1335960"/>
            <a:chOff x="4794120" y="2276640"/>
            <a:chExt cx="2035440" cy="1335960"/>
          </a:xfrm>
        </p:grpSpPr>
        <p:sp>
          <p:nvSpPr>
            <p:cNvPr id="308" name="Text Box 29"/>
            <p:cNvSpPr/>
            <p:nvPr/>
          </p:nvSpPr>
          <p:spPr>
            <a:xfrm>
              <a:off x="4794120" y="2276640"/>
              <a:ext cx="25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6569640" y="3008880"/>
              <a:ext cx="25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0" name="AutoShape 31"/>
            <p:cNvCxnSpPr/>
            <p:nvPr/>
          </p:nvCxnSpPr>
          <p:spPr>
            <a:xfrm>
              <a:off x="4961160" y="2462040"/>
              <a:ext cx="1783440" cy="7426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lg" type="triangle" w="lg"/>
            </a:ln>
          </p:spPr>
        </p:cxnSp>
      </p:grpSp>
      <p:sp>
        <p:nvSpPr>
          <p:cNvPr id="311" name="AutoShape 37"/>
          <p:cNvSpPr/>
          <p:nvPr/>
        </p:nvSpPr>
        <p:spPr>
          <a:xfrm rot="2066400">
            <a:off x="6365520" y="4287600"/>
            <a:ext cx="2637000" cy="1460520"/>
          </a:xfrm>
          <a:prstGeom prst="triangle">
            <a:avLst>
              <a:gd name="adj" fmla="val 39505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Skupina 34"/>
          <p:cNvGrpSpPr/>
          <p:nvPr/>
        </p:nvGrpSpPr>
        <p:grpSpPr>
          <a:xfrm>
            <a:off x="6090840" y="3528720"/>
            <a:ext cx="2372040" cy="864360"/>
            <a:chOff x="6090840" y="3528720"/>
            <a:chExt cx="2372040" cy="864360"/>
          </a:xfrm>
        </p:grpSpPr>
        <p:cxnSp>
          <p:nvCxnSpPr>
            <p:cNvPr id="313" name="AutoShape 35"/>
            <p:cNvCxnSpPr/>
            <p:nvPr/>
          </p:nvCxnSpPr>
          <p:spPr>
            <a:xfrm>
              <a:off x="6090840" y="3528720"/>
              <a:ext cx="1782360" cy="741960"/>
            </a:xfrm>
            <a:prstGeom prst="straightConnector1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</p:cxnSp>
        <p:sp>
          <p:nvSpPr>
            <p:cNvPr id="314" name="Text Box 38"/>
            <p:cNvSpPr/>
            <p:nvPr/>
          </p:nvSpPr>
          <p:spPr>
            <a:xfrm>
              <a:off x="7740720" y="3789360"/>
              <a:ext cx="722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M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Skupina 37"/>
          <p:cNvGrpSpPr/>
          <p:nvPr/>
        </p:nvGrpSpPr>
        <p:grpSpPr>
          <a:xfrm>
            <a:off x="4416480" y="4129200"/>
            <a:ext cx="2103480" cy="1171080"/>
            <a:chOff x="4416480" y="4129200"/>
            <a:chExt cx="2103480" cy="1171080"/>
          </a:xfrm>
        </p:grpSpPr>
        <p:cxnSp>
          <p:nvCxnSpPr>
            <p:cNvPr id="316" name="AutoShape 32"/>
            <p:cNvCxnSpPr/>
            <p:nvPr/>
          </p:nvCxnSpPr>
          <p:spPr>
            <a:xfrm>
              <a:off x="4416480" y="4129200"/>
              <a:ext cx="1782720" cy="742320"/>
            </a:xfrm>
            <a:prstGeom prst="straightConnector1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</p:cxnSp>
        <p:sp>
          <p:nvSpPr>
            <p:cNvPr id="317" name="Text Box 39"/>
            <p:cNvSpPr/>
            <p:nvPr/>
          </p:nvSpPr>
          <p:spPr>
            <a:xfrm>
              <a:off x="6057000" y="4696560"/>
              <a:ext cx="462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</a:t>
              </a:r>
              <a:br>
                <a:rPr sz="1800"/>
              </a:b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K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Skupina 40"/>
          <p:cNvGrpSpPr/>
          <p:nvPr/>
        </p:nvGrpSpPr>
        <p:grpSpPr>
          <a:xfrm>
            <a:off x="6568920" y="5610240"/>
            <a:ext cx="2125800" cy="1158120"/>
            <a:chOff x="6568920" y="5610240"/>
            <a:chExt cx="2125800" cy="1158120"/>
          </a:xfrm>
        </p:grpSpPr>
        <p:cxnSp>
          <p:nvCxnSpPr>
            <p:cNvPr id="319" name="AutoShape 36"/>
            <p:cNvCxnSpPr/>
            <p:nvPr/>
          </p:nvCxnSpPr>
          <p:spPr>
            <a:xfrm>
              <a:off x="6568920" y="5610240"/>
              <a:ext cx="1783440" cy="742320"/>
            </a:xfrm>
            <a:prstGeom prst="straightConnector1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</p:cxnSp>
        <p:sp>
          <p:nvSpPr>
            <p:cNvPr id="320" name="Text Box 40"/>
            <p:cNvSpPr/>
            <p:nvPr/>
          </p:nvSpPr>
          <p:spPr>
            <a:xfrm>
              <a:off x="8231760" y="6164640"/>
              <a:ext cx="462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</a:t>
              </a:r>
              <a:br>
                <a:rPr sz="1800"/>
              </a:br>
              <a:r>
                <a:rPr b="0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L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Zaoblený obdélník 43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44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26920" y="2133720"/>
            <a:ext cx="748836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 trojúhel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b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ležící vně trojúhelníku. Kde bude ležet obraz b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v posunut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? Narýsuj obraz trojúhelník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v posunut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 . Je posunutí přímá nebo nepřímá shodn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aoblený obdélník 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26920" y="2133720"/>
            <a:ext cx="7488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arýsujte čtverec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C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o délce stra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= 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obrazte ho ve shod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aoblený obdélník 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5-08-17T18:04:01Z</dcterms:modified>
  <cp:revision>30</cp:revision>
  <dc:subject/>
  <dc:title>Posunutí</dc:title>
</cp:coreProperties>
</file>