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02960" y="694800"/>
            <a:ext cx="4846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4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770BC-835B-4688-B2D4-C22AAF01F8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4A8AF-D6F1-405D-8D16-5C66179035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D6BE8E-A6B6-40F9-9608-DDF1C83CB131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6C1DD-0766-4708-824E-9F0FFE3A49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E76BA2-BD69-4415-812D-564FCEA58B2B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263D2-F2FD-4E04-B168-346604577C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C928C0-6893-4727-8230-641CCFFD8907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98370-54B4-43EA-9B96-AA13D17AD6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DD8383-7AA9-41D5-8CA2-865072FA3E84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5DD09-8820-411F-9BDB-3311C883E6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280B2B-16FB-4605-9A1E-6208669ED21F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CF28A-268B-4935-AA80-802699BFDB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942E6B-3AD6-4A62-A4A9-65E982ABBE6B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9EFA2-8856-4225-9E9B-CAEF783169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4A12E1-847A-4D84-BDE8-6F3E1742D741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E35C7-6E30-4692-BF27-65D869E2CE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DCD531-1785-4302-B6EE-7E144060DB04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DBABC-176F-45F0-ADFE-3305146E73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315245-AAEC-498D-BEEA-C6848FD9EB08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695DC-0BBE-401E-A1A5-EDE4AC7DA8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229133-E899-4A98-B4F7-CC2113F95BF7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F9C38-B6BF-4A35-96BB-F3A9C9480B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6D2AFB-1414-433A-BBA6-2976ECB83C73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91A40-AEB9-4A7E-ADB6-CAB37E0895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C3C6F0-05A4-4ECF-8BB3-F996A367834C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DC82A-9787-4193-8B57-9E68F24608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B61DFC-98F6-4333-8214-B16D033901F1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BA5-CC05-409C-9705-5EEA2226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CE9-5641-4BFA-9493-4FC4DF4A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B7B-EFEA-41D2-9FDB-B78ABD1F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960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4240" y="160488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532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960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4240" y="7809840"/>
            <a:ext cx="227052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D20-9AFD-4898-87E2-CDE08FC6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581-C454-4FA6-AAB8-D8CDBE32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685-845E-4254-9597-026FFF0B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6E1-FE28-48CD-9711-06CC6AC4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501-1505-4E11-A59F-D031282C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98320" y="272520"/>
            <a:ext cx="55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351-295F-456A-B9CF-1F1AE1E4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D76-DAD5-42AB-BC5E-9BDDE683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8640" y="780984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32AE-7536-4402-A872-2D2E6DF9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532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8640" y="1604880"/>
            <a:ext cx="34408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5320" y="7809840"/>
            <a:ext cx="7051680" cy="566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5141-5FBE-4F0D-8F92-D09A55EA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98320" y="27252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5320" y="1604880"/>
            <a:ext cx="7051680" cy="11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99840" y="552924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13120" y="608328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6600" y="6083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BD33F9-EC6E-4E72-872A-744A2C7EE1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stredova_soumernost_2.gxt" TargetMode="External"/><Relationship Id="rId2" Type="http://schemas.openxmlformats.org/officeDocument/2006/relationships/hyperlink" Target="file:///osova_soumernost_2.gx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600" spc="-1" strike="noStrike">
                <a:solidFill>
                  <a:srgbClr val="0000ff"/>
                </a:solidFill>
                <a:latin typeface="Constantia"/>
              </a:rPr>
              <a:t>PLANIMETRIE</a:t>
            </a:r>
            <a:br>
              <a:rPr sz="5600"/>
            </a:br>
            <a:r>
              <a:rPr b="1" lang="cs-CZ" sz="5600" spc="-1" strike="noStrike">
                <a:solidFill>
                  <a:srgbClr val="0000ff"/>
                </a:solidFill>
                <a:latin typeface="Constantia"/>
              </a:rPr>
              <a:t>Zobrazení v rovině</a:t>
            </a:r>
            <a:endParaRPr b="1" i="1" lang="en-US" sz="5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ctr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Shodná zobraz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Bc. David Kobla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0000ff"/>
                </a:solidFill>
                <a:latin typeface="Constantia"/>
              </a:rPr>
              <a:t>Dělení shodností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150" name="Group 2"/>
          <p:cNvGrpSpPr/>
          <p:nvPr/>
        </p:nvGrpSpPr>
        <p:grpSpPr>
          <a:xfrm>
            <a:off x="755640" y="2205000"/>
            <a:ext cx="2490840" cy="1684080"/>
            <a:chOff x="755640" y="2205000"/>
            <a:chExt cx="2490840" cy="1684080"/>
          </a:xfrm>
        </p:grpSpPr>
        <p:sp>
          <p:nvSpPr>
            <p:cNvPr id="151" name="Rectangle 3"/>
            <p:cNvSpPr/>
            <p:nvPr/>
          </p:nvSpPr>
          <p:spPr>
            <a:xfrm>
              <a:off x="2627280" y="3495600"/>
              <a:ext cx="6192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"/>
            <p:cNvSpPr/>
            <p:nvPr/>
          </p:nvSpPr>
          <p:spPr>
            <a:xfrm>
              <a:off x="755640" y="3524400"/>
              <a:ext cx="6192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1952640" y="2205000"/>
              <a:ext cx="6462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6"/>
            <p:cNvSpPr/>
            <p:nvPr/>
          </p:nvSpPr>
          <p:spPr>
            <a:xfrm>
              <a:off x="1011240" y="3579840"/>
              <a:ext cx="1654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7"/>
            <p:cNvSpPr/>
            <p:nvPr/>
          </p:nvSpPr>
          <p:spPr>
            <a:xfrm flipV="1">
              <a:off x="1011240" y="2563920"/>
              <a:ext cx="1101600" cy="10159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8"/>
            <p:cNvSpPr/>
            <p:nvPr/>
          </p:nvSpPr>
          <p:spPr>
            <a:xfrm>
              <a:off x="2119320" y="2565360"/>
              <a:ext cx="550800" cy="101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9"/>
          <p:cNvGrpSpPr/>
          <p:nvPr/>
        </p:nvGrpSpPr>
        <p:grpSpPr>
          <a:xfrm>
            <a:off x="3780000" y="2205000"/>
            <a:ext cx="2463480" cy="1733040"/>
            <a:chOff x="3780000" y="2205000"/>
            <a:chExt cx="2463480" cy="1733040"/>
          </a:xfrm>
        </p:grpSpPr>
        <p:sp>
          <p:nvSpPr>
            <p:cNvPr id="158" name="Rectangle 10"/>
            <p:cNvSpPr/>
            <p:nvPr/>
          </p:nvSpPr>
          <p:spPr>
            <a:xfrm>
              <a:off x="5624640" y="3573360"/>
              <a:ext cx="61884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3780000" y="3573360"/>
              <a:ext cx="61884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975200" y="2205000"/>
              <a:ext cx="6462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3"/>
            <p:cNvSpPr/>
            <p:nvPr/>
          </p:nvSpPr>
          <p:spPr>
            <a:xfrm>
              <a:off x="4033800" y="3594240"/>
              <a:ext cx="1654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4"/>
            <p:cNvSpPr/>
            <p:nvPr/>
          </p:nvSpPr>
          <p:spPr>
            <a:xfrm flipV="1">
              <a:off x="4033800" y="2565360"/>
              <a:ext cx="1101600" cy="10159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5"/>
            <p:cNvSpPr/>
            <p:nvPr/>
          </p:nvSpPr>
          <p:spPr>
            <a:xfrm>
              <a:off x="5143680" y="2565360"/>
              <a:ext cx="550800" cy="101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16"/>
          <p:cNvSpPr/>
          <p:nvPr/>
        </p:nvSpPr>
        <p:spPr>
          <a:xfrm>
            <a:off x="6661080" y="2060640"/>
            <a:ext cx="1943280" cy="15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lat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/>
              <a:buChar char="ú"/>
              <a:tabLst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ff3300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3300"/>
                </a:solidFill>
                <a:latin typeface="Constantia"/>
              </a:rPr>
              <a:t>AB </a:t>
            </a:r>
            <a:r>
              <a:rPr b="0" lang="cs-CZ" sz="1800" spc="-1" strike="noStrike">
                <a:solidFill>
                  <a:srgbClr val="ff3300"/>
                </a:solidFill>
                <a:latin typeface="Symbol"/>
              </a:rPr>
              <a:t></a:t>
            </a:r>
            <a:r>
              <a:rPr b="0" lang="cs-CZ" sz="1800" spc="-1" strike="noStrike">
                <a:solidFill>
                  <a:srgbClr val="ff3300"/>
                </a:solidFill>
                <a:latin typeface="Constantia"/>
              </a:rPr>
              <a:t>= </a:t>
            </a:r>
            <a:r>
              <a:rPr b="0" lang="cs-CZ" sz="1800" spc="-1" strike="noStrike">
                <a:solidFill>
                  <a:srgbClr val="ff3300"/>
                </a:solidFill>
                <a:latin typeface="Symbol"/>
              </a:rPr>
              <a:t></a:t>
            </a:r>
            <a:r>
              <a:rPr b="0" lang="cs-CZ" sz="1800" spc="-1" strike="noStrike">
                <a:solidFill>
                  <a:srgbClr val="ff3300"/>
                </a:solidFill>
                <a:latin typeface="Constantia"/>
              </a:rPr>
              <a:t> KL </a:t>
            </a:r>
            <a:r>
              <a:rPr b="0" lang="cs-CZ" sz="1800" spc="-1" strike="noStrike">
                <a:solidFill>
                  <a:srgbClr val="ff3300"/>
                </a:solidFill>
                <a:latin typeface="Symbol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/>
              <a:buChar char="ú"/>
              <a:tabLst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BC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</a:rPr>
              <a:t>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</a:rPr>
              <a:t>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LM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/>
              <a:buChar char="ú"/>
              <a:tabLst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9900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009900"/>
                </a:solidFill>
                <a:latin typeface="Constantia"/>
              </a:rPr>
              <a:t>AC </a:t>
            </a:r>
            <a:r>
              <a:rPr b="0" lang="cs-CZ" sz="1800" spc="-1" strike="noStrike">
                <a:solidFill>
                  <a:srgbClr val="009900"/>
                </a:solidFill>
                <a:latin typeface="Symbol"/>
              </a:rPr>
              <a:t></a:t>
            </a:r>
            <a:r>
              <a:rPr b="0" lang="cs-CZ" sz="1800" spc="-1" strike="noStrike">
                <a:solidFill>
                  <a:srgbClr val="009900"/>
                </a:solidFill>
                <a:latin typeface="Constantia"/>
              </a:rPr>
              <a:t>= </a:t>
            </a:r>
            <a:r>
              <a:rPr b="0" lang="cs-CZ" sz="1800" spc="-1" strike="noStrike">
                <a:solidFill>
                  <a:srgbClr val="009900"/>
                </a:solidFill>
                <a:latin typeface="Symbol"/>
              </a:rPr>
              <a:t></a:t>
            </a:r>
            <a:r>
              <a:rPr b="0" lang="cs-CZ" sz="1800" spc="-1" strike="noStrike">
                <a:solidFill>
                  <a:srgbClr val="009900"/>
                </a:solidFill>
                <a:latin typeface="Constantia"/>
              </a:rPr>
              <a:t> KM </a:t>
            </a:r>
            <a:r>
              <a:rPr b="0" lang="cs-CZ" sz="1800" spc="-1" strike="noStrike">
                <a:solidFill>
                  <a:srgbClr val="009900"/>
                </a:solidFill>
                <a:latin typeface="Symbol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468360" y="1773360"/>
            <a:ext cx="583236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římá shodn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okud objekty jenom přesouvá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468360" y="4221000"/>
            <a:ext cx="81360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epřímá shodno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okud musíme jeden objekt převrátit (zrcadlový obra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6804000" y="4581360"/>
            <a:ext cx="1800360" cy="15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lat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/>
              <a:buChar char="ú"/>
              <a:tabLst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ff3300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3300"/>
                </a:solidFill>
                <a:latin typeface="Constantia"/>
              </a:rPr>
              <a:t>AB </a:t>
            </a:r>
            <a:r>
              <a:rPr b="0" lang="cs-CZ" sz="1800" spc="-1" strike="noStrike">
                <a:solidFill>
                  <a:srgbClr val="ff3300"/>
                </a:solidFill>
                <a:latin typeface="Symbol"/>
              </a:rPr>
              <a:t></a:t>
            </a:r>
            <a:r>
              <a:rPr b="0" lang="cs-CZ" sz="1800" spc="-1" strike="noStrike">
                <a:solidFill>
                  <a:srgbClr val="ff3300"/>
                </a:solidFill>
                <a:latin typeface="Constantia"/>
              </a:rPr>
              <a:t>= </a:t>
            </a:r>
            <a:r>
              <a:rPr b="0" lang="cs-CZ" sz="1800" spc="-1" strike="noStrike">
                <a:solidFill>
                  <a:srgbClr val="ff3300"/>
                </a:solidFill>
                <a:latin typeface="Symbol"/>
              </a:rPr>
              <a:t></a:t>
            </a:r>
            <a:r>
              <a:rPr b="0" lang="cs-CZ" sz="1800" spc="-1" strike="noStrike">
                <a:solidFill>
                  <a:srgbClr val="ff3300"/>
                </a:solidFill>
                <a:latin typeface="Constantia"/>
              </a:rPr>
              <a:t> KL </a:t>
            </a:r>
            <a:r>
              <a:rPr b="0" lang="cs-CZ" sz="1800" spc="-1" strike="noStrike">
                <a:solidFill>
                  <a:srgbClr val="ff3300"/>
                </a:solidFill>
                <a:latin typeface="Symbol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/>
              <a:buChar char="ú"/>
              <a:tabLst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BC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</a:rPr>
              <a:t>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</a:rPr>
              <a:t>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LM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/>
              <a:buChar char="ú"/>
              <a:tabLst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9900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009900"/>
                </a:solidFill>
                <a:latin typeface="Constantia"/>
              </a:rPr>
              <a:t>AC </a:t>
            </a:r>
            <a:r>
              <a:rPr b="0" lang="cs-CZ" sz="1800" spc="-1" strike="noStrike">
                <a:solidFill>
                  <a:srgbClr val="009900"/>
                </a:solidFill>
                <a:latin typeface="Symbol"/>
              </a:rPr>
              <a:t></a:t>
            </a:r>
            <a:r>
              <a:rPr b="0" lang="cs-CZ" sz="1800" spc="-1" strike="noStrike">
                <a:solidFill>
                  <a:srgbClr val="009900"/>
                </a:solidFill>
                <a:latin typeface="Constantia"/>
              </a:rPr>
              <a:t>= </a:t>
            </a:r>
            <a:r>
              <a:rPr b="0" lang="cs-CZ" sz="1800" spc="-1" strike="noStrike">
                <a:solidFill>
                  <a:srgbClr val="009900"/>
                </a:solidFill>
                <a:latin typeface="Symbol"/>
              </a:rPr>
              <a:t></a:t>
            </a:r>
            <a:r>
              <a:rPr b="0" lang="cs-CZ" sz="1800" spc="-1" strike="noStrike">
                <a:solidFill>
                  <a:srgbClr val="009900"/>
                </a:solidFill>
                <a:latin typeface="Constantia"/>
              </a:rPr>
              <a:t> KM </a:t>
            </a:r>
            <a:r>
              <a:rPr b="0" lang="cs-CZ" sz="1800" spc="-1" strike="noStrike">
                <a:solidFill>
                  <a:srgbClr val="009900"/>
                </a:solidFill>
                <a:latin typeface="Symbol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Skupina 42"/>
          <p:cNvGrpSpPr/>
          <p:nvPr/>
        </p:nvGrpSpPr>
        <p:grpSpPr>
          <a:xfrm>
            <a:off x="755640" y="4708440"/>
            <a:ext cx="2492280" cy="1668240"/>
            <a:chOff x="755640" y="4708440"/>
            <a:chExt cx="2492280" cy="1668240"/>
          </a:xfrm>
        </p:grpSpPr>
        <p:grpSp>
          <p:nvGrpSpPr>
            <p:cNvPr id="169" name="Skupina 45"/>
            <p:cNvGrpSpPr/>
            <p:nvPr/>
          </p:nvGrpSpPr>
          <p:grpSpPr>
            <a:xfrm>
              <a:off x="755640" y="4708440"/>
              <a:ext cx="2492280" cy="1668240"/>
              <a:chOff x="755640" y="4708440"/>
              <a:chExt cx="2492280" cy="1668240"/>
            </a:xfrm>
          </p:grpSpPr>
          <p:grpSp>
            <p:nvGrpSpPr>
              <p:cNvPr id="170" name="Skupina 39"/>
              <p:cNvGrpSpPr/>
              <p:nvPr/>
            </p:nvGrpSpPr>
            <p:grpSpPr>
              <a:xfrm>
                <a:off x="755640" y="4708440"/>
                <a:ext cx="2492280" cy="1668240"/>
                <a:chOff x="755640" y="4708440"/>
                <a:chExt cx="2492280" cy="1668240"/>
              </a:xfrm>
            </p:grpSpPr>
            <p:grpSp>
              <p:nvGrpSpPr>
                <p:cNvPr id="171" name="Skupina 25"/>
                <p:cNvGrpSpPr/>
                <p:nvPr/>
              </p:nvGrpSpPr>
              <p:grpSpPr>
                <a:xfrm>
                  <a:off x="755640" y="4708440"/>
                  <a:ext cx="2492280" cy="1668240"/>
                  <a:chOff x="755640" y="4708440"/>
                  <a:chExt cx="2492280" cy="1668240"/>
                </a:xfrm>
              </p:grpSpPr>
              <p:sp>
                <p:nvSpPr>
                  <p:cNvPr id="172" name="Text Box 21"/>
                  <p:cNvSpPr/>
                  <p:nvPr/>
                </p:nvSpPr>
                <p:spPr>
                  <a:xfrm>
                    <a:off x="2627280" y="5999040"/>
                    <a:ext cx="620640" cy="34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lang="cs-CZ" sz="18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Text Box 22"/>
                  <p:cNvSpPr/>
                  <p:nvPr/>
                </p:nvSpPr>
                <p:spPr>
                  <a:xfrm>
                    <a:off x="755640" y="6027840"/>
                    <a:ext cx="620640" cy="34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lang="cs-CZ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Text Box 23"/>
                  <p:cNvSpPr/>
                  <p:nvPr/>
                </p:nvSpPr>
                <p:spPr>
                  <a:xfrm>
                    <a:off x="1952640" y="4708440"/>
                    <a:ext cx="647640" cy="34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lang="cs-CZ" sz="18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utoShape 39"/>
                  <p:cNvSpPr/>
                  <p:nvPr/>
                </p:nvSpPr>
                <p:spPr>
                  <a:xfrm>
                    <a:off x="1009440" y="5062320"/>
                    <a:ext cx="1655640" cy="1014480"/>
                  </a:xfrm>
                  <a:prstGeom prst="triangle">
                    <a:avLst>
                      <a:gd name="adj" fmla="val 67463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" name="Přímá spojovací čára 48"/>
                <p:cNvSpPr/>
                <p:nvPr/>
              </p:nvSpPr>
              <p:spPr>
                <a:xfrm>
                  <a:off x="1008720" y="6076800"/>
                  <a:ext cx="16556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Přímá spojovací čára 46"/>
              <p:cNvSpPr/>
              <p:nvPr/>
            </p:nvSpPr>
            <p:spPr>
              <a:xfrm flipV="1">
                <a:off x="1008720" y="5062320"/>
                <a:ext cx="1117080" cy="1014480"/>
              </a:xfrm>
              <a:prstGeom prst="line">
                <a:avLst/>
              </a:prstGeom>
              <a:ln w="1908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Přímá spojovací čára 44"/>
            <p:cNvSpPr/>
            <p:nvPr/>
          </p:nvSpPr>
          <p:spPr>
            <a:xfrm>
              <a:off x="2126520" y="5062320"/>
              <a:ext cx="538560" cy="10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Skupina 53"/>
          <p:cNvGrpSpPr/>
          <p:nvPr/>
        </p:nvGrpSpPr>
        <p:grpSpPr>
          <a:xfrm>
            <a:off x="3780000" y="4653000"/>
            <a:ext cx="2349360" cy="1723680"/>
            <a:chOff x="3780000" y="4653000"/>
            <a:chExt cx="2349360" cy="1723680"/>
          </a:xfrm>
        </p:grpSpPr>
        <p:grpSp>
          <p:nvGrpSpPr>
            <p:cNvPr id="180" name="Skupina 44"/>
            <p:cNvGrpSpPr/>
            <p:nvPr/>
          </p:nvGrpSpPr>
          <p:grpSpPr>
            <a:xfrm>
              <a:off x="3780000" y="4653000"/>
              <a:ext cx="2349360" cy="1723680"/>
              <a:chOff x="3780000" y="4653000"/>
              <a:chExt cx="2349360" cy="1723680"/>
            </a:xfrm>
          </p:grpSpPr>
          <p:grpSp>
            <p:nvGrpSpPr>
              <p:cNvPr id="181" name="Skupina 38"/>
              <p:cNvGrpSpPr/>
              <p:nvPr/>
            </p:nvGrpSpPr>
            <p:grpSpPr>
              <a:xfrm>
                <a:off x="3780000" y="4653000"/>
                <a:ext cx="2349360" cy="1723680"/>
                <a:chOff x="3780000" y="4653000"/>
                <a:chExt cx="2349360" cy="1723680"/>
              </a:xfrm>
            </p:grpSpPr>
            <p:grpSp>
              <p:nvGrpSpPr>
                <p:cNvPr id="182" name="Skupina 32"/>
                <p:cNvGrpSpPr/>
                <p:nvPr/>
              </p:nvGrpSpPr>
              <p:grpSpPr>
                <a:xfrm>
                  <a:off x="3780000" y="4653000"/>
                  <a:ext cx="2349360" cy="1723680"/>
                  <a:chOff x="3780000" y="4653000"/>
                  <a:chExt cx="2349360" cy="1723680"/>
                </a:xfrm>
              </p:grpSpPr>
              <p:sp>
                <p:nvSpPr>
                  <p:cNvPr id="183" name="Text Box 31"/>
                  <p:cNvSpPr/>
                  <p:nvPr/>
                </p:nvSpPr>
                <p:spPr>
                  <a:xfrm>
                    <a:off x="5508720" y="6027840"/>
                    <a:ext cx="620640" cy="34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lang="cs-CZ" sz="1800" spc="-1" strike="noStrike">
                        <a:solidFill>
                          <a:srgbClr val="000000"/>
                        </a:solidFill>
                        <a:latin typeface="Arial"/>
                      </a:rPr>
                      <a:t>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Text Box 32"/>
                  <p:cNvSpPr/>
                  <p:nvPr/>
                </p:nvSpPr>
                <p:spPr>
                  <a:xfrm>
                    <a:off x="3780000" y="6021000"/>
                    <a:ext cx="432000" cy="34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lang="cs-CZ" sz="1800" spc="-1" strike="noStrike">
                        <a:solidFill>
                          <a:srgbClr val="000000"/>
                        </a:solidFill>
                        <a:latin typeface="Arial"/>
                      </a:rPr>
                      <a:t>L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Text Box 33"/>
                  <p:cNvSpPr/>
                  <p:nvPr/>
                </p:nvSpPr>
                <p:spPr>
                  <a:xfrm>
                    <a:off x="4328640" y="4653000"/>
                    <a:ext cx="647640" cy="34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lang="cs-CZ" sz="1800" spc="-1" strike="noStrike">
                        <a:solidFill>
                          <a:srgbClr val="000000"/>
                        </a:solidFill>
                        <a:latin typeface="Arial"/>
                      </a:rPr>
                      <a:t>M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38"/>
                  <p:cNvSpPr/>
                  <p:nvPr/>
                </p:nvSpPr>
                <p:spPr>
                  <a:xfrm flipH="1">
                    <a:off x="3992760" y="5052960"/>
                    <a:ext cx="1651320" cy="993600"/>
                  </a:xfrm>
                  <a:prstGeom prst="triangle">
                    <a:avLst>
                      <a:gd name="adj" fmla="val 67463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7" name="Přímá spojovací čára 59"/>
                <p:cNvSpPr/>
                <p:nvPr/>
              </p:nvSpPr>
              <p:spPr>
                <a:xfrm>
                  <a:off x="3992760" y="6046920"/>
                  <a:ext cx="16513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Přímá spojovací čára 57"/>
              <p:cNvSpPr/>
              <p:nvPr/>
            </p:nvSpPr>
            <p:spPr>
              <a:xfrm>
                <a:off x="4530960" y="5052960"/>
                <a:ext cx="1113840" cy="993600"/>
              </a:xfrm>
              <a:prstGeom prst="line">
                <a:avLst/>
              </a:prstGeom>
              <a:ln w="1908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Přímá spojovací čára 55"/>
            <p:cNvSpPr/>
            <p:nvPr/>
          </p:nvSpPr>
          <p:spPr>
            <a:xfrm flipV="1">
              <a:off x="3993480" y="5052960"/>
              <a:ext cx="537120" cy="9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0000ff"/>
                </a:solidFill>
                <a:latin typeface="Constantia"/>
              </a:rPr>
              <a:t>Shodnost trojúhelníků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755640" y="4365720"/>
            <a:ext cx="3666960" cy="20955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92" name="Rectangle 3"/>
          <p:cNvSpPr/>
          <p:nvPr/>
        </p:nvSpPr>
        <p:spPr>
          <a:xfrm>
            <a:off x="684360" y="1773360"/>
            <a:ext cx="784836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ž chceme zjistit, zda jsou dva trojúhelníky shodné, stačí porovnat jen některé jejich strany a úhly. O shodnosti trojúhelníků mluví následující vě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4716360" y="4365720"/>
            <a:ext cx="3667320" cy="20955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94" name="Rectangle 5"/>
          <p:cNvSpPr/>
          <p:nvPr/>
        </p:nvSpPr>
        <p:spPr>
          <a:xfrm>
            <a:off x="684360" y="2637000"/>
            <a:ext cx="784836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ěta sss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Pokud se dva trojúhelníky shodují ve všech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</a:rPr>
              <a:t>třech straná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ak jsou shod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ěta sus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Pokud se dva trojúhelníky shodují ve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</a:rPr>
              <a:t>dvou straná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</a:rPr>
              <a:t>úhlu jimi sevřen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ak jsou shod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0000ff"/>
                </a:solidFill>
                <a:latin typeface="Constantia"/>
              </a:rPr>
              <a:t>Shodnost trojúhelníků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539640" y="4292640"/>
            <a:ext cx="3667320" cy="20955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4572000" y="4292640"/>
            <a:ext cx="3981600" cy="20955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98" name="Rectangle 4"/>
          <p:cNvSpPr/>
          <p:nvPr/>
        </p:nvSpPr>
        <p:spPr>
          <a:xfrm>
            <a:off x="611280" y="1917720"/>
            <a:ext cx="8136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ěta usu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Pokud se dva trojúhelníky shodují v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</a:rPr>
              <a:t>jedné stran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v obou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</a:rPr>
              <a:t>úhlech k této straně přilehl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ak jsou shod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ěta Ssu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Pokud se dva trojúhelníky shodují ve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</a:rPr>
              <a:t>dvou straná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1800" spc="-1" strike="noStrike">
                <a:solidFill>
                  <a:srgbClr val="00b050"/>
                </a:solidFill>
                <a:latin typeface="Arial"/>
              </a:rPr>
              <a:t>úhlu naproti delší stra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ak jsou shodné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ůlež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úhel musí ležet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aproti delší stra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Kdyby ležel naproti kratší straně, tak trojúhelník shodný být nemus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0000ff"/>
                </a:solidFill>
                <a:latin typeface="Constantia"/>
              </a:rPr>
              <a:t>Shodná zobrazení v rovině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468360" y="1773360"/>
            <a:ext cx="7775640" cy="23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ovině existuje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ěkolik shodných zobraz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á jsou (z pohledu geometrických konstrukcí) považována za základ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00b050"/>
                </a:solidFill>
                <a:latin typeface="Arial"/>
              </a:rPr>
              <a:t>ident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18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00b050"/>
                </a:solidFill>
                <a:latin typeface="Arial"/>
              </a:rPr>
              <a:t>středová souměr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18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00b050"/>
                </a:solidFill>
                <a:latin typeface="Arial"/>
              </a:rPr>
              <a:t>osová souměr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18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00b050"/>
                </a:solidFill>
                <a:latin typeface="Arial"/>
              </a:rPr>
              <a:t>posunut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ts val="25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18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00b050"/>
                </a:solidFill>
                <a:latin typeface="Arial"/>
              </a:rPr>
              <a:t>otoč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468360" y="4437000"/>
            <a:ext cx="813600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Identi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identické zobrazení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láštní případ sho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obrazení, které každý bod zobrazuje na sebe s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zor a obraz jsou totožné bod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ůže být speciálním případem jiných shodných zobraze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osunu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 úsečku nulové délky nebo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otoč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 nulový úh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4572000" y="2637000"/>
            <a:ext cx="3981600" cy="23047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0000ff"/>
                </a:solidFill>
                <a:latin typeface="Constantia"/>
              </a:rPr>
              <a:t>Zobrazení v rovině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1258920" y="2133720"/>
            <a:ext cx="655164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b0f0"/>
                </a:solidFill>
                <a:latin typeface="Arial"/>
              </a:rPr>
              <a:t>ZOBRAZ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 rovině je předpis, který každému bodu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iny přiřazu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vě jeden bod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X´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viny. Bod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e nazývá </a:t>
            </a:r>
            <a:r>
              <a:rPr b="1" lang="cs-CZ" sz="1800" spc="-1" strike="noStrike">
                <a:solidFill>
                  <a:srgbClr val="00b0f0"/>
                </a:solidFill>
                <a:latin typeface="Arial"/>
              </a:rPr>
              <a:t>VZ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bod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X´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ho </a:t>
            </a:r>
            <a:r>
              <a:rPr b="1" lang="cs-CZ" sz="1800" spc="-1" strike="noStrike">
                <a:solidFill>
                  <a:srgbClr val="00b0f0"/>
                </a:solidFill>
                <a:latin typeface="Arial"/>
              </a:rPr>
              <a:t>OBRA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Zapisuj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492360" y="3573360"/>
            <a:ext cx="208764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cs-CZ" sz="2800" spc="-1" strike="noStrike">
                <a:solidFill>
                  <a:srgbClr val="00b050"/>
                </a:solidFill>
                <a:latin typeface="Tahoma"/>
              </a:rPr>
              <a:t>Z: X </a:t>
            </a:r>
            <a:r>
              <a:rPr b="1" i="1" lang="cs-CZ" sz="2800" spc="-1" strike="noStrike">
                <a:solidFill>
                  <a:srgbClr val="00b050"/>
                </a:solidFill>
                <a:latin typeface="Symbol"/>
              </a:rPr>
              <a:t></a:t>
            </a:r>
            <a:r>
              <a:rPr b="1" i="1" lang="cs-CZ" sz="2800" spc="-1" strike="noStrike">
                <a:solidFill>
                  <a:srgbClr val="00b050"/>
                </a:solidFill>
                <a:latin typeface="Tahoma"/>
              </a:rPr>
              <a:t> X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258920" y="4653000"/>
            <a:ext cx="611964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znám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od </a:t>
            </a:r>
            <a:r>
              <a:rPr b="1" i="1" lang="cs-CZ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označujeme jako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vzo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od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X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od </a:t>
            </a:r>
            <a:r>
              <a:rPr b="1" i="1" lang="cs-CZ" sz="1600" spc="-1" strike="noStrike">
                <a:solidFill>
                  <a:srgbClr val="ff0000"/>
                </a:solidFill>
                <a:latin typeface="Arial"/>
              </a:rPr>
              <a:t>X´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značujeme jako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obra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od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 zobrazení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0000ff"/>
                </a:solidFill>
                <a:latin typeface="Constantia"/>
              </a:rPr>
              <a:t>Shodné zobrazení v rovině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5"/>
          <p:cNvGrpSpPr/>
          <p:nvPr/>
        </p:nvGrpSpPr>
        <p:grpSpPr>
          <a:xfrm>
            <a:off x="611280" y="1917720"/>
            <a:ext cx="7991280" cy="784080"/>
            <a:chOff x="611280" y="1917720"/>
            <a:chExt cx="7991280" cy="784080"/>
          </a:xfrm>
        </p:grpSpPr>
        <p:sp>
          <p:nvSpPr>
            <p:cNvPr id="59" name="Rectangle 6"/>
            <p:cNvSpPr/>
            <p:nvPr/>
          </p:nvSpPr>
          <p:spPr>
            <a:xfrm>
              <a:off x="611280" y="1917720"/>
              <a:ext cx="799128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5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cs-CZ" sz="1800" spc="-1" strike="noStrike">
                  <a:solidFill>
                    <a:srgbClr val="00b050"/>
                  </a:solidFill>
                  <a:latin typeface="Arial"/>
                </a:rPr>
                <a:t>Shodné zobrazení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, stručněji </a:t>
              </a:r>
              <a:r>
                <a:rPr b="0" i="1" lang="cs-CZ" sz="1800" spc="-1" strike="noStrike">
                  <a:solidFill>
                    <a:srgbClr val="00b050"/>
                  </a:solidFill>
                  <a:latin typeface="Arial"/>
                </a:rPr>
                <a:t>shodnost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, se nazývá zobrazení, které každým dvěma bodům </a:t>
              </a:r>
              <a:r>
                <a:rPr b="1" i="1" lang="cs-C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cs-CZ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přiřazuje body </a:t>
              </a:r>
              <a:r>
                <a:rPr b="1" i="1" lang="cs-CZ" sz="1800" spc="-1" strike="noStrike">
                  <a:solidFill>
                    <a:srgbClr val="000000"/>
                  </a:solidFill>
                  <a:latin typeface="Arial"/>
                </a:rPr>
                <a:t>A´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cs-CZ" sz="1800" spc="-1" strike="noStrike">
                  <a:solidFill>
                    <a:srgbClr val="000000"/>
                  </a:solidFill>
                  <a:latin typeface="Arial"/>
                </a:rPr>
                <a:t>B´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tak, že                         </a:t>
              </a:r>
              <a:r>
                <a:rPr b="0" lang="cs-CZ" sz="1800" spc="-1" strike="noStrike">
                  <a:solidFill>
                    <a:srgbClr val="008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7" descr=""/>
            <p:cNvPicPr/>
            <p:nvPr/>
          </p:nvPicPr>
          <p:blipFill>
            <a:blip r:embed="rId1"/>
            <a:stretch/>
          </p:blipFill>
          <p:spPr>
            <a:xfrm>
              <a:off x="5796000" y="2303640"/>
              <a:ext cx="1351080" cy="39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Rectangle 8"/>
          <p:cNvSpPr/>
          <p:nvPr/>
        </p:nvSpPr>
        <p:spPr>
          <a:xfrm>
            <a:off x="755640" y="2925720"/>
            <a:ext cx="7704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tvary, které si v zobrazení odpovídají, se nazývají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vz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obra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4211640" y="3429000"/>
            <a:ext cx="41767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shodnosti na obrázku je bo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zor bodu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´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bo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´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az bodu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4859280" y="4221000"/>
            <a:ext cx="33847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or a jeho obraz ve shodném zobrazení jsou shodné útv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3"/>
          <p:cNvGrpSpPr/>
          <p:nvPr/>
        </p:nvGrpSpPr>
        <p:grpSpPr>
          <a:xfrm>
            <a:off x="4859280" y="5013360"/>
            <a:ext cx="3525840" cy="1309680"/>
            <a:chOff x="4859280" y="5013360"/>
            <a:chExt cx="3525840" cy="1309680"/>
          </a:xfrm>
        </p:grpSpPr>
        <p:sp>
          <p:nvSpPr>
            <p:cNvPr id="67" name="Rectangle 14"/>
            <p:cNvSpPr/>
            <p:nvPr/>
          </p:nvSpPr>
          <p:spPr>
            <a:xfrm>
              <a:off x="4859280" y="5013360"/>
              <a:ext cx="352584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5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Na obrázku je úsečka  </a:t>
              </a:r>
              <a:r>
                <a:rPr b="1" i="1" lang="cs-CZ" sz="18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(vzor) shodná s úsečkou </a:t>
              </a:r>
              <a:r>
                <a:rPr b="1" i="1" lang="cs-CZ" sz="1800" spc="-1" strike="noStrike">
                  <a:solidFill>
                    <a:srgbClr val="000000"/>
                  </a:solidFill>
                  <a:latin typeface="Arial"/>
                </a:rPr>
                <a:t>A´B´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(obraz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15" descr=""/>
            <p:cNvPicPr/>
            <p:nvPr/>
          </p:nvPicPr>
          <p:blipFill>
            <a:blip r:embed="rId2"/>
            <a:stretch/>
          </p:blipFill>
          <p:spPr>
            <a:xfrm>
              <a:off x="6804000" y="5877000"/>
              <a:ext cx="15033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6" descr=""/>
            <p:cNvPicPr/>
            <p:nvPr/>
          </p:nvPicPr>
          <p:blipFill>
            <a:blip r:embed="rId3"/>
            <a:stretch/>
          </p:blipFill>
          <p:spPr>
            <a:xfrm>
              <a:off x="4967280" y="5877000"/>
              <a:ext cx="117936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Skupina 44"/>
          <p:cNvGrpSpPr/>
          <p:nvPr/>
        </p:nvGrpSpPr>
        <p:grpSpPr>
          <a:xfrm>
            <a:off x="251640" y="2450520"/>
            <a:ext cx="4260240" cy="4260240"/>
            <a:chOff x="251640" y="2450520"/>
            <a:chExt cx="4260240" cy="4260240"/>
          </a:xfrm>
        </p:grpSpPr>
        <p:grpSp>
          <p:nvGrpSpPr>
            <p:cNvPr id="71" name="Skupina 53"/>
            <p:cNvGrpSpPr/>
            <p:nvPr/>
          </p:nvGrpSpPr>
          <p:grpSpPr>
            <a:xfrm>
              <a:off x="251640" y="2450520"/>
              <a:ext cx="4260240" cy="4260240"/>
              <a:chOff x="251640" y="2450520"/>
              <a:chExt cx="4260240" cy="4260240"/>
            </a:xfrm>
          </p:grpSpPr>
          <p:grpSp>
            <p:nvGrpSpPr>
              <p:cNvPr id="72" name="Skupina 46"/>
              <p:cNvGrpSpPr/>
              <p:nvPr/>
            </p:nvGrpSpPr>
            <p:grpSpPr>
              <a:xfrm>
                <a:off x="251640" y="2450520"/>
                <a:ext cx="4260240" cy="4260240"/>
                <a:chOff x="251640" y="2450520"/>
                <a:chExt cx="4260240" cy="4260240"/>
              </a:xfrm>
            </p:grpSpPr>
            <p:sp>
              <p:nvSpPr>
                <p:cNvPr id="73" name="Oblouk 55"/>
                <p:cNvSpPr/>
                <p:nvPr/>
              </p:nvSpPr>
              <p:spPr>
                <a:xfrm rot="8400000">
                  <a:off x="869400" y="3068640"/>
                  <a:ext cx="3024000" cy="3024000"/>
                </a:xfrm>
                <a:custGeom>
                  <a:avLst/>
                  <a:gdLst>
                    <a:gd name="textAreaLeft" fmla="*/ 1512000 w 3024000"/>
                    <a:gd name="textAreaRight" fmla="*/ 3024360 w 3024000"/>
                    <a:gd name="textAreaTop" fmla="*/ 0 h 3024000"/>
                    <a:gd name="textAreaBottom" fmla="*/ 1512000 h 3024000"/>
                  </a:gdLst>
                  <a:ahLst/>
                  <a:rect l="textAreaLeft" t="textAreaTop" r="textAreaRight" b="textAreaBottom"/>
                  <a:pathLst>
                    <a:path stroke="0" w="3024000" h="3024000">
                      <a:moveTo>
                        <a:pt x="1512002" y="0"/>
                      </a:moveTo>
                      <a:lnTo>
                        <a:pt x="1512002" y="0"/>
                      </a:lnTo>
                      <a:arcTo wR="1512000" hR="1512000" stAng="-5399995" swAng="5400005"/>
                      <a:lnTo>
                        <a:pt x="1512000" y="1512000"/>
                      </a:lnTo>
                      <a:close/>
                    </a:path>
                    <a:path fill="none" w="3024000" h="3024000">
                      <a:moveTo>
                        <a:pt x="1512002" y="0"/>
                      </a:moveTo>
                      <a:lnTo>
                        <a:pt x="1512002" y="0"/>
                      </a:lnTo>
                      <a:arcTo wR="1512000" hR="1512000" stAng="-5399995" swAng="5400005"/>
                    </a:path>
                  </a:pathLst>
                </a:custGeom>
                <a:noFill/>
                <a:ln w="9360">
                  <a:solidFill>
                    <a:srgbClr val="00cc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" name="Skupina 43"/>
                <p:cNvGrpSpPr/>
                <p:nvPr/>
              </p:nvGrpSpPr>
              <p:grpSpPr>
                <a:xfrm>
                  <a:off x="539640" y="3113280"/>
                  <a:ext cx="3816360" cy="3033360"/>
                  <a:chOff x="539640" y="3113280"/>
                  <a:chExt cx="3816360" cy="3033360"/>
                </a:xfrm>
              </p:grpSpPr>
              <p:grpSp>
                <p:nvGrpSpPr>
                  <p:cNvPr id="75" name="Skupina 42"/>
                  <p:cNvGrpSpPr/>
                  <p:nvPr/>
                </p:nvGrpSpPr>
                <p:grpSpPr>
                  <a:xfrm>
                    <a:off x="539640" y="3113280"/>
                    <a:ext cx="3816360" cy="3033360"/>
                    <a:chOff x="539640" y="3113280"/>
                    <a:chExt cx="3816360" cy="3033360"/>
                  </a:xfrm>
                </p:grpSpPr>
                <p:grpSp>
                  <p:nvGrpSpPr>
                    <p:cNvPr id="76" name="Skupina 34"/>
                    <p:cNvGrpSpPr/>
                    <p:nvPr/>
                  </p:nvGrpSpPr>
                  <p:grpSpPr>
                    <a:xfrm>
                      <a:off x="539640" y="3545280"/>
                      <a:ext cx="3816360" cy="2601360"/>
                      <a:chOff x="539640" y="3545280"/>
                      <a:chExt cx="3816360" cy="2601360"/>
                    </a:xfrm>
                  </p:grpSpPr>
                  <p:grpSp>
                    <p:nvGrpSpPr>
                      <p:cNvPr id="77" name="Skupina 33"/>
                      <p:cNvGrpSpPr/>
                      <p:nvPr/>
                    </p:nvGrpSpPr>
                    <p:grpSpPr>
                      <a:xfrm>
                        <a:off x="539640" y="3545280"/>
                        <a:ext cx="3816360" cy="2601360"/>
                        <a:chOff x="539640" y="3545280"/>
                        <a:chExt cx="3816360" cy="2601360"/>
                      </a:xfrm>
                    </p:grpSpPr>
                    <p:sp>
                      <p:nvSpPr>
                        <p:cNvPr id="78" name="Přímá spojovací čára 67"/>
                        <p:cNvSpPr/>
                        <p:nvPr/>
                      </p:nvSpPr>
                      <p:spPr>
                        <a:xfrm flipH="1">
                          <a:off x="539640" y="3545280"/>
                          <a:ext cx="1656000" cy="2601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93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Přímá spojovací čára 68"/>
                        <p:cNvSpPr/>
                        <p:nvPr/>
                      </p:nvSpPr>
                      <p:spPr>
                        <a:xfrm>
                          <a:off x="2700000" y="3617280"/>
                          <a:ext cx="1656000" cy="2520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93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Přímá spojovací čára 69"/>
                        <p:cNvSpPr/>
                        <p:nvPr/>
                      </p:nvSpPr>
                      <p:spPr>
                        <a:xfrm flipV="1">
                          <a:off x="1043640" y="3904920"/>
                          <a:ext cx="936000" cy="1440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93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Přímá spojovací čára 70"/>
                        <p:cNvSpPr/>
                        <p:nvPr/>
                      </p:nvSpPr>
                      <p:spPr>
                        <a:xfrm flipH="1" flipV="1">
                          <a:off x="2898720" y="3895920"/>
                          <a:ext cx="934560" cy="14407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93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2" name="Přímá spojovací čára 63"/>
                      <p:cNvSpPr/>
                      <p:nvPr/>
                    </p:nvSpPr>
                    <p:spPr>
                      <a:xfrm flipV="1">
                        <a:off x="3785760" y="5295240"/>
                        <a:ext cx="118080" cy="828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0" bIns="36000" anchor="t">
                        <a:noAutofit/>
                      </a:bodyPr>
                      <a:p>
                        <a:pPr>
                          <a:lnSpc>
                            <a:spcPct val="93000"/>
                          </a:lnSpc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" name="Přímá spojovací čára 64"/>
                      <p:cNvSpPr/>
                      <p:nvPr/>
                    </p:nvSpPr>
                    <p:spPr>
                      <a:xfrm flipV="1">
                        <a:off x="2838960" y="3863880"/>
                        <a:ext cx="118080" cy="828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0" bIns="36000" anchor="t">
                        <a:noAutofit/>
                      </a:bodyPr>
                      <a:p>
                        <a:pPr>
                          <a:lnSpc>
                            <a:spcPct val="93000"/>
                          </a:lnSpc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" name="Přímá spojovací čára 65"/>
                      <p:cNvSpPr/>
                      <p:nvPr/>
                    </p:nvSpPr>
                    <p:spPr>
                      <a:xfrm>
                        <a:off x="981360" y="5309640"/>
                        <a:ext cx="124560" cy="720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0" bIns="25200" anchor="t">
                        <a:noAutofit/>
                      </a:bodyPr>
                      <a:p>
                        <a:pPr>
                          <a:lnSpc>
                            <a:spcPct val="93000"/>
                          </a:lnSpc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" name="Přímá spojovací čára 66"/>
                      <p:cNvSpPr/>
                      <p:nvPr/>
                    </p:nvSpPr>
                    <p:spPr>
                      <a:xfrm>
                        <a:off x="1917360" y="3869280"/>
                        <a:ext cx="124560" cy="720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0" bIns="25200" anchor="t">
                        <a:noAutofit/>
                      </a:bodyPr>
                      <a:p>
                        <a:pPr>
                          <a:lnSpc>
                            <a:spcPct val="93000"/>
                          </a:lnSpc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6" name="Oblouk 61"/>
                    <p:cNvSpPr/>
                    <p:nvPr/>
                  </p:nvSpPr>
                  <p:spPr>
                    <a:xfrm rot="8202000">
                      <a:off x="2014200" y="3291840"/>
                      <a:ext cx="864000" cy="864000"/>
                    </a:xfrm>
                    <a:custGeom>
                      <a:avLst/>
                      <a:gdLst>
                        <a:gd name="textAreaLeft" fmla="*/ 432000 w 864000"/>
                        <a:gd name="textAreaRight" fmla="*/ 864360 w 864000"/>
                        <a:gd name="textAreaTop" fmla="*/ 0 h 864000"/>
                        <a:gd name="textAreaBottom" fmla="*/ 432000 h 864000"/>
                      </a:gdLst>
                      <a:ahLst/>
                      <a:rect l="textAreaLeft" t="textAreaTop" r="textAreaRight" b="textAreaBottom"/>
                      <a:pathLst>
                        <a:path stroke="0" w="864096" h="864096">
                          <a:moveTo>
                            <a:pt x="432049" y="0"/>
                          </a:moveTo>
                          <a:lnTo>
                            <a:pt x="432049" y="0"/>
                          </a:lnTo>
                          <a:arcTo wR="432048" hR="432048" stAng="-5399992" swAng="5400000"/>
                          <a:lnTo>
                            <a:pt x="432048" y="432048"/>
                          </a:lnTo>
                          <a:close/>
                        </a:path>
                        <a:path fill="none" w="864096" h="864096">
                          <a:moveTo>
                            <a:pt x="432049" y="0"/>
                          </a:moveTo>
                          <a:lnTo>
                            <a:pt x="432049" y="0"/>
                          </a:lnTo>
                          <a:arcTo wR="432048" hR="432048" stAng="-5399992" swAng="5400000"/>
                        </a:path>
                      </a:pathLst>
                    </a:custGeom>
                    <a:noFill/>
                    <a:ln w="9360">
                      <a:solidFill>
                        <a:srgbClr val="00cc98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cxnSp>
                <p:nvCxnSpPr>
                  <p:cNvPr id="87" name="Přímá spojovací šipka 59"/>
                  <p:cNvCxnSpPr/>
                  <p:nvPr/>
                </p:nvCxnSpPr>
                <p:spPr>
                  <a:xfrm flipV="1">
                    <a:off x="2732040" y="4011480"/>
                    <a:ext cx="50040" cy="46080"/>
                  </a:xfrm>
                  <a:prstGeom prst="straightConnector1">
                    <a:avLst/>
                  </a:prstGeom>
                  <a:ln w="9360">
                    <a:solidFill>
                      <a:srgbClr val="00cc98"/>
                    </a:solidFill>
                    <a:miter/>
                    <a:tailEnd len="med" type="arrow" w="med"/>
                  </a:ln>
                </p:spPr>
              </p:cxnSp>
            </p:grpSp>
            <p:cxnSp>
              <p:nvCxnSpPr>
                <p:cNvPr id="88" name="Přímá spojovací šipka 57"/>
                <p:cNvCxnSpPr/>
                <p:nvPr/>
              </p:nvCxnSpPr>
              <p:spPr>
                <a:xfrm flipV="1">
                  <a:off x="3348000" y="5487120"/>
                  <a:ext cx="282960" cy="249480"/>
                </a:xfrm>
                <a:prstGeom prst="straightConnector1">
                  <a:avLst/>
                </a:prstGeom>
                <a:ln w="9360">
                  <a:solidFill>
                    <a:srgbClr val="00cc98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89" name="TextovéPole 49"/>
              <p:cNvSpPr/>
              <p:nvPr/>
            </p:nvSpPr>
            <p:spPr>
              <a:xfrm>
                <a:off x="827640" y="4265640"/>
                <a:ext cx="6480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z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ovéPole 50"/>
              <p:cNvSpPr/>
              <p:nvPr/>
            </p:nvSpPr>
            <p:spPr>
              <a:xfrm>
                <a:off x="3348000" y="4265640"/>
                <a:ext cx="7920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ra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ovéPole 51"/>
              <p:cNvSpPr/>
              <p:nvPr/>
            </p:nvSpPr>
            <p:spPr>
              <a:xfrm>
                <a:off x="1655640" y="3617640"/>
                <a:ext cx="360000" cy="3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TextovéPole 52"/>
              <p:cNvSpPr/>
              <p:nvPr/>
            </p:nvSpPr>
            <p:spPr>
              <a:xfrm>
                <a:off x="2916000" y="3617640"/>
                <a:ext cx="432000" cy="3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Arial"/>
                  </a:rPr>
                  <a:t>B´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ovéPole 53"/>
              <p:cNvSpPr/>
              <p:nvPr/>
            </p:nvSpPr>
            <p:spPr>
              <a:xfrm>
                <a:off x="683640" y="4985640"/>
                <a:ext cx="360000" cy="3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ovéPole 54"/>
              <p:cNvSpPr/>
              <p:nvPr/>
            </p:nvSpPr>
            <p:spPr>
              <a:xfrm>
                <a:off x="3888000" y="4985640"/>
                <a:ext cx="432000" cy="3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Arial"/>
                  </a:rPr>
                  <a:t>A´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xtovéPole 46"/>
            <p:cNvSpPr/>
            <p:nvPr/>
          </p:nvSpPr>
          <p:spPr>
            <a:xfrm>
              <a:off x="611640" y="5805000"/>
              <a:ext cx="360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ovéPole 47"/>
            <p:cNvSpPr/>
            <p:nvPr/>
          </p:nvSpPr>
          <p:spPr>
            <a:xfrm>
              <a:off x="3852000" y="5805000"/>
              <a:ext cx="432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Arial"/>
                </a:rPr>
                <a:t>p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0000ff"/>
                </a:solidFill>
                <a:latin typeface="Constantia"/>
              </a:rPr>
              <a:t>Shodné zobrazení v rovině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684360" y="1557360"/>
            <a:ext cx="784836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d, který v daném zobrazení splývá se svým obrazem, je </a:t>
            </a:r>
            <a:r>
              <a:rPr b="0" i="1" lang="cs-CZ" sz="1800" spc="-1" strike="noStrike">
                <a:solidFill>
                  <a:srgbClr val="00b050"/>
                </a:solidFill>
                <a:latin typeface="Arial"/>
              </a:rPr>
              <a:t>samodružný bod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hoto zobraz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2"/>
          <p:cNvSpPr/>
          <p:nvPr/>
        </p:nvSpPr>
        <p:spPr>
          <a:xfrm>
            <a:off x="3635280" y="2060640"/>
            <a:ext cx="5040360" cy="29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tí, že ve shodnosti se zachovává velikost stran a velikost úhlů (tzn. rovnoběžky se zobrazí na rovnoběžky, kolmice na kolmice ..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dy, které se zobrazí sami na sebe, se nazývají </a:t>
            </a:r>
            <a:r>
              <a:rPr b="0" i="1" lang="cs-CZ" sz="1800" spc="-1" strike="noStrike">
                <a:solidFill>
                  <a:srgbClr val="00b050"/>
                </a:solidFill>
                <a:latin typeface="Arial"/>
              </a:rPr>
              <a:t>samodružné bo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tvary, které se zobrazí sami na sebe, se nazývají </a:t>
            </a:r>
            <a:r>
              <a:rPr b="0" i="1" lang="cs-CZ" sz="1800" spc="-1" strike="noStrike">
                <a:solidFill>
                  <a:srgbClr val="00b050"/>
                </a:solidFill>
                <a:latin typeface="Arial"/>
              </a:rPr>
              <a:t>samodružné útva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3" descr=""/>
          <p:cNvPicPr/>
          <p:nvPr/>
        </p:nvPicPr>
        <p:blipFill>
          <a:blip r:embed="rId1"/>
          <a:stretch/>
        </p:blipFill>
        <p:spPr>
          <a:xfrm>
            <a:off x="4500720" y="4365720"/>
            <a:ext cx="3325680" cy="2217600"/>
          </a:xfrm>
          <a:prstGeom prst="rect">
            <a:avLst/>
          </a:prstGeom>
          <a:ln w="0">
            <a:noFill/>
          </a:ln>
        </p:spPr>
      </p:pic>
      <p:grpSp>
        <p:nvGrpSpPr>
          <p:cNvPr id="101" name="Skupina 24"/>
          <p:cNvGrpSpPr/>
          <p:nvPr/>
        </p:nvGrpSpPr>
        <p:grpSpPr>
          <a:xfrm>
            <a:off x="395640" y="2329200"/>
            <a:ext cx="3023640" cy="3792600"/>
            <a:chOff x="395640" y="2329200"/>
            <a:chExt cx="3023640" cy="3792600"/>
          </a:xfrm>
        </p:grpSpPr>
        <p:sp>
          <p:nvSpPr>
            <p:cNvPr id="102" name="TextovéPole 25"/>
            <p:cNvSpPr/>
            <p:nvPr/>
          </p:nvSpPr>
          <p:spPr>
            <a:xfrm>
              <a:off x="918720" y="5772960"/>
              <a:ext cx="20196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samodružný b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Skupina 21"/>
            <p:cNvGrpSpPr/>
            <p:nvPr/>
          </p:nvGrpSpPr>
          <p:grpSpPr>
            <a:xfrm>
              <a:off x="395640" y="2329200"/>
              <a:ext cx="3023640" cy="3091680"/>
              <a:chOff x="395640" y="2329200"/>
              <a:chExt cx="3023640" cy="3091680"/>
            </a:xfrm>
          </p:grpSpPr>
          <p:grpSp>
            <p:nvGrpSpPr>
              <p:cNvPr id="104" name="Skupina 18"/>
              <p:cNvGrpSpPr/>
              <p:nvPr/>
            </p:nvGrpSpPr>
            <p:grpSpPr>
              <a:xfrm>
                <a:off x="395640" y="2329200"/>
                <a:ext cx="3023640" cy="3091680"/>
                <a:chOff x="395640" y="2329200"/>
                <a:chExt cx="3023640" cy="3091680"/>
              </a:xfrm>
            </p:grpSpPr>
            <p:sp>
              <p:nvSpPr>
                <p:cNvPr id="105" name="Přímá spojovací čára 35"/>
                <p:cNvSpPr/>
                <p:nvPr/>
              </p:nvSpPr>
              <p:spPr>
                <a:xfrm>
                  <a:off x="2835720" y="3227760"/>
                  <a:ext cx="93960" cy="60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Přímá spojovací čára 36"/>
                <p:cNvSpPr/>
                <p:nvPr/>
              </p:nvSpPr>
              <p:spPr>
                <a:xfrm flipV="1">
                  <a:off x="892440" y="3196800"/>
                  <a:ext cx="90360" cy="6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" name="Skupina 16"/>
                <p:cNvGrpSpPr/>
                <p:nvPr/>
              </p:nvGrpSpPr>
              <p:grpSpPr>
                <a:xfrm>
                  <a:off x="395640" y="2329200"/>
                  <a:ext cx="3023640" cy="3091680"/>
                  <a:chOff x="395640" y="2329200"/>
                  <a:chExt cx="3023640" cy="3091680"/>
                </a:xfrm>
              </p:grpSpPr>
              <p:grpSp>
                <p:nvGrpSpPr>
                  <p:cNvPr id="108" name="Skupina 9"/>
                  <p:cNvGrpSpPr/>
                  <p:nvPr/>
                </p:nvGrpSpPr>
                <p:grpSpPr>
                  <a:xfrm>
                    <a:off x="590760" y="2735280"/>
                    <a:ext cx="2652840" cy="2685600"/>
                    <a:chOff x="590760" y="2735280"/>
                    <a:chExt cx="2652840" cy="2685600"/>
                  </a:xfrm>
                </p:grpSpPr>
                <p:sp>
                  <p:nvSpPr>
                    <p:cNvPr id="109" name="Přímá spojovací čára 41"/>
                    <p:cNvSpPr/>
                    <p:nvPr/>
                  </p:nvSpPr>
                  <p:spPr>
                    <a:xfrm>
                      <a:off x="590760" y="2761200"/>
                      <a:ext cx="1928160" cy="26524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Přímá spojovací čára 42"/>
                    <p:cNvSpPr/>
                    <p:nvPr/>
                  </p:nvSpPr>
                  <p:spPr>
                    <a:xfrm flipH="1">
                      <a:off x="1362240" y="2735280"/>
                      <a:ext cx="1881360" cy="26856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" name="Oblouk 39"/>
                  <p:cNvSpPr/>
                  <p:nvPr/>
                </p:nvSpPr>
                <p:spPr>
                  <a:xfrm rot="18724200">
                    <a:off x="848520" y="2758320"/>
                    <a:ext cx="2117160" cy="2162160"/>
                  </a:xfrm>
                  <a:custGeom>
                    <a:avLst/>
                    <a:gdLst>
                      <a:gd name="textAreaLeft" fmla="*/ 1058760 w 2117160"/>
                      <a:gd name="textAreaRight" fmla="*/ 2117520 w 2117160"/>
                      <a:gd name="textAreaTop" fmla="*/ 0 h 2162160"/>
                      <a:gd name="textAreaBottom" fmla="*/ 1081080 h 2162160"/>
                    </a:gdLst>
                    <a:ahLst/>
                    <a:rect l="textAreaLeft" t="textAreaTop" r="textAreaRight" b="textAreaBottom"/>
                    <a:pathLst>
                      <a:path stroke="0" w="2038462" h="2081318">
                        <a:moveTo>
                          <a:pt x="1019232" y="0"/>
                        </a:moveTo>
                        <a:lnTo>
                          <a:pt x="1019232" y="0"/>
                        </a:lnTo>
                        <a:arcTo wR="1019231" hR="1040659" stAng="-5399997" swAng="5400003"/>
                        <a:lnTo>
                          <a:pt x="1019231" y="1040659"/>
                        </a:lnTo>
                        <a:close/>
                      </a:path>
                      <a:path fill="none" w="2038462" h="2081318">
                        <a:moveTo>
                          <a:pt x="1019232" y="0"/>
                        </a:moveTo>
                        <a:lnTo>
                          <a:pt x="1019232" y="0"/>
                        </a:lnTo>
                        <a:arcTo wR="1019231" hR="1040659" stAng="-5399997" swAng="5400003"/>
                      </a:path>
                    </a:pathLst>
                  </a:custGeom>
                  <a:noFill/>
                  <a:ln w="9360">
                    <a:solidFill>
                      <a:srgbClr val="00cc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12" name="Přímá spojovací šipka 15"/>
                  <p:cNvCxnSpPr/>
                  <p:nvPr/>
                </p:nvCxnSpPr>
                <p:spPr>
                  <a:xfrm>
                    <a:off x="2593440" y="3039840"/>
                    <a:ext cx="190080" cy="155160"/>
                  </a:xfrm>
                  <a:prstGeom prst="straightConnector1">
                    <a:avLst/>
                  </a:prstGeom>
                  <a:ln w="9360">
                    <a:solidFill>
                      <a:srgbClr val="00cc98"/>
                    </a:solidFill>
                    <a:miter/>
                    <a:tailEnd len="med" type="arrow" w="med"/>
                  </a:ln>
                </p:spPr>
              </p:cxnSp>
            </p:grpSp>
          </p:grpSp>
          <p:sp>
            <p:nvSpPr>
              <p:cNvPr id="113" name="Elipsa 34"/>
              <p:cNvSpPr/>
              <p:nvPr/>
            </p:nvSpPr>
            <p:spPr>
              <a:xfrm>
                <a:off x="1910160" y="4585680"/>
                <a:ext cx="37080" cy="37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14" name="Přímá spojovací šipka 27"/>
            <p:cNvCxnSpPr/>
            <p:nvPr/>
          </p:nvCxnSpPr>
          <p:spPr>
            <a:xfrm flipH="1" flipV="1">
              <a:off x="1937520" y="4996800"/>
              <a:ext cx="2520" cy="673920"/>
            </a:xfrm>
            <a:prstGeom prst="straightConnector1">
              <a:avLst/>
            </a:prstGeom>
            <a:ln w="9360">
              <a:solidFill>
                <a:srgbClr val="00cc98"/>
              </a:solidFill>
              <a:miter/>
              <a:tailEnd len="med" type="arrow" w="med"/>
            </a:ln>
          </p:spPr>
        </p:cxnSp>
        <p:sp>
          <p:nvSpPr>
            <p:cNvPr id="115" name="TextovéPole 28"/>
            <p:cNvSpPr/>
            <p:nvPr/>
          </p:nvSpPr>
          <p:spPr>
            <a:xfrm>
              <a:off x="2040840" y="4426560"/>
              <a:ext cx="8974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Arial"/>
                </a:rPr>
                <a:t>X = X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ovéPole 29"/>
            <p:cNvSpPr/>
            <p:nvPr/>
          </p:nvSpPr>
          <p:spPr>
            <a:xfrm>
              <a:off x="544680" y="3155040"/>
              <a:ext cx="448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ovéPole 30"/>
            <p:cNvSpPr/>
            <p:nvPr/>
          </p:nvSpPr>
          <p:spPr>
            <a:xfrm>
              <a:off x="2901240" y="3155040"/>
              <a:ext cx="448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A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ovéPole 31"/>
            <p:cNvSpPr/>
            <p:nvPr/>
          </p:nvSpPr>
          <p:spPr>
            <a:xfrm>
              <a:off x="1180800" y="5024880"/>
              <a:ext cx="2991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ovéPole 32"/>
            <p:cNvSpPr/>
            <p:nvPr/>
          </p:nvSpPr>
          <p:spPr>
            <a:xfrm>
              <a:off x="2414880" y="5024880"/>
              <a:ext cx="448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Arial"/>
                </a:rPr>
                <a:t>p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0000ff"/>
                </a:solidFill>
                <a:latin typeface="Constantia"/>
              </a:rPr>
              <a:t>Obraz trojúhelníka ABC v různých zobrazení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755640" y="4437000"/>
            <a:ext cx="7920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nás budou zajímavé dvě skupiny zobrazen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obrazení, ve kterých se každý trojúhelník zobrazí na trojúhelník stejného tvaru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dobná zobrazení (podobnosti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obrazení, ve kterých se každý trojúhelník zobrazí na shodný trojúhelník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hodná zobrazení (shodnost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Kloby\Desktop\zobrazeni2.PNG"/>
          <p:cNvPicPr/>
          <p:nvPr/>
        </p:nvPicPr>
        <p:blipFill>
          <a:blip r:embed="rId1"/>
          <a:stretch/>
        </p:blipFill>
        <p:spPr>
          <a:xfrm>
            <a:off x="2340000" y="2205000"/>
            <a:ext cx="440064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0000ff"/>
                </a:solidFill>
                <a:latin typeface="Constantia"/>
              </a:rPr>
              <a:t>Příklad 1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Rectangle 22"/>
          <p:cNvSpPr/>
          <p:nvPr/>
        </p:nvSpPr>
        <p:spPr>
          <a:xfrm>
            <a:off x="971640" y="1700280"/>
            <a:ext cx="792000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ý je množinový vztah mezi shodnostmi a podobnostmi? Mezi zobrazenými trojúhelníky najdi trojúhelníky shodné a podobné se vzorem. Předpokládej, že to, co vypadá shodné, je shodné, to, co vypadá podobné, je podob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Users\Kloby\Desktop\zobrazeni2.PNG"/>
          <p:cNvPicPr/>
          <p:nvPr/>
        </p:nvPicPr>
        <p:blipFill>
          <a:blip r:embed="rId1"/>
          <a:stretch/>
        </p:blipFill>
        <p:spPr>
          <a:xfrm>
            <a:off x="1619280" y="3429000"/>
            <a:ext cx="698652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0000ff"/>
                </a:solidFill>
                <a:latin typeface="Constantia"/>
              </a:rPr>
              <a:t>Příklad 2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971640" y="1989000"/>
            <a:ext cx="7920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kresli obrazy čtverce ABCD ve dvou základních shodnostech, které se probírají už na základní šk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délník 5"/>
          <p:cNvSpPr/>
          <p:nvPr/>
        </p:nvSpPr>
        <p:spPr>
          <a:xfrm>
            <a:off x="3564000" y="3860640"/>
            <a:ext cx="936720" cy="936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bdélník 6"/>
          <p:cNvSpPr/>
          <p:nvPr/>
        </p:nvSpPr>
        <p:spPr>
          <a:xfrm>
            <a:off x="6588000" y="3860640"/>
            <a:ext cx="936720" cy="936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ovéPole 7"/>
          <p:cNvSpPr/>
          <p:nvPr/>
        </p:nvSpPr>
        <p:spPr>
          <a:xfrm>
            <a:off x="3279240" y="4724280"/>
            <a:ext cx="333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8"/>
          <p:cNvSpPr/>
          <p:nvPr/>
        </p:nvSpPr>
        <p:spPr>
          <a:xfrm>
            <a:off x="6303240" y="4724280"/>
            <a:ext cx="333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9"/>
          <p:cNvSpPr/>
          <p:nvPr/>
        </p:nvSpPr>
        <p:spPr>
          <a:xfrm>
            <a:off x="4430880" y="4724280"/>
            <a:ext cx="333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10"/>
          <p:cNvSpPr/>
          <p:nvPr/>
        </p:nvSpPr>
        <p:spPr>
          <a:xfrm>
            <a:off x="7454880" y="4724280"/>
            <a:ext cx="333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ovéPole 11"/>
          <p:cNvSpPr/>
          <p:nvPr/>
        </p:nvSpPr>
        <p:spPr>
          <a:xfrm>
            <a:off x="4431240" y="3573360"/>
            <a:ext cx="345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ovéPole 12"/>
          <p:cNvSpPr/>
          <p:nvPr/>
        </p:nvSpPr>
        <p:spPr>
          <a:xfrm>
            <a:off x="7455240" y="3573360"/>
            <a:ext cx="345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ovéPole 13"/>
          <p:cNvSpPr/>
          <p:nvPr/>
        </p:nvSpPr>
        <p:spPr>
          <a:xfrm>
            <a:off x="3279240" y="3573360"/>
            <a:ext cx="345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ovéPole 14"/>
          <p:cNvSpPr/>
          <p:nvPr/>
        </p:nvSpPr>
        <p:spPr>
          <a:xfrm>
            <a:off x="6303600" y="3573360"/>
            <a:ext cx="345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ovéPole 15"/>
          <p:cNvSpPr/>
          <p:nvPr/>
        </p:nvSpPr>
        <p:spPr>
          <a:xfrm>
            <a:off x="2857680" y="3068640"/>
            <a:ext cx="2349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tředová souměr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ovéPole 16"/>
          <p:cNvSpPr/>
          <p:nvPr/>
        </p:nvSpPr>
        <p:spPr>
          <a:xfrm>
            <a:off x="6168600" y="3068640"/>
            <a:ext cx="2096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Osová souměr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římá spojovací čára 18"/>
          <p:cNvSpPr/>
          <p:nvPr/>
        </p:nvSpPr>
        <p:spPr>
          <a:xfrm flipV="1">
            <a:off x="7524720" y="3500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ovéPole 20"/>
          <p:cNvSpPr/>
          <p:nvPr/>
        </p:nvSpPr>
        <p:spPr>
          <a:xfrm>
            <a:off x="7454520" y="537372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ovéPole 21"/>
          <p:cNvSpPr/>
          <p:nvPr/>
        </p:nvSpPr>
        <p:spPr>
          <a:xfrm>
            <a:off x="2340000" y="5732640"/>
            <a:ext cx="61196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ředová souměrnost se středem v bodě 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sová souměrnost  pomocí osy 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0000ff"/>
                </a:solidFill>
                <a:latin typeface="Constantia"/>
              </a:rPr>
              <a:t>Příklad 2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Rectangle 22"/>
          <p:cNvSpPr/>
          <p:nvPr/>
        </p:nvSpPr>
        <p:spPr>
          <a:xfrm>
            <a:off x="971640" y="1989000"/>
            <a:ext cx="7920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obou obrázcích si červeně vyznačíme body, které jsou zajímavé tím, že se zobrazily sami na se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C:\Users\Kloby\Desktop\zobrazeni3.PNG"/>
          <p:cNvPicPr/>
          <p:nvPr/>
        </p:nvPicPr>
        <p:blipFill>
          <a:blip r:embed="rId1"/>
          <a:stretch/>
        </p:blipFill>
        <p:spPr>
          <a:xfrm>
            <a:off x="2411280" y="3284640"/>
            <a:ext cx="595944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0000ff"/>
                </a:solidFill>
                <a:latin typeface="Constantia"/>
              </a:rPr>
              <a:t>Příklad 2</a:t>
            </a:r>
            <a:endParaRPr b="1" i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971640" y="1989000"/>
            <a:ext cx="7920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kovým bodům říkáme samodružné body. Na pravém obrázku je dokonce samodružný celý útvar - úsečka B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C:\Users\Kloby\Desktop\zobrazeni4.PNG"/>
          <p:cNvPicPr/>
          <p:nvPr/>
        </p:nvPicPr>
        <p:blipFill>
          <a:blip r:embed="rId1"/>
          <a:stretch/>
        </p:blipFill>
        <p:spPr>
          <a:xfrm>
            <a:off x="2484360" y="3429000"/>
            <a:ext cx="5978520" cy="2179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Koblasa</dc:creator>
  <dc:description/>
  <dc:language>en-US</dc:language>
  <cp:lastModifiedBy>Kloby</cp:lastModifiedBy>
  <dcterms:modified xsi:type="dcterms:W3CDTF">2014-06-02T09:15:49Z</dcterms:modified>
  <cp:revision>11</cp:revision>
  <dc:subject/>
  <dc:title>PLANIMETRIE Zobrazení v rovině</dc:title>
</cp:coreProperties>
</file>