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2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3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4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75708-E8BF-4164-B330-1D70F04E3D6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32AFB-673D-4D6B-B839-9E9DD7420A4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E1B743-EA33-42C6-8652-9C2FF7A5AC19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A0305-9744-4E3D-B3B5-05D9C249047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5FC6F7-2D65-40AF-B93B-7684A4D581AF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C0A45-B136-4DFD-AC2D-F8ED34BB038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8B7234-9671-440A-B617-C721B9B35BA2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2B51D-6285-473B-A890-4D35251540C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B48D2D-53D2-4722-8FFA-9016E3E48049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AE664-1A2F-4B26-BF08-E09341FDF6B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429C98-56D1-47CB-9ACB-465CA7869275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8600-A60C-4FD0-8F27-586EAD1E1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F310-46BA-4363-8DE1-AE8561E8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E2B1-E46E-4DC3-A7C2-9FFF5001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4A12-7B77-42D7-8E17-4D3B0EBD6E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4B2FF-26FA-4095-9B1A-E3E5F79F1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FF1D7-0F09-4B45-8A18-0B13D466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011D8-7311-4D82-9D8C-724CE187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9D8BC-5C1D-4D00-BC63-FEBAA33D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2B1D4-0223-4A93-83DE-F496FC50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61333-9422-4DD0-8780-15E18013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084E4-9884-48FD-85D3-F39D178A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3AD5-BA4B-468F-94C3-B424D6CE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0D0D4-053A-4B3B-A9CB-CC832F8C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89329-1A54-4CBC-8A38-218326AE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FA7DC-ECA0-4CD1-BEEF-F42F3330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67B8B-CD34-4179-8F0A-47C516B7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16169-CF06-4F43-B590-053EAD1B43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DB97-F97B-4EB2-9719-0E43EE6F1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DBD3-2D91-44FA-93A3-3C8F5BE7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D1F2-B254-40EB-8D0A-D8266F9E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B735-61AD-422E-A5D7-B275ADE1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0965-D57B-4B2D-99A8-E5D96B4E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4766-C934-4DB8-BA05-1ABAAD03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ED28-5942-4BAB-998E-469EE750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0501-D01A-48C2-B24F-C1C1413E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8046-D095-48E6-A233-4A1BFC77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906B-8DCE-44D7-97A2-05D11A98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C8CE-FC99-4C72-B5A8-07793825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735E-6310-47D2-BFB2-983AC3D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4375-61AA-4CF5-9A59-FCB91A3BCA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13B01-87A2-4787-B482-0E79F902F9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7C8D8-BC26-43F3-82FD-D987B90B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50BA3-EB8C-4113-8E9C-89677F1A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2756-9BBB-42E5-B7EA-5A297856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56C8E-4D44-431E-BE21-67EC48E2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52610-6145-49FC-BC6E-32B275A9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5D4FE-028D-4EAA-A790-479F3DF6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02554-F762-469F-9DF4-35E2B77D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80E7E-B1CD-41A7-944C-62395A8B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CA216-E006-4973-825E-3F851DCF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18C26-C01D-47FB-9A4F-40572F3B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857C3-4029-4C56-9B67-C4191467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32B5B-F1DF-4161-AB86-BCD68F058A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B3389-07C4-45B6-9A83-630144F2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B4BB-F754-4C5D-A096-6CCBA681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6F429-AE9D-4A9B-9AB7-43B12465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799F6-67D0-4C1C-8501-8010943B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3180E-A03B-4CF7-A43E-55AD7B85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592D6-C00E-41C8-BB75-980E3190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0D498-636A-43E5-B024-7319745B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1D355-0004-4AC8-AE51-91D1A96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2456C-EE06-489E-9688-7D44F53F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5AF19-6728-42D8-8947-5A0ED0ED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53C12-512B-412A-B6F9-44498172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62E29-4568-427F-8D49-F5472800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76A3-D050-4515-BC50-CB4DAA3B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428AD-4C3D-4AB0-8227-A261D4D8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0D00-ABF3-4353-8642-0B8C385A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2122-45FA-42A3-8EB4-D695810B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3838-CFB9-401A-9BCC-F2D32D56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3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>
                <a:gd name="textAreaLeft" fmla="*/ 0 w 9180000"/>
                <a:gd name="textAreaRight" fmla="*/ 9180000 w 9180000"/>
                <a:gd name="textAreaTop" fmla="*/ 0 h 1083960"/>
                <a:gd name="textAreaBottom" fmla="*/ 1084320 h 108396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>
                <a:gd name="textAreaLeft" fmla="*/ 0 w 9192600"/>
                <a:gd name="textAreaRight" fmla="*/ 9192960 w 919260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7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2A681E-A2DF-4A7E-94C3-7EEA5829E445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49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>
                <a:gd name="textAreaLeft" fmla="*/ 0 w 9180000"/>
                <a:gd name="textAreaRight" fmla="*/ 9180000 w 9180000"/>
                <a:gd name="textAreaTop" fmla="*/ 0 h 1083960"/>
                <a:gd name="textAreaBottom" fmla="*/ 1084320 h 108396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>
                <a:gd name="textAreaLeft" fmla="*/ 0 w 9192600"/>
                <a:gd name="textAreaRight" fmla="*/ 9192960 w 919260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304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663E99-3A77-4FCC-B69E-845C2AB82F7E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95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>
                <a:gd name="textAreaLeft" fmla="*/ 0 w 9180000"/>
                <a:gd name="textAreaRight" fmla="*/ 9180000 w 9180000"/>
                <a:gd name="textAreaTop" fmla="*/ 0 h 1083960"/>
                <a:gd name="textAreaBottom" fmla="*/ 1084320 h 108396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>
                <a:gd name="textAreaLeft" fmla="*/ 0 w 9192600"/>
                <a:gd name="textAreaRight" fmla="*/ 9192960 w 919260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51A95A-DFD9-4B60-BC7D-2D6C6BB167A6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141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>
                <a:gd name="textAreaLeft" fmla="*/ 0 w 9180000"/>
                <a:gd name="textAreaRight" fmla="*/ 9180000 w 9180000"/>
                <a:gd name="textAreaTop" fmla="*/ 0 h 1083960"/>
                <a:gd name="textAreaBottom" fmla="*/ 1084320 h 108396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>
                <a:gd name="textAreaLeft" fmla="*/ 0 w 9192600"/>
                <a:gd name="textAreaRight" fmla="*/ 9192960 w 919260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Num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780BEC-9730-4C97-844B-B54A09210D63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1599840" y="55292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0"/>
          </p:nvPr>
        </p:nvSpPr>
        <p:spPr>
          <a:xfrm>
            <a:off x="3813120" y="608328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1"/>
          </p:nvPr>
        </p:nvSpPr>
        <p:spPr>
          <a:xfrm>
            <a:off x="6816600" y="6083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08CC7C-90CB-4B50-ACF4-DD01F7077A0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600" spc="-1" strike="noStrike">
                <a:solidFill>
                  <a:srgbClr val="3333cc"/>
                </a:solidFill>
                <a:latin typeface="Constantia"/>
              </a:rPr>
              <a:t>Skládání shodných zobrazení</a:t>
            </a:r>
            <a:endParaRPr b="1" i="1" lang="en-US" sz="5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ctr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Bc. David Kobla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Skládání zobrazení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205000"/>
            <a:ext cx="8209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 skládání shodných zobrazení hovoříme tehdy, jestliže jednotlivá shodná zobrazení tvoříme po sobě - tedy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nejprve vytvoříme jed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poté druhé,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t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Několik takto po sobě vytvořených shodných zobrazení nazýváme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ložené zobr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Prostřednictvím skládání zobrazení můžeme libovolný geometrický tvar umístit do libovolné polohy, např. otočením a následným posunut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C:\Users\Kloby\Desktop\praxe\SPEDAPR\hodina05 (skladani zobrazeni)\skladani_zobrazeni.png"/>
          <p:cNvPicPr/>
          <p:nvPr/>
        </p:nvPicPr>
        <p:blipFill>
          <a:blip r:embed="rId1"/>
          <a:stretch/>
        </p:blipFill>
        <p:spPr>
          <a:xfrm>
            <a:off x="2484360" y="4292640"/>
            <a:ext cx="3851280" cy="24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Skládání zobrazení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68360" y="2205000"/>
            <a:ext cx="8209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apisujeme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Z = Z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1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◦ Z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řitom: 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 X → X´, 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 X´ → X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obrazení Z: X → X´´ se nazývá </a:t>
            </a:r>
            <a:r>
              <a:rPr b="0" lang="cs-CZ" sz="1800" spc="-1" strike="noStrike">
                <a:solidFill>
                  <a:srgbClr val="3333cc"/>
                </a:solidFill>
                <a:latin typeface="Arial"/>
                <a:ea typeface="Arial Unicode MS"/>
              </a:rPr>
              <a:t>ZOBRAZENÍ SLOŽE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e zobrazení 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v tomto pořad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Některá shodná zobrazení jdou složit pomocí jiných. Třeba středová souměrnost je to samé jako otočení o 180°. Dokonce lze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všech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shodná zobrazení dostat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pomocí skládání několika osových souměrnos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Skládání zobrazení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68360" y="2205000"/>
            <a:ext cx="820908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ident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- pomocí dvou totožných osových souměrností (jednou se to převrátí tam a druhou zpě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sová souměr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je osová soumě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tředová souměr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pomocí dvou osových souměrností, jejichž osy jsou na sebe kolm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posunu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pomocí dvou osových souměrností, jejichž osy jsou rovnoběžné (vzdálenost os je polovička délky vektoru posunutí a osy jsou kolmé na vektor posunut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toč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pomocí dvou osových souměrností, jejichž osy svírají polovinu z úhlu otočení a jejich průsečík je střed otoč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aoblený obdélník 4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Příklad 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826920" y="2133720"/>
            <a:ext cx="748836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Narýsuj čtverec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BC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o délce stra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= 4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Zobrazte ho v dané shod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aoblený obdélník 6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1258920" y="285264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∘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258920" y="3573360"/>
                <a:ext cx="2936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∘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Koblasa</dc:creator>
  <dc:description/>
  <dc:language>en-US</dc:language>
  <cp:lastModifiedBy>David Koblasa</cp:lastModifiedBy>
  <dcterms:modified xsi:type="dcterms:W3CDTF">2014-09-15T20:49:12Z</dcterms:modified>
  <cp:revision>77</cp:revision>
  <dc:subject/>
  <dc:title>Posunutí</dc:title>
</cp:coreProperties>
</file>