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dt" idx="10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1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2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41BDB-4B87-4D09-B686-906789AA648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9F7C1-6123-4074-BD33-1864AE54B4E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D51063-B410-4931-BB4F-D97C0B42E9A6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64416-05CB-43C7-A29C-546DA72CFBF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1C7F80-B2C4-431E-BCC4-CA334A2FBB1B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91F8C-E3B4-40C3-95D9-4D459CC652B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A00F51-9FBB-49DC-9816-90B32679A73D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F61C5-17BB-4817-AA1F-CF9441DECAC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1FB7C0-AE77-4B91-A88D-C89CFDAB090E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79EAB-25DA-428E-ABDD-E0A6B50BB8F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BEBF01-2DB5-42DC-9455-FEC87B2D5684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79207-BC80-4CC7-8C1F-8A8EBEE070F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3A41AB-6157-4E88-94A0-FFEF147A8317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87220-D54F-4373-8F18-6CD1922C865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98598B-90F6-4296-9447-28084BD680E8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541CD-B55D-4B47-89FB-B4D8A3567E5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1CEE96-7F4D-4DB5-9255-7F02623A4200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0301D-B785-43D0-8015-9780CF31840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5495F6-6002-4E2D-84F5-6EA47D8B6AE7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098E2-0BE2-41F0-AB47-84759ACAE20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3804D2-4BC8-41B7-A14C-C58BD998F61D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60EC2-B9FA-4090-9A03-76F693D09D5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29326E-A2AD-455B-A445-C10F1E7A8588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B995-2E6A-415A-9BFC-E9B5326BDC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619B-D127-4513-911A-760C3EA1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DD29-6BB5-456C-ADF3-746496A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A9F4-8541-4E4F-B8EE-45D7C5EAB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DE587-2171-4F98-8ADD-D801D3607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DB6B0-04E9-43BD-BD7C-220ED353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E5955-474F-42AE-9C16-84760BA6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B973E-0303-4B00-95A7-14DE981C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5099C-1671-4A3B-9DDE-26AC4E00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86346-8A8D-48D5-A999-B25E5928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5B03F-E2CD-4371-9CE5-66D32C7F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3818-B0B7-4496-B617-44557119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4F66D-1AD7-4C1C-8EE9-46F7AE99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65AE0-29E0-49BA-8E75-1F8E84E8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1199F-038E-4224-A42F-05623AD5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0C799-4B1A-4883-82CD-9643EA0C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01842-5AF5-4943-A59C-28414D90C1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8B08-B395-497A-8A64-2A165D7560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233D-54EF-4852-8F7A-91BD1695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92DB-F842-4426-8DEC-633B2914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08BF-294D-4491-BAF5-53716C1D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0F05-6F19-48C4-BEB4-2B39685E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E008-06A6-4DE8-81F7-54BD9D5C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1ED7-9DD0-4C16-9B11-A0BF8F11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B130-50AB-4A72-A996-A884673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5657-B0DE-4C39-AA0C-FA0DE1C1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2A1A-8B2C-489E-A17F-69DECEAD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B85F-8ACF-4B8B-8B4E-C641C5B9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ABD7-5468-4884-852C-13CA2280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2E37-2A66-47EC-98E0-49BDB7AC3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8E52-4F41-425E-B5C1-CD3AC9F8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1A99-2E72-4B96-BC37-23340378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C849-A3A6-47F4-83D0-3869FE95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A49F-73C5-419E-B7C2-AA519D4E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F897-EF6C-4777-855D-F590E81D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1BC4-4B36-446E-BA8F-9B825E3B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CBB0-2513-4E2F-A394-7EB34D15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F1EC-B505-49AD-A745-F2BE539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3563-3742-43B1-A048-CB59FB8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8546-1535-4998-B538-F4C74494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6CD4-F771-432B-98EF-80BBAFB7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9DF6-A021-4925-8950-523F8BFF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9B7A-6509-4F81-B361-937EACDF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778A-A97A-427F-A39C-F879FBD6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CC60-D5ED-43E1-B4AB-8080A15C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A8E1-CD98-4D18-83A0-C31D5A6B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CB1B-5563-405A-BC8B-3DD97BAD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ACED-87EB-4B7A-9846-D5F9DFC0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3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B7612B-3608-4560-A406-056466DB59DE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49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304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2733B8-2919-445F-B83F-D3D100AF5163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1" y="0"/>
                </a:moveTo>
                <a:lnTo>
                  <a:pt x="508" y="0"/>
                </a:lnTo>
                <a:cubicBezTo>
                  <a:pt x="549" y="20"/>
                  <a:pt x="765" y="73"/>
                  <a:pt x="874" y="73"/>
                </a:cubicBezTo>
                <a:cubicBezTo>
                  <a:pt x="984" y="73"/>
                  <a:pt x="1105" y="30"/>
                  <a:pt x="1153" y="11"/>
                </a:cubicBezTo>
                <a:lnTo>
                  <a:pt x="1154" y="42"/>
                </a:lnTo>
                <a:cubicBezTo>
                  <a:pt x="1134" y="51"/>
                  <a:pt x="1003" y="88"/>
                  <a:pt x="860" y="87"/>
                </a:cubicBezTo>
                <a:cubicBezTo>
                  <a:pt x="717" y="87"/>
                  <a:pt x="441" y="33"/>
                  <a:pt x="297" y="40"/>
                </a:cubicBezTo>
                <a:cubicBezTo>
                  <a:pt x="150" y="41"/>
                  <a:pt x="54" y="96"/>
                  <a:pt x="0" y="131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34" y="20"/>
                  <a:pt x="233" y="106"/>
                  <a:pt x="333" y="112"/>
                </a:cubicBezTo>
                <a:cubicBezTo>
                  <a:pt x="433" y="119"/>
                  <a:pt x="555" y="55"/>
                  <a:pt x="600" y="37"/>
                </a:cubicBezTo>
                <a:lnTo>
                  <a:pt x="600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95" name="Freeform 4"/>
            <p:cNvSpPr/>
            <p:nvPr/>
          </p:nvSpPr>
          <p:spPr>
            <a:xfrm rot="21420000">
              <a:off x="-28080" y="-15840"/>
              <a:ext cx="9180000" cy="10839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193"/>
                  </a:moveTo>
                  <a:cubicBezTo>
                    <a:pt x="56" y="147"/>
                    <a:pt x="184" y="55"/>
                    <a:pt x="321" y="56"/>
                  </a:cubicBezTo>
                  <a:cubicBezTo>
                    <a:pt x="458" y="57"/>
                    <a:pt x="683" y="211"/>
                    <a:pt x="822" y="201"/>
                  </a:cubicBezTo>
                  <a:cubicBezTo>
                    <a:pt x="960" y="192"/>
                    <a:pt x="1085" y="42"/>
                    <a:pt x="1154" y="0"/>
                  </a:cubicBezTo>
                </a:path>
              </a:pathLst>
            </a:custGeom>
            <a:noFill/>
            <a:ln w="10800">
              <a:solidFill>
                <a:srgbClr val="008a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 rot="21420000">
              <a:off x="-24840" y="106200"/>
              <a:ext cx="9192600" cy="8845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146"/>
                  </a:moveTo>
                  <a:cubicBezTo>
                    <a:pt x="54" y="129"/>
                    <a:pt x="190" y="42"/>
                    <a:pt x="327" y="45"/>
                  </a:cubicBezTo>
                  <a:cubicBezTo>
                    <a:pt x="465" y="48"/>
                    <a:pt x="686" y="170"/>
                    <a:pt x="824" y="163"/>
                  </a:cubicBezTo>
                  <a:cubicBezTo>
                    <a:pt x="962" y="155"/>
                    <a:pt x="1084" y="34"/>
                    <a:pt x="1153" y="0"/>
                  </a:cubicBezTo>
                </a:path>
              </a:pathLst>
            </a:custGeom>
            <a:noFill/>
            <a:ln w="936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2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ED5778-2B67-45D2-9814-C5BE853DE3E6}" type="slidenum">
              <a:rPr b="0" lang="cs-CZ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1599840" y="55292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813120" y="608328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816600" y="6083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6CC1E3-48F6-4EB9-BD90-D791E6EBF60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600" spc="-1" strike="noStrike">
                <a:solidFill>
                  <a:srgbClr val="3333cc"/>
                </a:solidFill>
                <a:latin typeface="Constantia"/>
              </a:rPr>
              <a:t>Středová souměrnost</a:t>
            </a:r>
            <a:endParaRPr b="1" i="1" lang="en-US" sz="5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Bc. David Kobl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říklad 1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620640" y="2133720"/>
            <a:ext cx="790272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stroj trojúhelník AB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) a = 3cm, b = 4cm, c = 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= 60°, b = 6cm, c = 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) a = 5cm, v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= 3cm, c = 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ajdi obraz tohoto trojúhelníku v libovolné středové souměrnosti se středem v bodě, který neleží na jeho obvo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) Střed souměrnosti leží mimo trojúhelník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) Střed souměrnosti leží uvnitř trojúhelníku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aoblený obdélník 10"/>
          <p:cNvSpPr/>
          <p:nvPr/>
        </p:nvSpPr>
        <p:spPr>
          <a:xfrm>
            <a:off x="6443640" y="98100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říklad 2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620640" y="2133720"/>
            <a:ext cx="790272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e dána kružni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3cm) , střed souměrnosti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 |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| = 2cm. Najdi kružnici k‘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e dána kružni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4cm) , střed souměrnosti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 |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| = 6cm. Najdi kružnici k‘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e dána kružni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5cm) , střed souměrnosti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; |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| = 5cm. Najdi kružnici k‘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Středová souměrnost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11280" y="2276640"/>
            <a:ext cx="813600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ts val="2500"/>
              </a:lnSpc>
              <a:spcAft>
                <a:spcPts val="11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ředová souměr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 přímou shodností. Značí se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 je dána středem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Zapisujeme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(S) - středová souměrnost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se středem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obrazuje tak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zobrazí na bod S (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ám na seb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S' = 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aždý 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 ≠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zobrazí na bo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A'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tak, že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 je středem úsečky AA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1042920" y="4508640"/>
            <a:ext cx="23036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áp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S(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): A→ 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1" descr=""/>
          <p:cNvPicPr/>
          <p:nvPr/>
        </p:nvPicPr>
        <p:blipFill>
          <a:blip r:embed="rId1"/>
          <a:stretch/>
        </p:blipFill>
        <p:spPr>
          <a:xfrm>
            <a:off x="6948360" y="4508640"/>
            <a:ext cx="1352520" cy="4474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2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Skupina 23"/>
          <p:cNvGrpSpPr/>
          <p:nvPr/>
        </p:nvGrpSpPr>
        <p:grpSpPr>
          <a:xfrm>
            <a:off x="2627280" y="4397760"/>
            <a:ext cx="5334120" cy="1918440"/>
            <a:chOff x="2627280" y="4397760"/>
            <a:chExt cx="5334120" cy="1918440"/>
          </a:xfrm>
        </p:grpSpPr>
        <p:grpSp>
          <p:nvGrpSpPr>
            <p:cNvPr id="197" name="Skupina 24"/>
            <p:cNvGrpSpPr/>
            <p:nvPr/>
          </p:nvGrpSpPr>
          <p:grpSpPr>
            <a:xfrm>
              <a:off x="2627280" y="4397760"/>
              <a:ext cx="3760200" cy="1918440"/>
              <a:chOff x="2627280" y="4397760"/>
              <a:chExt cx="3760200" cy="1918440"/>
            </a:xfrm>
          </p:grpSpPr>
          <p:grpSp>
            <p:nvGrpSpPr>
              <p:cNvPr id="198" name="Skupina 23"/>
              <p:cNvGrpSpPr/>
              <p:nvPr/>
            </p:nvGrpSpPr>
            <p:grpSpPr>
              <a:xfrm>
                <a:off x="2627280" y="4397760"/>
                <a:ext cx="3760200" cy="1918440"/>
                <a:chOff x="2627280" y="4397760"/>
                <a:chExt cx="3760200" cy="1918440"/>
              </a:xfrm>
            </p:grpSpPr>
            <p:sp>
              <p:nvSpPr>
                <p:cNvPr id="199" name="Přímá spojovací čára 31"/>
                <p:cNvSpPr/>
                <p:nvPr/>
              </p:nvSpPr>
              <p:spPr>
                <a:xfrm flipV="1">
                  <a:off x="3020760" y="4716000"/>
                  <a:ext cx="2886120" cy="139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evá složená závorka 32"/>
                <p:cNvSpPr/>
                <p:nvPr/>
              </p:nvSpPr>
              <p:spPr>
                <a:xfrm rot="3840000">
                  <a:off x="3482640" y="4816080"/>
                  <a:ext cx="357120" cy="1573200"/>
                </a:xfrm>
                <a:custGeom>
                  <a:avLst/>
                  <a:gdLst>
                    <a:gd name="textAreaLeft" fmla="*/ 228240 w 357120"/>
                    <a:gd name="textAreaRight" fmla="*/ 357480 w 357120"/>
                    <a:gd name="textAreaTop" fmla="*/ 9000 h 1573200"/>
                    <a:gd name="textAreaBottom" fmla="*/ 1564200 h 157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204"/>
                        <a:pt x="10800" y="408"/>
                      </a:cubicBezTo>
                      <a:lnTo>
                        <a:pt x="10800" y="10392"/>
                      </a:lnTo>
                      <a:cubicBezTo>
                        <a:pt x="10800" y="10596"/>
                        <a:pt x="5400" y="10800"/>
                        <a:pt x="0" y="10800"/>
                      </a:cubicBezTo>
                      <a:cubicBezTo>
                        <a:pt x="5400" y="10800"/>
                        <a:pt x="10800" y="11004"/>
                        <a:pt x="10800" y="11208"/>
                      </a:cubicBezTo>
                      <a:lnTo>
                        <a:pt x="10800" y="21192"/>
                      </a:lnTo>
                      <a:cubicBezTo>
                        <a:pt x="10800" y="21396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evá složená závorka 33"/>
                <p:cNvSpPr/>
                <p:nvPr/>
              </p:nvSpPr>
              <p:spPr>
                <a:xfrm rot="3840000">
                  <a:off x="4882320" y="4116600"/>
                  <a:ext cx="357120" cy="1571760"/>
                </a:xfrm>
                <a:custGeom>
                  <a:avLst/>
                  <a:gdLst>
                    <a:gd name="textAreaLeft" fmla="*/ 228240 w 357120"/>
                    <a:gd name="textAreaRight" fmla="*/ 357480 w 357120"/>
                    <a:gd name="textAreaTop" fmla="*/ 9000 h 1571760"/>
                    <a:gd name="textAreaBottom" fmla="*/ 1562760 h 1571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205"/>
                        <a:pt x="10800" y="409"/>
                      </a:cubicBezTo>
                      <a:lnTo>
                        <a:pt x="10800" y="10391"/>
                      </a:lnTo>
                      <a:cubicBezTo>
                        <a:pt x="10800" y="10596"/>
                        <a:pt x="5400" y="10800"/>
                        <a:pt x="0" y="10800"/>
                      </a:cubicBezTo>
                      <a:cubicBezTo>
                        <a:pt x="5400" y="10800"/>
                        <a:pt x="10800" y="11005"/>
                        <a:pt x="10800" y="11209"/>
                      </a:cubicBezTo>
                      <a:lnTo>
                        <a:pt x="10800" y="21191"/>
                      </a:lnTo>
                      <a:cubicBezTo>
                        <a:pt x="10800" y="21396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TextovéPole 34"/>
                <p:cNvSpPr/>
                <p:nvPr/>
              </p:nvSpPr>
              <p:spPr>
                <a:xfrm>
                  <a:off x="2627280" y="5996160"/>
                  <a:ext cx="52452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6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ovéPole 35"/>
                <p:cNvSpPr/>
                <p:nvPr/>
              </p:nvSpPr>
              <p:spPr>
                <a:xfrm>
                  <a:off x="5862960" y="4508640"/>
                  <a:ext cx="52452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6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ovéPole 36"/>
                <p:cNvSpPr/>
                <p:nvPr/>
              </p:nvSpPr>
              <p:spPr>
                <a:xfrm>
                  <a:off x="4113720" y="5558400"/>
                  <a:ext cx="87444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cs-CZ" sz="16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S = S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Přímá spojovací čára 28"/>
              <p:cNvSpPr/>
              <p:nvPr/>
            </p:nvSpPr>
            <p:spPr>
              <a:xfrm>
                <a:off x="2993400" y="6072480"/>
                <a:ext cx="5616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Přímá spojovací čára 29"/>
              <p:cNvSpPr/>
              <p:nvPr/>
            </p:nvSpPr>
            <p:spPr>
              <a:xfrm>
                <a:off x="4414320" y="5372280"/>
                <a:ext cx="56160" cy="109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Přímá spojovací čára 30"/>
              <p:cNvSpPr/>
              <p:nvPr/>
            </p:nvSpPr>
            <p:spPr>
              <a:xfrm>
                <a:off x="5857560" y="4695480"/>
                <a:ext cx="5616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ovéPole 25"/>
            <p:cNvSpPr/>
            <p:nvPr/>
          </p:nvSpPr>
          <p:spPr>
            <a:xfrm>
              <a:off x="5338080" y="5394960"/>
              <a:ext cx="26233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třed souměrnos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Přímá spojovací šipka 26"/>
            <p:cNvCxnSpPr>
              <a:stCxn id="208" idx="1"/>
            </p:cNvCxnSpPr>
            <p:nvPr/>
          </p:nvCxnSpPr>
          <p:spPr>
            <a:xfrm flipH="1" flipV="1">
              <a:off x="4550760" y="5481000"/>
              <a:ext cx="786600" cy="137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arrow" w="med"/>
            </a:ln>
          </p:spPr>
        </p:cxn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Středová souměrnost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468360" y="2060640"/>
            <a:ext cx="835344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ý bo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 jenom jeden, a to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střed souměrn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 přím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sou všechny přímky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procházející střed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oumě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samodružné kružnice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sou všechny kružnice, které mají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střed ve stř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   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soumě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332080" y="3932280"/>
            <a:ext cx="447984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Obraz bodu: S(</a:t>
            </a:r>
            <a:r>
              <a:rPr b="0" lang="cs-CZ" sz="5000" spc="-1" strike="noStrike">
                <a:solidFill>
                  <a:srgbClr val="008000"/>
                </a:solidFill>
                <a:latin typeface="Constantia"/>
              </a:rPr>
              <a:t>N</a:t>
            </a: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):A → </a:t>
            </a:r>
            <a:r>
              <a:rPr b="0" lang="cs-CZ" sz="5000" spc="-1" strike="noStrike">
                <a:solidFill>
                  <a:srgbClr val="ff3300"/>
                </a:solidFill>
                <a:latin typeface="Constantia"/>
              </a:rPr>
              <a:t>A´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826920" y="2421000"/>
            <a:ext cx="273528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Z definice v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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</a:t>
            </a:r>
            <a:r>
              <a:rPr b="0" lang="cs-CZ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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A´</a:t>
            </a:r>
            <a:r>
              <a:rPr b="0" lang="cs-CZ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. </a:t>
            </a:r>
            <a:r>
              <a:rPr b="0" lang="cs-CZ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je střed úsečky A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Skupina 22"/>
          <p:cNvGrpSpPr/>
          <p:nvPr/>
        </p:nvGrpSpPr>
        <p:grpSpPr>
          <a:xfrm>
            <a:off x="3995640" y="2852640"/>
            <a:ext cx="4758840" cy="2806920"/>
            <a:chOff x="3995640" y="2852640"/>
            <a:chExt cx="4758840" cy="2806920"/>
          </a:xfrm>
        </p:grpSpPr>
        <p:sp>
          <p:nvSpPr>
            <p:cNvPr id="220" name="Text Box 5"/>
            <p:cNvSpPr/>
            <p:nvPr/>
          </p:nvSpPr>
          <p:spPr>
            <a:xfrm>
              <a:off x="6620040" y="4535640"/>
              <a:ext cx="5220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A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6"/>
            <p:cNvSpPr/>
            <p:nvPr/>
          </p:nvSpPr>
          <p:spPr>
            <a:xfrm>
              <a:off x="3995640" y="3527640"/>
              <a:ext cx="42084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5306040" y="4031640"/>
              <a:ext cx="32796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"/>
            <p:cNvSpPr/>
            <p:nvPr/>
          </p:nvSpPr>
          <p:spPr>
            <a:xfrm>
              <a:off x="4052160" y="2852640"/>
              <a:ext cx="2806920" cy="2806920"/>
            </a:xfrm>
            <a:prstGeom prst="ellipse">
              <a:avLst/>
            </a:prstGeom>
            <a:noFill/>
            <a:ln w="19080">
              <a:solidFill>
                <a:srgbClr val="4747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6742440" y="3183840"/>
              <a:ext cx="1929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5c"/>
                  </a:solidFill>
                  <a:latin typeface="Arial"/>
                  <a:ea typeface="Arial Unicode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2"/>
            <p:cNvSpPr/>
            <p:nvPr/>
          </p:nvSpPr>
          <p:spPr>
            <a:xfrm>
              <a:off x="4132800" y="3755520"/>
              <a:ext cx="4621680" cy="1724400"/>
            </a:xfrm>
            <a:prstGeom prst="line">
              <a:avLst/>
            </a:prstGeom>
            <a:ln w="19080">
              <a:solidFill>
                <a:srgbClr val="62626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ovéPole 29"/>
          <p:cNvSpPr/>
          <p:nvPr/>
        </p:nvSpPr>
        <p:spPr>
          <a:xfrm>
            <a:off x="826920" y="4508640"/>
            <a:ext cx="237672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stup konstruk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⇥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;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"/>
              </a:rPr>
              <a:t>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N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; A´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Arial"/>
              </a:rPr>
              <a:t>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⇥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římá spojovací čára 30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Obraz úsečky: S(</a:t>
            </a:r>
            <a:r>
              <a:rPr b="0" lang="cs-CZ" sz="5000" spc="-1" strike="noStrike">
                <a:solidFill>
                  <a:srgbClr val="008000"/>
                </a:solidFill>
                <a:latin typeface="Constantia"/>
              </a:rPr>
              <a:t>N</a:t>
            </a: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):AB → </a:t>
            </a:r>
            <a:r>
              <a:rPr b="0" lang="cs-CZ" sz="5000" spc="-1" strike="noStrike">
                <a:solidFill>
                  <a:srgbClr val="ff3300"/>
                </a:solidFill>
                <a:latin typeface="Constantia"/>
              </a:rPr>
              <a:t>A´B´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826920" y="1989000"/>
            <a:ext cx="713916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Z definice ví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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A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=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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A´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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B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=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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B´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 Unicode MS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je střed úsečky A</a:t>
            </a:r>
            <a:r>
              <a:rPr b="0" lang="cs-CZ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A´</a:t>
            </a:r>
            <a:r>
              <a:rPr b="0" lang="cs-CZ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	</a:t>
            </a:r>
            <a:r>
              <a:rPr b="0" lang="cs-CZ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	</a:t>
            </a:r>
            <a:r>
              <a:rPr b="0" lang="cs-CZ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 Unicode MS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je střed úsečky B</a:t>
            </a:r>
            <a:r>
              <a:rPr b="0" lang="cs-CZ" sz="1600" spc="-1" strike="noStrike">
                <a:solidFill>
                  <a:srgbClr val="ff3300"/>
                </a:solidFill>
                <a:latin typeface="Arial"/>
                <a:ea typeface="Arial Unicode MS"/>
              </a:rPr>
              <a:t>B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826920" y="3645000"/>
            <a:ext cx="2808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274680" indent="-2588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ostup 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58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58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⇥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58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4887a0"/>
                </a:solidFill>
                <a:latin typeface="Arial"/>
                <a:ea typeface="Arial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N;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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AN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58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´; A´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⇥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58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⇥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B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58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N;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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BN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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58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B´; B´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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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⇥ B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58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´B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008680" y="3990960"/>
            <a:ext cx="525240" cy="2557440"/>
          </a:xfrm>
          <a:prstGeom prst="line">
            <a:avLst/>
          </a:prstGeom>
          <a:ln w="19080">
            <a:solidFill>
              <a:srgbClr val="9b9b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335640" y="5076720"/>
            <a:ext cx="4968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Skupina 23"/>
          <p:cNvGrpSpPr/>
          <p:nvPr/>
        </p:nvGrpSpPr>
        <p:grpSpPr>
          <a:xfrm>
            <a:off x="3797280" y="3429000"/>
            <a:ext cx="2765520" cy="2765520"/>
            <a:chOff x="3797280" y="3429000"/>
            <a:chExt cx="2765520" cy="2765520"/>
          </a:xfrm>
        </p:grpSpPr>
        <p:sp>
          <p:nvSpPr>
            <p:cNvPr id="234" name="Oval 9"/>
            <p:cNvSpPr/>
            <p:nvPr/>
          </p:nvSpPr>
          <p:spPr>
            <a:xfrm>
              <a:off x="3797280" y="3429000"/>
              <a:ext cx="2765520" cy="2765520"/>
            </a:xfrm>
            <a:prstGeom prst="ellipse">
              <a:avLst/>
            </a:prstGeom>
            <a:noFill/>
            <a:ln w="19080">
              <a:solidFill>
                <a:srgbClr val="4747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0"/>
            <p:cNvSpPr/>
            <p:nvPr/>
          </p:nvSpPr>
          <p:spPr>
            <a:xfrm>
              <a:off x="6372720" y="3857760"/>
              <a:ext cx="1900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cs-CZ" sz="1800" spc="-1" strike="noStrike">
                  <a:solidFill>
                    <a:srgbClr val="4747ff"/>
                  </a:solidFill>
                  <a:latin typeface="Arial"/>
                  <a:ea typeface="Arial Unicode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3876840" y="4327200"/>
            <a:ext cx="4554360" cy="1699200"/>
          </a:xfrm>
          <a:prstGeom prst="line">
            <a:avLst/>
          </a:prstGeom>
          <a:ln w="19080">
            <a:solidFill>
              <a:srgbClr val="9b9b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4716360" y="5445000"/>
            <a:ext cx="9223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        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     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Skupina 28"/>
          <p:cNvGrpSpPr/>
          <p:nvPr/>
        </p:nvGrpSpPr>
        <p:grpSpPr>
          <a:xfrm>
            <a:off x="4311720" y="3960720"/>
            <a:ext cx="1766880" cy="1685880"/>
            <a:chOff x="4311720" y="3960720"/>
            <a:chExt cx="1766880" cy="1685880"/>
          </a:xfrm>
        </p:grpSpPr>
        <p:sp>
          <p:nvSpPr>
            <p:cNvPr id="239" name="Oval 17"/>
            <p:cNvSpPr/>
            <p:nvPr/>
          </p:nvSpPr>
          <p:spPr>
            <a:xfrm>
              <a:off x="4311720" y="3963600"/>
              <a:ext cx="1739160" cy="1683000"/>
            </a:xfrm>
            <a:prstGeom prst="ellipse">
              <a:avLst/>
            </a:prstGeom>
            <a:noFill/>
            <a:ln w="19080">
              <a:solidFill>
                <a:srgbClr val="ffa92b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9"/>
            <p:cNvSpPr/>
            <p:nvPr/>
          </p:nvSpPr>
          <p:spPr>
            <a:xfrm>
              <a:off x="5759640" y="3960720"/>
              <a:ext cx="3189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cs-CZ" sz="1800" spc="-1" strike="noStrike">
                  <a:solidFill>
                    <a:srgbClr val="ff9900"/>
                  </a:solidFill>
                  <a:latin typeface="Arial"/>
                  <a:ea typeface="Arial Unicode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Line 14"/>
          <p:cNvSpPr/>
          <p:nvPr/>
        </p:nvSpPr>
        <p:spPr>
          <a:xfrm flipV="1">
            <a:off x="5351400" y="5290920"/>
            <a:ext cx="1111320" cy="344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Skupina 32"/>
          <p:cNvGrpSpPr/>
          <p:nvPr/>
        </p:nvGrpSpPr>
        <p:grpSpPr>
          <a:xfrm>
            <a:off x="3743280" y="3780000"/>
            <a:ext cx="1619280" cy="1574640"/>
            <a:chOff x="3743280" y="3780000"/>
            <a:chExt cx="1619280" cy="1574640"/>
          </a:xfrm>
        </p:grpSpPr>
        <p:sp>
          <p:nvSpPr>
            <p:cNvPr id="243" name="Text Box 6"/>
            <p:cNvSpPr/>
            <p:nvPr/>
          </p:nvSpPr>
          <p:spPr>
            <a:xfrm>
              <a:off x="3743280" y="4140000"/>
              <a:ext cx="41472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5039280" y="4608000"/>
              <a:ext cx="32328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2"/>
            <p:cNvSpPr/>
            <p:nvPr/>
          </p:nvSpPr>
          <p:spPr>
            <a:xfrm>
              <a:off x="4859280" y="3780000"/>
              <a:ext cx="41472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 flipV="1">
              <a:off x="3875760" y="3975840"/>
              <a:ext cx="1125720" cy="35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římá spojovací čára 39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Obraz útvaru: S(</a:t>
            </a:r>
            <a:r>
              <a:rPr b="0" lang="cs-CZ" sz="4400" spc="-1" strike="noStrike">
                <a:solidFill>
                  <a:srgbClr val="008000"/>
                </a:solidFill>
                <a:latin typeface="Constantia"/>
                <a:ea typeface="Arial Unicode MS"/>
              </a:rPr>
              <a:t>N</a:t>
            </a:r>
            <a:r>
              <a:rPr b="0" lang="cs-CZ" sz="4400" spc="-1" strike="noStrike">
                <a:solidFill>
                  <a:srgbClr val="3333cc"/>
                </a:solidFill>
                <a:latin typeface="Constantia"/>
                <a:ea typeface="Arial Unicode MS"/>
              </a:rPr>
              <a:t>):u → </a:t>
            </a:r>
            <a:r>
              <a:rPr b="0" lang="cs-CZ" sz="44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u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457200" y="1104840"/>
            <a:ext cx="82296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68360" y="1484280"/>
            <a:ext cx="820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nožinou obrazů všech bodů útva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je útvar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´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terý je s útvare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hodn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ačí nám tedy, pokud zobrazíme vrcholy útvaru a tyto obrazy vrcholů spojí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539640" y="2492280"/>
            <a:ext cx="3240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ř.: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(N):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ABC →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Arial Unicode MS"/>
              </a:rPr>
              <a:t>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A´B´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Skupina 27"/>
          <p:cNvGrpSpPr/>
          <p:nvPr/>
        </p:nvGrpSpPr>
        <p:grpSpPr>
          <a:xfrm>
            <a:off x="3203640" y="2276640"/>
            <a:ext cx="5381640" cy="4411440"/>
            <a:chOff x="3203640" y="2276640"/>
            <a:chExt cx="5381640" cy="4411440"/>
          </a:xfrm>
        </p:grpSpPr>
        <p:sp>
          <p:nvSpPr>
            <p:cNvPr id="253" name="Text Box 10"/>
            <p:cNvSpPr/>
            <p:nvPr/>
          </p:nvSpPr>
          <p:spPr>
            <a:xfrm>
              <a:off x="3499560" y="3278520"/>
              <a:ext cx="4114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32"/>
            <p:cNvSpPr/>
            <p:nvPr/>
          </p:nvSpPr>
          <p:spPr>
            <a:xfrm>
              <a:off x="6111360" y="3155400"/>
              <a:ext cx="54936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s-CZ" sz="18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B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Skupina 25"/>
            <p:cNvGrpSpPr/>
            <p:nvPr/>
          </p:nvGrpSpPr>
          <p:grpSpPr>
            <a:xfrm>
              <a:off x="3203640" y="2276640"/>
              <a:ext cx="5381640" cy="4411440"/>
              <a:chOff x="3203640" y="2276640"/>
              <a:chExt cx="5381640" cy="4411440"/>
            </a:xfrm>
          </p:grpSpPr>
          <p:cxnSp>
            <p:nvCxnSpPr>
              <p:cNvPr id="256" name="AutoShape 7"/>
              <p:cNvCxnSpPr/>
              <p:nvPr/>
            </p:nvCxnSpPr>
            <p:spPr>
              <a:xfrm flipV="1">
                <a:off x="3442320" y="3566160"/>
                <a:ext cx="230400" cy="15548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57" name="AutoShape 8"/>
              <p:cNvCxnSpPr/>
              <p:nvPr/>
            </p:nvCxnSpPr>
            <p:spPr>
              <a:xfrm>
                <a:off x="3672360" y="3566520"/>
                <a:ext cx="1325520" cy="21315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58" name="AutoShape 9"/>
              <p:cNvCxnSpPr/>
              <p:nvPr/>
            </p:nvCxnSpPr>
            <p:spPr>
              <a:xfrm flipH="1" flipV="1">
                <a:off x="3441600" y="5120280"/>
                <a:ext cx="1555560" cy="577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59" name="Text Box 11"/>
              <p:cNvSpPr/>
              <p:nvPr/>
            </p:nvSpPr>
            <p:spPr>
              <a:xfrm>
                <a:off x="3203640" y="5121000"/>
                <a:ext cx="41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2"/>
              <p:cNvSpPr/>
              <p:nvPr/>
            </p:nvSpPr>
            <p:spPr>
              <a:xfrm>
                <a:off x="5012280" y="5712840"/>
                <a:ext cx="41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13"/>
              <p:cNvSpPr/>
              <p:nvPr/>
            </p:nvSpPr>
            <p:spPr>
              <a:xfrm>
                <a:off x="5472360" y="4319640"/>
                <a:ext cx="41148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008000"/>
                    </a:solidFill>
                    <a:latin typeface="Arial"/>
                    <a:ea typeface="Arial Unicode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008000"/>
                    </a:solidFill>
                    <a:latin typeface="Arial"/>
                    <a:ea typeface="Arial Unicode MS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4"/>
              <p:cNvSpPr/>
              <p:nvPr/>
            </p:nvSpPr>
            <p:spPr>
              <a:xfrm flipV="1">
                <a:off x="3442320" y="3796200"/>
                <a:ext cx="4609800" cy="1324440"/>
              </a:xfrm>
              <a:prstGeom prst="line">
                <a:avLst/>
              </a:prstGeom>
              <a:ln w="19080">
                <a:solidFill>
                  <a:srgbClr val="62626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3" name="AutoShape 15"/>
              <p:cNvCxnSpPr/>
              <p:nvPr/>
            </p:nvCxnSpPr>
            <p:spPr>
              <a:xfrm>
                <a:off x="3672360" y="3571560"/>
                <a:ext cx="4553280" cy="2121480"/>
              </a:xfrm>
              <a:prstGeom prst="straightConnector1">
                <a:avLst/>
              </a:prstGeom>
              <a:ln w="19080">
                <a:solidFill>
                  <a:srgbClr val="626262"/>
                </a:solidFill>
                <a:prstDash val="dash"/>
                <a:miter/>
              </a:ln>
            </p:spPr>
          </p:cxnSp>
          <p:cxnSp>
            <p:nvCxnSpPr>
              <p:cNvPr id="264" name="AutoShape 19"/>
              <p:cNvCxnSpPr/>
              <p:nvPr/>
            </p:nvCxnSpPr>
            <p:spPr>
              <a:xfrm flipV="1">
                <a:off x="4996800" y="3138480"/>
                <a:ext cx="1326240" cy="2554560"/>
              </a:xfrm>
              <a:prstGeom prst="straightConnector1">
                <a:avLst/>
              </a:prstGeom>
              <a:ln w="19080">
                <a:solidFill>
                  <a:srgbClr val="626262"/>
                </a:solidFill>
                <a:prstDash val="dash"/>
                <a:miter/>
              </a:ln>
            </p:spPr>
          </p:cxnSp>
          <p:sp>
            <p:nvSpPr>
              <p:cNvPr id="265" name="Oval 21"/>
              <p:cNvSpPr/>
              <p:nvPr/>
            </p:nvSpPr>
            <p:spPr>
              <a:xfrm>
                <a:off x="3468960" y="2325960"/>
                <a:ext cx="4348080" cy="4347000"/>
              </a:xfrm>
              <a:prstGeom prst="ellipse">
                <a:avLst/>
              </a:prstGeom>
              <a:noFill/>
              <a:ln w="19080">
                <a:solidFill>
                  <a:srgbClr val="2fff2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24"/>
              <p:cNvSpPr/>
              <p:nvPr/>
            </p:nvSpPr>
            <p:spPr>
              <a:xfrm>
                <a:off x="7416720" y="5219640"/>
                <a:ext cx="48276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ff3300"/>
                    </a:solidFill>
                    <a:latin typeface="Arial"/>
                    <a:ea typeface="Arial Unicode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ff3300"/>
                    </a:solidFill>
                    <a:latin typeface="Arial"/>
                    <a:ea typeface="Arial Unicode MS"/>
                  </a:rPr>
                  <a:t>C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4279320" y="3147480"/>
                <a:ext cx="2706840" cy="2706120"/>
              </a:xfrm>
              <a:prstGeom prst="ellipse">
                <a:avLst/>
              </a:prstGeom>
              <a:noFill/>
              <a:ln w="19080">
                <a:solidFill>
                  <a:srgbClr val="3366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9"/>
              <p:cNvSpPr/>
              <p:nvPr/>
            </p:nvSpPr>
            <p:spPr>
              <a:xfrm>
                <a:off x="3346920" y="2276640"/>
                <a:ext cx="4551480" cy="4411440"/>
              </a:xfrm>
              <a:prstGeom prst="ellipse">
                <a:avLst/>
              </a:prstGeom>
              <a:noFill/>
              <a:ln w="19080">
                <a:solidFill>
                  <a:srgbClr val="ffa92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34"/>
              <p:cNvSpPr/>
              <p:nvPr/>
            </p:nvSpPr>
            <p:spPr>
              <a:xfrm>
                <a:off x="7632720" y="3707640"/>
                <a:ext cx="9525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cs-CZ" sz="1800" spc="-1" strike="noStrike">
                    <a:solidFill>
                      <a:srgbClr val="ff3300"/>
                    </a:solidFill>
                    <a:latin typeface="Arial"/>
                    <a:ea typeface="Arial Unicode MS"/>
                  </a:rPr>
                  <a:t>X  A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0" name="AutoShape 36"/>
              <p:cNvCxnSpPr/>
              <p:nvPr/>
            </p:nvCxnSpPr>
            <p:spPr>
              <a:xfrm flipH="1" flipV="1">
                <a:off x="6247800" y="3295440"/>
                <a:ext cx="1555560" cy="577080"/>
              </a:xfrm>
              <a:prstGeom prst="straightConnector1">
                <a:avLst/>
              </a:prstGeom>
              <a:ln w="28440">
                <a:solidFill>
                  <a:srgbClr val="ff3300"/>
                </a:solidFill>
                <a:miter/>
              </a:ln>
            </p:spPr>
          </p:cxnSp>
          <p:sp>
            <p:nvSpPr>
              <p:cNvPr id="271" name="Line 38"/>
              <p:cNvSpPr/>
              <p:nvPr/>
            </p:nvSpPr>
            <p:spPr>
              <a:xfrm flipH="1">
                <a:off x="7596360" y="3880440"/>
                <a:ext cx="213120" cy="1541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39"/>
              <p:cNvSpPr/>
              <p:nvPr/>
            </p:nvSpPr>
            <p:spPr>
              <a:xfrm>
                <a:off x="6248520" y="3296160"/>
                <a:ext cx="1347480" cy="212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Text Box 41"/>
          <p:cNvSpPr/>
          <p:nvPr/>
        </p:nvSpPr>
        <p:spPr>
          <a:xfrm>
            <a:off x="539640" y="3284640"/>
            <a:ext cx="21607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ostup 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1. 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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ABC,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2.   A´; S(N):A → A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5c"/>
                </a:solidFill>
                <a:latin typeface="Arial"/>
                <a:ea typeface="Arial"/>
              </a:rPr>
              <a:t>3.   B´;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(N):B → B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4.   C´; S(N):C → C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5. 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Arial"/>
              </a:rPr>
              <a:t>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A´B´C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římá spojovací čára 49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Středově souměrný útvar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684360" y="1917720"/>
            <a:ext cx="77752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spcAft>
                <a:spcPts val="11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Středově souměrný útvar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odle bodu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je takový útvar, který se ve středové  souměrnosti se středem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zobrazí sám na se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o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se nazývá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  <a:ea typeface="Arial Unicode MS"/>
              </a:rPr>
              <a:t>střed souměrn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ředově souměrného útvar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1187280" y="3573360"/>
            <a:ext cx="935280" cy="935280"/>
            <a:chOff x="1187280" y="3573360"/>
            <a:chExt cx="935280" cy="935280"/>
          </a:xfrm>
        </p:grpSpPr>
        <p:grpSp>
          <p:nvGrpSpPr>
            <p:cNvPr id="280" name="Group 10"/>
            <p:cNvGrpSpPr/>
            <p:nvPr/>
          </p:nvGrpSpPr>
          <p:grpSpPr>
            <a:xfrm>
              <a:off x="1187280" y="3573360"/>
              <a:ext cx="935280" cy="935280"/>
              <a:chOff x="1187280" y="3573360"/>
              <a:chExt cx="935280" cy="935280"/>
            </a:xfrm>
          </p:grpSpPr>
          <p:sp>
            <p:nvSpPr>
              <p:cNvPr id="281" name="Rectangle 11"/>
              <p:cNvSpPr/>
              <p:nvPr/>
            </p:nvSpPr>
            <p:spPr>
              <a:xfrm>
                <a:off x="1187280" y="3576240"/>
                <a:ext cx="933480" cy="93024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2"/>
              <p:cNvSpPr/>
              <p:nvPr/>
            </p:nvSpPr>
            <p:spPr>
              <a:xfrm flipV="1">
                <a:off x="1187280" y="3573360"/>
                <a:ext cx="935280" cy="93528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3"/>
              <p:cNvSpPr/>
              <p:nvPr/>
            </p:nvSpPr>
            <p:spPr>
              <a:xfrm>
                <a:off x="1187280" y="3576240"/>
                <a:ext cx="935280" cy="93204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4"/>
            <p:cNvGrpSpPr/>
            <p:nvPr/>
          </p:nvGrpSpPr>
          <p:grpSpPr>
            <a:xfrm>
              <a:off x="1619280" y="4014720"/>
              <a:ext cx="69840" cy="69840"/>
              <a:chOff x="1619280" y="4014720"/>
              <a:chExt cx="69840" cy="69840"/>
            </a:xfrm>
          </p:grpSpPr>
          <p:sp>
            <p:nvSpPr>
              <p:cNvPr id="285" name="Line 15"/>
              <p:cNvSpPr/>
              <p:nvPr/>
            </p:nvSpPr>
            <p:spPr>
              <a:xfrm>
                <a:off x="1619280" y="4051440"/>
                <a:ext cx="6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16"/>
              <p:cNvSpPr/>
              <p:nvPr/>
            </p:nvSpPr>
            <p:spPr>
              <a:xfrm>
                <a:off x="1655640" y="4014720"/>
                <a:ext cx="0" cy="69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17"/>
            <p:cNvSpPr/>
            <p:nvPr/>
          </p:nvSpPr>
          <p:spPr>
            <a:xfrm>
              <a:off x="1547640" y="4076640"/>
              <a:ext cx="285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8"/>
          <p:cNvGrpSpPr/>
          <p:nvPr/>
        </p:nvGrpSpPr>
        <p:grpSpPr>
          <a:xfrm>
            <a:off x="2411280" y="3573360"/>
            <a:ext cx="1727280" cy="935280"/>
            <a:chOff x="2411280" y="3573360"/>
            <a:chExt cx="1727280" cy="935280"/>
          </a:xfrm>
        </p:grpSpPr>
        <p:grpSp>
          <p:nvGrpSpPr>
            <p:cNvPr id="289" name="Group 19"/>
            <p:cNvGrpSpPr/>
            <p:nvPr/>
          </p:nvGrpSpPr>
          <p:grpSpPr>
            <a:xfrm>
              <a:off x="2411280" y="3573360"/>
              <a:ext cx="1727280" cy="935280"/>
              <a:chOff x="2411280" y="3573360"/>
              <a:chExt cx="1727280" cy="935280"/>
            </a:xfrm>
          </p:grpSpPr>
          <p:sp>
            <p:nvSpPr>
              <p:cNvPr id="290" name="Rectangle 20"/>
              <p:cNvSpPr/>
              <p:nvPr/>
            </p:nvSpPr>
            <p:spPr>
              <a:xfrm>
                <a:off x="2411280" y="3576240"/>
                <a:ext cx="1727280" cy="93024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1"/>
              <p:cNvSpPr/>
              <p:nvPr/>
            </p:nvSpPr>
            <p:spPr>
              <a:xfrm flipV="1">
                <a:off x="2411280" y="3573360"/>
                <a:ext cx="1727280" cy="93528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2"/>
              <p:cNvSpPr/>
              <p:nvPr/>
            </p:nvSpPr>
            <p:spPr>
              <a:xfrm>
                <a:off x="2411280" y="3576240"/>
                <a:ext cx="1727280" cy="93204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3"/>
            <p:cNvGrpSpPr/>
            <p:nvPr/>
          </p:nvGrpSpPr>
          <p:grpSpPr>
            <a:xfrm>
              <a:off x="3240000" y="4005360"/>
              <a:ext cx="69840" cy="69840"/>
              <a:chOff x="3240000" y="4005360"/>
              <a:chExt cx="69840" cy="69840"/>
            </a:xfrm>
          </p:grpSpPr>
          <p:sp>
            <p:nvSpPr>
              <p:cNvPr id="294" name="Line 24"/>
              <p:cNvSpPr/>
              <p:nvPr/>
            </p:nvSpPr>
            <p:spPr>
              <a:xfrm>
                <a:off x="3240000" y="4043520"/>
                <a:ext cx="6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25"/>
              <p:cNvSpPr/>
              <p:nvPr/>
            </p:nvSpPr>
            <p:spPr>
              <a:xfrm>
                <a:off x="3276720" y="4005360"/>
                <a:ext cx="0" cy="69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Rectangle 26"/>
            <p:cNvSpPr/>
            <p:nvPr/>
          </p:nvSpPr>
          <p:spPr>
            <a:xfrm>
              <a:off x="3132000" y="4076640"/>
              <a:ext cx="285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7020000" y="5013360"/>
            <a:ext cx="1149120" cy="1149480"/>
            <a:chOff x="7020000" y="5013360"/>
            <a:chExt cx="1149120" cy="1149480"/>
          </a:xfrm>
        </p:grpSpPr>
        <p:grpSp>
          <p:nvGrpSpPr>
            <p:cNvPr id="298" name="Group 46"/>
            <p:cNvGrpSpPr/>
            <p:nvPr/>
          </p:nvGrpSpPr>
          <p:grpSpPr>
            <a:xfrm>
              <a:off x="7020000" y="5013360"/>
              <a:ext cx="1149120" cy="1149480"/>
              <a:chOff x="7020000" y="5013360"/>
              <a:chExt cx="1149120" cy="1149480"/>
            </a:xfrm>
          </p:grpSpPr>
          <p:sp>
            <p:nvSpPr>
              <p:cNvPr id="299" name="Line 47"/>
              <p:cNvSpPr/>
              <p:nvPr/>
            </p:nvSpPr>
            <p:spPr>
              <a:xfrm>
                <a:off x="7596360" y="5535720"/>
                <a:ext cx="0" cy="106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Group 48"/>
              <p:cNvGrpSpPr/>
              <p:nvPr/>
            </p:nvGrpSpPr>
            <p:grpSpPr>
              <a:xfrm>
                <a:off x="7020000" y="5013360"/>
                <a:ext cx="1149120" cy="1149480"/>
                <a:chOff x="7020000" y="5013360"/>
                <a:chExt cx="1149120" cy="1149480"/>
              </a:xfrm>
            </p:grpSpPr>
            <p:sp>
              <p:nvSpPr>
                <p:cNvPr id="301" name="Line 49"/>
                <p:cNvSpPr/>
                <p:nvPr/>
              </p:nvSpPr>
              <p:spPr>
                <a:xfrm>
                  <a:off x="7542360" y="5589720"/>
                  <a:ext cx="106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50"/>
                <p:cNvSpPr/>
                <p:nvPr/>
              </p:nvSpPr>
              <p:spPr>
                <a:xfrm>
                  <a:off x="7020000" y="5013360"/>
                  <a:ext cx="1149120" cy="1149480"/>
                </a:xfrm>
                <a:prstGeom prst="ellipse">
                  <a:avLst/>
                </a:prstGeom>
                <a:noFill/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" name="Rectangle 51"/>
            <p:cNvSpPr/>
            <p:nvPr/>
          </p:nvSpPr>
          <p:spPr>
            <a:xfrm>
              <a:off x="7451640" y="5661000"/>
              <a:ext cx="285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Rectangle 52"/>
          <p:cNvSpPr/>
          <p:nvPr/>
        </p:nvSpPr>
        <p:spPr>
          <a:xfrm>
            <a:off x="755640" y="4869000"/>
            <a:ext cx="381636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Čtverec, obdélník, kosočtverec, kosodélník, kruh, kružnice i pravidelný n-úhelník, kde n je sudé jsou středově souměrné útvary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Skupina 53"/>
          <p:cNvGrpSpPr/>
          <p:nvPr/>
        </p:nvGrpSpPr>
        <p:grpSpPr>
          <a:xfrm>
            <a:off x="5219640" y="3573360"/>
            <a:ext cx="1244520" cy="935280"/>
            <a:chOff x="5219640" y="3573360"/>
            <a:chExt cx="1244520" cy="935280"/>
          </a:xfrm>
        </p:grpSpPr>
        <p:grpSp>
          <p:nvGrpSpPr>
            <p:cNvPr id="306" name="Skupina 24"/>
            <p:cNvGrpSpPr/>
            <p:nvPr/>
          </p:nvGrpSpPr>
          <p:grpSpPr>
            <a:xfrm>
              <a:off x="5219640" y="3573360"/>
              <a:ext cx="1244520" cy="935280"/>
              <a:chOff x="5219640" y="3573360"/>
              <a:chExt cx="1244520" cy="935280"/>
            </a:xfrm>
          </p:grpSpPr>
          <p:sp>
            <p:nvSpPr>
              <p:cNvPr id="307" name="Kosoúhelník 59"/>
              <p:cNvSpPr/>
              <p:nvPr/>
            </p:nvSpPr>
            <p:spPr>
              <a:xfrm>
                <a:off x="5219640" y="3573360"/>
                <a:ext cx="1244520" cy="935280"/>
              </a:xfrm>
              <a:prstGeom prst="parallelogram">
                <a:avLst>
                  <a:gd name="adj" fmla="val 25011"/>
                </a:avLst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Přímá spojovací čára 60"/>
              <p:cNvSpPr/>
              <p:nvPr/>
            </p:nvSpPr>
            <p:spPr>
              <a:xfrm>
                <a:off x="5435280" y="3573360"/>
                <a:ext cx="792000" cy="93528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Přímá spojovací čára 61"/>
              <p:cNvSpPr/>
              <p:nvPr/>
            </p:nvSpPr>
            <p:spPr>
              <a:xfrm flipH="1">
                <a:off x="5219640" y="3573360"/>
                <a:ext cx="1224000" cy="93528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Skupina 48"/>
            <p:cNvGrpSpPr/>
            <p:nvPr/>
          </p:nvGrpSpPr>
          <p:grpSpPr>
            <a:xfrm>
              <a:off x="5798880" y="4005000"/>
              <a:ext cx="71640" cy="71640"/>
              <a:chOff x="5798880" y="4005000"/>
              <a:chExt cx="71640" cy="71640"/>
            </a:xfrm>
          </p:grpSpPr>
          <p:sp>
            <p:nvSpPr>
              <p:cNvPr id="311" name="Přímá spojovací čára 57"/>
              <p:cNvSpPr/>
              <p:nvPr/>
            </p:nvSpPr>
            <p:spPr>
              <a:xfrm>
                <a:off x="5798880" y="4043160"/>
                <a:ext cx="7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Přímá spojovací čára 58"/>
              <p:cNvSpPr/>
              <p:nvPr/>
            </p:nvSpPr>
            <p:spPr>
              <a:xfrm>
                <a:off x="5835600" y="4005000"/>
                <a:ext cx="0" cy="71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ovéPole 56"/>
            <p:cNvSpPr/>
            <p:nvPr/>
          </p:nvSpPr>
          <p:spPr>
            <a:xfrm>
              <a:off x="5651280" y="4077000"/>
              <a:ext cx="288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Skupina 62"/>
          <p:cNvGrpSpPr/>
          <p:nvPr/>
        </p:nvGrpSpPr>
        <p:grpSpPr>
          <a:xfrm>
            <a:off x="6659640" y="3573360"/>
            <a:ext cx="1657440" cy="935280"/>
            <a:chOff x="6659640" y="3573360"/>
            <a:chExt cx="1657440" cy="935280"/>
          </a:xfrm>
        </p:grpSpPr>
        <p:sp>
          <p:nvSpPr>
            <p:cNvPr id="315" name="Přímá spojovací čára 63"/>
            <p:cNvSpPr/>
            <p:nvPr/>
          </p:nvSpPr>
          <p:spPr>
            <a:xfrm>
              <a:off x="6875280" y="3573360"/>
              <a:ext cx="1225800" cy="9352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Přímá spojovací čára 64"/>
            <p:cNvSpPr/>
            <p:nvPr/>
          </p:nvSpPr>
          <p:spPr>
            <a:xfrm flipV="1">
              <a:off x="6659640" y="3573360"/>
              <a:ext cx="1657440" cy="9352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Skupina 62"/>
            <p:cNvGrpSpPr/>
            <p:nvPr/>
          </p:nvGrpSpPr>
          <p:grpSpPr>
            <a:xfrm>
              <a:off x="6659640" y="3573360"/>
              <a:ext cx="1657440" cy="935280"/>
              <a:chOff x="6659640" y="3573360"/>
              <a:chExt cx="1657440" cy="935280"/>
            </a:xfrm>
          </p:grpSpPr>
          <p:sp>
            <p:nvSpPr>
              <p:cNvPr id="318" name="Kosoúhelník 66"/>
              <p:cNvSpPr/>
              <p:nvPr/>
            </p:nvSpPr>
            <p:spPr>
              <a:xfrm>
                <a:off x="6659640" y="3573360"/>
                <a:ext cx="1657440" cy="935280"/>
              </a:xfrm>
              <a:prstGeom prst="parallelogram">
                <a:avLst>
                  <a:gd name="adj" fmla="val 25040"/>
                </a:avLst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Skupina 51"/>
              <p:cNvGrpSpPr/>
              <p:nvPr/>
            </p:nvGrpSpPr>
            <p:grpSpPr>
              <a:xfrm>
                <a:off x="7452360" y="4005000"/>
                <a:ext cx="72000" cy="71640"/>
                <a:chOff x="7452360" y="4005000"/>
                <a:chExt cx="72000" cy="71640"/>
              </a:xfrm>
            </p:grpSpPr>
            <p:sp>
              <p:nvSpPr>
                <p:cNvPr id="320" name="Přímá spojovací čára 69"/>
                <p:cNvSpPr/>
                <p:nvPr/>
              </p:nvSpPr>
              <p:spPr>
                <a:xfrm>
                  <a:off x="7452360" y="4043160"/>
                  <a:ext cx="720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Přímá spojovací čára 70"/>
                <p:cNvSpPr/>
                <p:nvPr/>
              </p:nvSpPr>
              <p:spPr>
                <a:xfrm>
                  <a:off x="7488360" y="4005000"/>
                  <a:ext cx="0" cy="71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TextovéPole 68"/>
              <p:cNvSpPr/>
              <p:nvPr/>
            </p:nvSpPr>
            <p:spPr>
              <a:xfrm>
                <a:off x="7308000" y="4077000"/>
                <a:ext cx="2880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i="1" lang="cs-CZ" sz="1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3" name="Picture 55" descr="C:\Users\Kloby\Desktop\6uhelnik.PNG"/>
          <p:cNvPicPr/>
          <p:nvPr/>
        </p:nvPicPr>
        <p:blipFill>
          <a:blip r:embed="rId1"/>
          <a:stretch/>
        </p:blipFill>
        <p:spPr>
          <a:xfrm>
            <a:off x="4859280" y="4724280"/>
            <a:ext cx="172872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Středově sdružené útvary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620640" y="2133720"/>
            <a:ext cx="7902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o jsou takové </a:t>
            </a:r>
            <a:r>
              <a:rPr b="0" lang="cs-CZ" sz="2000" spc="-1" strike="noStrike">
                <a:solidFill>
                  <a:srgbClr val="00b050"/>
                </a:solidFill>
                <a:latin typeface="Arial"/>
                <a:ea typeface="Arial Unicode MS"/>
              </a:rPr>
              <a:t>dva útva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které se ve středové souměrnosti </a:t>
            </a:r>
            <a:r>
              <a:rPr b="0" lang="cs-CZ" sz="2000" spc="-1" strike="noStrike">
                <a:solidFill>
                  <a:srgbClr val="00b050"/>
                </a:solidFill>
                <a:latin typeface="Arial"/>
                <a:ea typeface="Arial Unicode MS"/>
              </a:rPr>
              <a:t>zobrazí jeden na druh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2627280" y="2924280"/>
            <a:ext cx="5056200" cy="2847960"/>
            <a:chOff x="2627280" y="2924280"/>
            <a:chExt cx="5056200" cy="2847960"/>
          </a:xfrm>
        </p:grpSpPr>
        <p:pic>
          <p:nvPicPr>
            <p:cNvPr id="329" name="Picture 6" descr=""/>
            <p:cNvPicPr/>
            <p:nvPr/>
          </p:nvPicPr>
          <p:blipFill>
            <a:blip r:embed="rId1"/>
            <a:stretch/>
          </p:blipFill>
          <p:spPr>
            <a:xfrm>
              <a:off x="2627280" y="2924280"/>
              <a:ext cx="505620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AutoShape 7"/>
            <p:cNvSpPr/>
            <p:nvPr/>
          </p:nvSpPr>
          <p:spPr>
            <a:xfrm>
              <a:off x="3772080" y="3168360"/>
              <a:ext cx="2387520" cy="213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3333cc"/>
                </a:solidFill>
                <a:latin typeface="Constantia"/>
              </a:rPr>
              <a:t>Příklad 1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20640" y="2133720"/>
            <a:ext cx="790272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e dán trojúhelník ABC. Najdi obraz tohoto trojúhelníku v libovolné středové souměrnosti se středem v bodě, který neleží na jeho obvodu. Rozhodni, zda středová souměrnost patří mezi přímé nebo nepřímé shod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) Střed souměrnosti leží mimo trojúhelník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) Střed souměrnosti leží uvnitř trojúhelníku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C:\Users\Kloby\Desktop\praxe\SPEDAPR\hodina02\stredova soumernost.PNG"/>
          <p:cNvPicPr/>
          <p:nvPr/>
        </p:nvPicPr>
        <p:blipFill>
          <a:blip r:embed="rId1"/>
          <a:stretch/>
        </p:blipFill>
        <p:spPr>
          <a:xfrm>
            <a:off x="2987640" y="4437000"/>
            <a:ext cx="4838760" cy="1285920"/>
          </a:xfrm>
          <a:prstGeom prst="rect">
            <a:avLst/>
          </a:prstGeom>
          <a:ln w="0">
            <a:noFill/>
          </a:ln>
        </p:spPr>
      </p:pic>
      <p:sp>
        <p:nvSpPr>
          <p:cNvPr id="336" name="Přímá spojovací čára 9"/>
          <p:cNvSpPr/>
          <p:nvPr/>
        </p:nvSpPr>
        <p:spPr>
          <a:xfrm>
            <a:off x="75564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aoblený obdélník 10"/>
          <p:cNvSpPr/>
          <p:nvPr/>
        </p:nvSpPr>
        <p:spPr>
          <a:xfrm>
            <a:off x="6443640" y="981000"/>
            <a:ext cx="2160720" cy="50328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  <a:ea typeface="Arial Unicode MS"/>
              </a:rPr>
              <a:t>GEO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Koblasa</dc:creator>
  <dc:description/>
  <dc:language>en-US</dc:language>
  <cp:lastModifiedBy>David Koblasa</cp:lastModifiedBy>
  <dcterms:modified xsi:type="dcterms:W3CDTF">2015-06-10T18:17:57Z</dcterms:modified>
  <cp:revision>30</cp:revision>
  <dc:subject/>
  <dc:title>Shodnost, podobnost a středová souměrnost</dc:title>
</cp:coreProperties>
</file>